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22E-2D7D-43E5-8432-0FD2D4F0F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AB1-E6AE-4CB4-AC70-60A2165D7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DA1-3BA3-4934-A758-83E94C0B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DEF-A864-4E9F-9908-D9FF06B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241-21D8-4881-9ADC-437F5DD0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30B-82E4-4717-9403-48FF22D7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4A77-5EDB-4339-8961-9E1F7289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9EC2-52CB-48FB-ADE2-859F1BDD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FFC-CD2D-41A3-B3E1-95DB666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9676-2DA0-46A6-8846-D9E5A95C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D9E-F70F-402D-80CC-B0C0DE7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D8A-AA9B-4066-8198-904A8727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81DD-AE87-4106-9E7A-5153BD7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194-1E65-4C5C-A763-198A55A1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1599-D1FB-4C45-87A0-D734A65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0D8-9014-4438-8573-A3485A8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892-5811-4B72-A755-6A99200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CF5E-76AA-49E6-B553-9C7BFB9A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CFE-B450-460C-8F5D-B05F3228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491CA-6DC9-4E6F-9035-31E1D081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0A5DC-7B5F-41F4-AED6-E884DBA3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D2FBC-068D-439E-9672-6AF3D742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E7733-E42D-4391-ADDD-8F23DC7F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8CB88-F0F7-493D-B30E-A7A6AAA3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236-EE9C-460F-8845-E9984D84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ED6BE-D255-47EA-AAA5-8536743D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7FF03-2C28-4889-9FD4-155FE5A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6F21C-BE13-4C74-AC1B-1BE15D0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428A7-DF3B-4538-9618-88C21B2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AEE3A-7C0F-4696-BF50-665404C6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15F12-DC9E-4895-9B2E-992CFD70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A0F10-F443-42AE-9356-A06F65DB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BE16-A137-42D5-8DE1-478180C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AB0E-6925-4AC4-A75A-EF26E559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08CA-F88C-40C5-BCDA-82CCD8B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EBA-AD01-4827-8891-7FDC1D5D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2DBC-79EC-41F5-A779-C468FE1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D654-79EC-461E-94DC-53E2386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9320-B874-4AD9-8E25-B519049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67DC-8332-4BD6-9A27-9898710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D0CA-5BCD-4402-9432-F5D9930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35AD-2003-4515-8901-F9D5823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4844-2DB1-4E51-90C2-B11354D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1E74-A87D-471E-BCD9-A0701838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B538-F2FD-4821-9A5B-0E15613E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9C80B-FFFB-4DD6-B0C3-55B679E4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092-BBC0-4660-9C39-3ED2108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0F6EB-1139-4D21-8301-C224A65E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9A4E0-6349-4C60-BAEA-870745A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5B52E-33F8-43FE-B318-6A05045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988CF-65F5-4483-A89A-444BCC8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E85E8-7C5F-45B6-A357-DCE451E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6F4A4-3353-414A-9848-AE8EEB4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337B7-3174-42A4-9A91-349A164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67B44-E0D1-4DD2-BB6C-19D81B65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47574-DD2C-4906-AF3B-5A0AF29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069E8-5249-45F9-8EE6-42AF9E24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016-4228-4CED-AB7C-FAC6C80B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847FB-DAD2-4512-AA1B-D3FD38AA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DBBAA-C1B3-4764-AC1F-A86A328B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697B4-669C-4A7B-B02E-A199B594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AB05B-0857-4BB5-A407-A488B5E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2AF96-0878-4460-A547-6D3CC4D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FE732-9C0B-496A-B376-551F13F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9E0B3-F0BC-49BE-A211-6287131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4E56B-9C07-4E10-8121-630B171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8D1CA-FF8E-46F8-8157-FDF6471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F4EA3-12CE-418D-A556-8D644EF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AE4-C5CD-4B7F-B298-FF3E1CC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098F2-8551-45C2-BC96-B5BC9EF3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F96D3-3362-4B2C-BD02-C6BE7FCF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4777B-70AB-44BB-A8DE-035E89B2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A9C79-A81D-4BD8-8A3E-0E556A60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252DF-44F3-4242-8E86-437BC06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675C0-B520-44D7-BBDC-1BEADFD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2FC4B-D09F-43FA-A6EB-A975213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7DFC8-AAAF-47E3-A564-B6F3E71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6653B-EDF5-4FA1-A64F-9FC0BE7F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9BD22-21DE-4534-A5A7-F0D07FB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0BA-D184-474D-A73D-26C5E34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EB778-0309-403D-8CDF-68F488E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F48B3-3878-40A0-87D1-8D69D01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67CA0-7EB3-4F51-8EE7-24775C6B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C401C-2477-4814-B5F0-22F25971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D5B1B-31F2-4175-80B5-0F0C7BA3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932-8A1A-48BD-BB56-D6E32A3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63E-C9F1-4526-B06A-832C914285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77B9-5F7E-4685-A221-3AA607B5B1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601-2D02-4F84-A756-04845722AE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6C6-B3FE-4712-A166-CD26EA36EA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5F3-8942-4149-BD97-EB2B3F7773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88B-148B-49C8-95D8-FA2C52FECB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B9CA-3AFA-4888-AD3D-0309E7B79D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748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УЧИТЕЛЬ: НЕХОРОШЕВА Н.В.</a:t>
            </a:r>
            <a:br>
              <a:rPr sz="2000"/>
            </a:br>
            <a:r>
              <a:rPr b="1" lang="ru-RU" sz="20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ТЕМА УРОКА: </a:t>
            </a:r>
            <a:br>
              <a:rPr sz="2000"/>
            </a:br>
            <a:r>
              <a:rPr b="1" lang="ru-RU" sz="20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«ПУТЕШЕСТВИЕ В  СТРАНУ «FUNNY GAMES» 2 «Б» КЛАСС</a:t>
            </a:r>
            <a:br>
              <a:rPr sz="2000"/>
            </a:br>
            <a:r>
              <a:rPr b="1" lang="ru-RU" sz="20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17 МАЯ 2013 ГОДА</a:t>
            </a:r>
            <a:br>
              <a:rPr sz="29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560" y="3547440"/>
            <a:ext cx="1829880" cy="399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8" descr="H:\DCIM\101CANON\IMG_3230.JPG"/>
          <p:cNvPicPr/>
          <p:nvPr/>
        </p:nvPicPr>
        <p:blipFill>
          <a:blip r:embed="rId1"/>
          <a:srcRect l="10923" t="0" r="0" b="7427"/>
          <a:stretch/>
        </p:blipFill>
        <p:spPr>
          <a:xfrm>
            <a:off x="179280" y="1581120"/>
            <a:ext cx="2495520" cy="1944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9" descr="H:\DCIM\101CANON\IMG_3232.JPG"/>
          <p:cNvPicPr/>
          <p:nvPr/>
        </p:nvPicPr>
        <p:blipFill>
          <a:blip r:embed="rId2"/>
          <a:srcRect l="9308" t="5909" r="13279" b="11107"/>
          <a:stretch/>
        </p:blipFill>
        <p:spPr>
          <a:xfrm>
            <a:off x="5626080" y="1959120"/>
            <a:ext cx="3403800" cy="2736720"/>
          </a:xfrm>
          <a:prstGeom prst="rect">
            <a:avLst/>
          </a:prstGeom>
          <a:ln w="0">
            <a:noFill/>
          </a:ln>
        </p:spPr>
      </p:pic>
      <p:sp>
        <p:nvSpPr>
          <p:cNvPr id="362" name="Текст 2"/>
          <p:cNvSpPr/>
          <p:nvPr/>
        </p:nvSpPr>
        <p:spPr>
          <a:xfrm>
            <a:off x="6156360" y="126828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ичное закрепление с проговариванием во внешн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0" descr="H:\DCIM\101CANON\IMG_3235.JPG"/>
          <p:cNvPicPr/>
          <p:nvPr/>
        </p:nvPicPr>
        <p:blipFill>
          <a:blip r:embed="rId3"/>
          <a:srcRect l="0" t="9288" r="13495" b="0"/>
          <a:stretch/>
        </p:blipFill>
        <p:spPr>
          <a:xfrm>
            <a:off x="2124000" y="3645000"/>
            <a:ext cx="2448000" cy="192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1" descr="H:\DCIM\101CANON\IMG_3241.JPG"/>
          <p:cNvPicPr/>
          <p:nvPr/>
        </p:nvPicPr>
        <p:blipFill>
          <a:blip r:embed="rId4"/>
          <a:stretch/>
        </p:blipFill>
        <p:spPr>
          <a:xfrm>
            <a:off x="88920" y="4834080"/>
            <a:ext cx="2676600" cy="2006280"/>
          </a:xfrm>
          <a:prstGeom prst="rect">
            <a:avLst/>
          </a:prstGeom>
          <a:ln w="0">
            <a:noFill/>
          </a:ln>
        </p:spPr>
      </p:pic>
      <p:sp>
        <p:nvSpPr>
          <p:cNvPr id="365" name="Текст 2"/>
          <p:cNvSpPr/>
          <p:nvPr/>
        </p:nvSpPr>
        <p:spPr>
          <a:xfrm>
            <a:off x="1692360" y="4987800"/>
            <a:ext cx="2520720" cy="289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2" descr="H:\DCIM\101CANON\IMG_3245.JPG"/>
          <p:cNvPicPr/>
          <p:nvPr/>
        </p:nvPicPr>
        <p:blipFill>
          <a:blip r:embed="rId5"/>
          <a:srcRect l="11612" t="18495" r="17322" b="21231"/>
          <a:stretch/>
        </p:blipFill>
        <p:spPr>
          <a:xfrm>
            <a:off x="6091200" y="4913280"/>
            <a:ext cx="2938680" cy="1868400"/>
          </a:xfrm>
          <a:prstGeom prst="rect">
            <a:avLst/>
          </a:prstGeom>
          <a:ln w="0">
            <a:noFill/>
          </a:ln>
        </p:spPr>
      </p:pic>
      <p:sp>
        <p:nvSpPr>
          <p:cNvPr id="367" name="Текст 2"/>
          <p:cNvSpPr/>
          <p:nvPr/>
        </p:nvSpPr>
        <p:spPr>
          <a:xfrm>
            <a:off x="5154480" y="4695840"/>
            <a:ext cx="1871640" cy="442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3" descr="H:\DCIM\101CANON\IMG_3246.JPG"/>
          <p:cNvPicPr/>
          <p:nvPr/>
        </p:nvPicPr>
        <p:blipFill>
          <a:blip r:embed="rId6"/>
          <a:srcRect l="0" t="30651" r="15978" b="12732"/>
          <a:stretch/>
        </p:blipFill>
        <p:spPr>
          <a:xfrm>
            <a:off x="4356000" y="5545080"/>
            <a:ext cx="2563920" cy="1295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H:\DCIM\101CANON\IMG_3238.JPG"/>
          <p:cNvPicPr/>
          <p:nvPr/>
        </p:nvPicPr>
        <p:blipFill>
          <a:blip r:embed="rId7"/>
          <a:stretch/>
        </p:blipFill>
        <p:spPr>
          <a:xfrm>
            <a:off x="4732200" y="299736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5" descr="H:\DCIM\101CANON\IMG_3233.JPG"/>
          <p:cNvPicPr/>
          <p:nvPr/>
        </p:nvPicPr>
        <p:blipFill>
          <a:blip r:embed="rId8"/>
          <a:srcRect l="7129" t="15938" r="15287" b="12336"/>
          <a:stretch/>
        </p:blipFill>
        <p:spPr>
          <a:xfrm>
            <a:off x="3348000" y="1581120"/>
            <a:ext cx="25527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1:40:30Z</dcterms:created>
  <dc:creator>Татьяна</dc:creator>
  <dc:description/>
  <dc:language>en-US</dc:language>
  <cp:lastModifiedBy>Natalia</cp:lastModifiedBy>
  <dcterms:modified xsi:type="dcterms:W3CDTF">2013-10-23T16:53:42Z</dcterms:modified>
  <cp:revision>14</cp:revision>
  <dc:subject/>
  <dc:title>Слайд 1</dc:title>
</cp:coreProperties>
</file>