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614-C84F-4872-A91B-C39376EB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105-8D23-4513-A782-4550B2D8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C85-900B-4B1E-9CDC-E292E18E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E96-67D5-418C-B1C3-AD7A1B2E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D0A0-17D1-4158-AEDE-4C4533F8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9E45-B2B9-4219-AFCD-A46761F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EA7D-8D4B-4EA9-B753-2EB1F41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BD66-A61F-45D2-83DE-37CEBCA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2C7E-B4C5-4A5E-8CA7-B0C897CF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F0D5-8A10-4B5D-AD86-2195DADE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D17B-E0B9-4099-B6D1-0BB0A30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A70-8C4C-4D05-B1EB-999223C6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8E8A-5433-4103-8FC8-895D07C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E98-A48C-48D9-A097-F2971998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1E74-FB38-49AB-A663-15652765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89E9-C738-42B3-9DE0-9FBF7C48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2159-AC9D-4B84-975A-D75F7CCA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633-C04E-451C-8E43-65FCFB9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A68-E0AB-4114-86B4-EC349B9E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96A-3C1C-4BED-A5C0-D45F6A0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82F-84D2-463D-A322-12F18438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574-A92E-475A-B989-71497D8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629-F38C-453F-A179-DF39184A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ED0-CEE3-4649-9F21-B0EE2B6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6B08-E8F0-4D64-A121-11748F692C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EA2E-EF3F-4BD9-9720-B48FCCD2065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91;&#1090;&#1079;&#1072;&#1083;_(AMF)" TargetMode="External"/><Relationship Id="rId2" Type="http://schemas.openxmlformats.org/officeDocument/2006/relationships/hyperlink" Target="http://ru.wikipedia.org/wiki/&#1052;&#1080;&#1085;&#1080;-&#1092;&#1091;&#1090;&#1073;&#1086;&#1083;" TargetMode="External"/><Relationship Id="rId3" Type="http://schemas.openxmlformats.org/officeDocument/2006/relationships/hyperlink" Target="http://ru.wikipedia.org/w/index.php?title=&#1044;&#1074;&#1086;&#1088;&#1086;&#1074;&#1099;&#1081;_&#1092;&#1091;&#1090;&#1073;&#1086;&#1083;&amp;action=edit&amp;redlink=1" TargetMode="External"/><Relationship Id="rId4" Type="http://schemas.openxmlformats.org/officeDocument/2006/relationships/hyperlink" Target="http://ru.wikipedia.org/wiki/&#1055;&#1083;&#1103;&#1078;&#1085;&#1099;&#1081;_&#1092;&#1091;&#1090;&#1073;&#1086;&#1083;" TargetMode="External"/><Relationship Id="rId5" Type="http://schemas.openxmlformats.org/officeDocument/2006/relationships/hyperlink" Target="http://ru.wikipedia.org/wiki/&#1041;&#1105;&#1088;&#1090;&#1086;&#1085;-&#1072;&#1087;&#1086;&#1085;-&#1058;&#1088;&#1077;&#1085;&#1090;" TargetMode="External"/><Relationship Id="rId6" Type="http://schemas.openxmlformats.org/officeDocument/2006/relationships/hyperlink" Target="http://ru.wikipedia.org/wiki/&#1041;&#1086;&#1083;&#1086;&#1090;&#1085;&#1099;&#1081;_&#1092;&#1091;&#1090;&#1073;&#1086;&#1083;" TargetMode="External"/><Relationship Id="rId7" Type="http://schemas.openxmlformats.org/officeDocument/2006/relationships/hyperlink" Target="http://ru.wikipedia.org/wiki/&#1060;&#1091;&#1090;&#1073;&#1086;&#1083;&#1100;&#1085;&#1099;&#1081;_&#1092;&#1088;&#1080;&#1089;&#1090;&#1072;&#1081;&#1083;" TargetMode="External"/><Relationship Id="rId8" Type="http://schemas.openxmlformats.org/officeDocument/2006/relationships/hyperlink" Target="http://ru.wikipedia.org/wiki/&#1060;&#1091;&#1090;&#1076;&#1072;&#1073;&#1083;&#1073;&#1086;&#1083;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7;&#1087;&#1086;&#1088;&#1090;" TargetMode="External"/><Relationship Id="rId3" Type="http://schemas.openxmlformats.org/officeDocument/2006/relationships/hyperlink" Target="http://ru.wikipedia.org/wiki/&#1060;&#1091;&#1090;&#1073;&#1086;&#1083;:&#1055;&#1088;&#1072;&#1074;&#1080;&#1083;&#1086;_2:&#1052;&#1103;&#1095;" TargetMode="External"/><Relationship Id="rId4" Type="http://schemas.openxmlformats.org/officeDocument/2006/relationships/hyperlink" Target="http://ru.wikipedia.org/wiki/&#1042;&#1086;&#1088;&#1086;&#1090;&#1072;_(&#1089;&#1087;&#1086;&#1088;&#1090;)" TargetMode="External"/><Relationship Id="rId5" Type="http://schemas.openxmlformats.org/officeDocument/2006/relationships/hyperlink" Target="http://ru.wikipedia.org/wiki/&#1042;&#1080;&#1076;_&#1089;&#1087;&#1086;&#1088;&#1090;&#1072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6;&#1077;&#1075;&#1073;&#1080;" TargetMode="External"/><Relationship Id="rId3" Type="http://schemas.openxmlformats.org/officeDocument/2006/relationships/hyperlink" Target="http://ru.wikipedia.org/wiki/&#1040;&#1085;&#1075;&#1083;&#1080;&#1081;&#1089;&#1082;&#1080;&#1081;_&#1103;&#1079;&#1099;&#1082;" TargetMode="External"/><Relationship Id="rId4" Type="http://schemas.openxmlformats.org/officeDocument/2006/relationships/hyperlink" Target="http://ru.wikipedia.org/wiki/1880-&#1077;" TargetMode="External"/><Relationship Id="rId5" Type="http://schemas.openxmlformats.org/officeDocument/2006/relationships/hyperlink" Target="http://ru.wikipedia.org/wiki/&#1040;&#1085;&#1075;&#1083;&#1080;&#1081;&#1089;&#1082;&#1080;&#1081;_&#1103;&#1079;&#1099;&#1082;" TargetMode="External"/><Relationship Id="rId6" Type="http://schemas.openxmlformats.org/officeDocument/2006/relationships/hyperlink" Target="http://ru.wikipedia.org/wiki/&#1040;&#1085;&#1075;&#1083;&#1080;&#1103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2;&#1074;&#1080;&#1083;&#1086;" TargetMode="External"/><Relationship Id="rId2" Type="http://schemas.openxmlformats.org/officeDocument/2006/relationships/hyperlink" Target="http://ru.wikipedia.org/wiki/1848_&#1075;&#1086;&#1076;" TargetMode="External"/><Relationship Id="rId3" Type="http://schemas.openxmlformats.org/officeDocument/2006/relationships/hyperlink" Target="http://ru.wikipedia.org/wiki/1863_&#1075;&#1086;&#1076;" TargetMode="External"/><Relationship Id="rId4" Type="http://schemas.openxmlformats.org/officeDocument/2006/relationships/hyperlink" Target="http://ru.wikipedia.org/wiki/&#1060;&#1091;&#1090;&#1073;&#1086;&#1083;&#1100;&#1085;&#1072;&#1103;_&#1040;&#1089;&#1089;&#1086;&#1094;&#1080;&#1072;&#1094;&#1080;&#1103;_&#1040;&#1085;&#1075;&#1083;&#1080;&#1080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81;&#1084;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91;&#1090;&#1073;&#1086;&#1083;&#1100;&#1085;&#1086;&#1077;_&#1087;&#1086;&#1083;&#1077;" TargetMode="External"/><Relationship Id="rId2" Type="http://schemas.openxmlformats.org/officeDocument/2006/relationships/hyperlink" Target="http://ru.wikipedia.org/wiki/&#1042;&#1088;&#1072;&#1090;&#1072;&#1088;&#1100;_(&#1092;&#1091;&#1090;&#1073;&#1086;&#1083;)" TargetMode="External"/><Relationship Id="rId3" Type="http://schemas.openxmlformats.org/officeDocument/2006/relationships/hyperlink" Target="http://ru.wikipedia.org/wiki/&#1060;&#1091;&#1090;&#1073;&#1086;&#1083;&#1100;&#1085;&#1086;&#1077;_&#1087;&#1086;&#1083;&#1077;#.D1.88.D1.82.D1.80.D0.B0.D1.84.D0.BD.D0.B0.D1.8F_.D0.BF.D0.BB.D0.BE.D1.89.D0.B0.D0.B4.D1.8C" TargetMode="External"/><Relationship Id="rId4" Type="http://schemas.openxmlformats.org/officeDocument/2006/relationships/hyperlink" Target="http://ru.wikipedia.org/wiki/&#1042;&#1086;&#1088;&#1086;&#1090;&#1072;_(&#1089;&#1087;&#1086;&#1088;&#1090;)" TargetMode="External"/><Relationship Id="rId5" Type="http://schemas.openxmlformats.org/officeDocument/2006/relationships/hyperlink" Target="http://ru.wikipedia.org/wiki/&#1047;&#1072;&#1097;&#1080;&#1090;&#1085;&#1080;&#1082;_(&#1092;&#1091;&#1090;&#1073;&#1086;&#1083;)" TargetMode="External"/><Relationship Id="rId6" Type="http://schemas.openxmlformats.org/officeDocument/2006/relationships/hyperlink" Target="http://ru.wikipedia.org/wiki/&#1055;&#1086;&#1083;&#1091;&#1079;&#1072;&#1097;&#1080;&#1090;&#1085;&#1080;&#1082;_(&#1092;&#1091;&#1090;&#1073;&#1086;&#1083;)" TargetMode="External"/><Relationship Id="rId7" Type="http://schemas.openxmlformats.org/officeDocument/2006/relationships/hyperlink" Target="http://ru.wikipedia.org/wiki/&#1053;&#1072;&#1087;&#1072;&#1076;&#1072;&#1102;&#1097;&#1080;&#1081;_(&#1092;&#1091;&#1090;&#1073;&#1086;&#1083;)" TargetMode="External"/><Relationship Id="rId8" Type="http://schemas.openxmlformats.org/officeDocument/2006/relationships/hyperlink" Target="http://ru.wikipedia.org/wiki/&#1043;&#1086;&#1083;_(&#1092;&#1091;&#1090;&#1073;&#1086;&#1083;)" TargetMode="Externa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6;&#1083;&#1086;&#1090;&#1086;&#1081;_&#1075;&#1086;&#1083;" TargetMode="External"/><Relationship Id="rId2" Type="http://schemas.openxmlformats.org/officeDocument/2006/relationships/hyperlink" Target="http://ru.wikipedia.org/wiki/&#1057;&#1077;&#1088;&#1077;&#1073;&#1088;&#1103;&#1085;&#1099;&#1081;_&#1075;&#1086;&#1083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9;&#1083;&#1077;&#1084;&#1072;&#1090;&#1095;&#1077;&#1074;&#1099;&#1077;_&#1087;&#1077;&#1085;&#1072;&#1083;&#1100;&#1090;&#1080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«История футбола»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580000" y="4365720"/>
            <a:ext cx="324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995640" y="64911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оревнования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евнования по футболу, как и в любом другом виде спорта 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 Футбольные турниры собирают десятки тысяч зрителей на трибунах стадиона и многомиллионные аудитория по телевид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зновидности футбола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ствует множество разновидностей футбола, в основном с меньшим количеством игроков, в том числе: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футзал (AMF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футзал (FIFA) - мини-фут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играются в зале на специальном покрытии),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дворовый фут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играется на любом покрытии на полях любого размера любым количеством людей),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пляжный фут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играется на песке), «речной футбол» (по колено в воде, ежегодный турнир в английском г.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Бёрт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болотный фут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 (играется на болоте),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футбольный фристай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заключается в исполнении всевозможных финтов и трюков),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футдабл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играется двумя мячами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 настольный и виртуальный футбо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кольку популярность футбола очень высока, существует много игр, имитирующих футб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тбо́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от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foo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нога,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a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мяч) — командный вид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спо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м целью является забить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мя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воро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оперника ногами или другими частями тела (кроме рук) большее количество раз, чем команда соперника. В настоящее время самый популярный и массовый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вид спо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м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5"/>
          <p:cNvPicPr/>
          <p:nvPr/>
        </p:nvPicPr>
        <p:blipFill>
          <a:blip r:embed="rId6"/>
          <a:stretch/>
        </p:blipFill>
        <p:spPr>
          <a:xfrm>
            <a:off x="4211640" y="3500280"/>
            <a:ext cx="4465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Названия игры</a:t>
            </a:r>
            <a:br>
              <a:rPr sz="6000"/>
            </a:b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е английское название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ssociation footba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было придумано, чтобы отличать эту игру от других разновидностей «ножного мяча», особенно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егб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rugby footba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В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1880-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годах появилось сокращённое название «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кк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socce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которое в наши дни получило широкое распространение в ряде англоязычных стран (исключая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Англ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 болельщики считают его пренебрежительны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История футбола</a:t>
            </a:r>
            <a:br>
              <a:rPr sz="40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ы, похожие на современный футбол, существовали довольно давно у разных народов, однако первые записанные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правил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датированы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1848 год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Датой рождения футбола считается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1863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гда была организована первая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Ассоциация футбол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 составлены правила, похожие на современные. История футбола началась очень давно. Так, например, и в Египте, и в Германии, и в Китае были игры, похожие на футбол. Самая удачная из них называлась гарпастум и придумали её итальянцы. Но когда появился современный футбол, гарпастум был забыт. Когда англичане придумали футбол, они сразу стали популяризировать его во всех странах, включая Россию. В то время в чемпионате участвовало много английских команд. О футболе в России впервые было сказано в книге одного из докторов «игры с мячом на воздух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Правила игры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дельная футбольная игра называется матч, который в свою очередь состоит из двух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тайм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утбол играют на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пол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с травяным или синтетическим покрытием. В игре участвуют две команды: в каждой от 7 до 11 человек. Один человек в команде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вратар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может играть руками в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штрафной площад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у своих ворот, его основной задачей является защита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воро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стальные игроки также имеют свои задачи и позиции на поле.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Защит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располагаются в основном на своей половине поля, их задача — противодействовать нападающим игрокам противоположной команды.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олузащит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действуют в середине поля, их роль — помогать защитникам или нападающим в зависимости от игровой ситуации.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Нападающ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располагаются, преимущественно на половине поля соперника, основная задача — забивать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гол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1301"/>
          <p:cNvPicPr/>
          <p:nvPr/>
        </p:nvPicPr>
        <p:blipFill>
          <a:blip r:embed="rId9"/>
          <a:stretch/>
        </p:blipFill>
        <p:spPr>
          <a:xfrm>
            <a:off x="5867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гры 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250px-Lionel_Messi_Player_of_the_Year_2011"/>
          <p:cNvPicPr/>
          <p:nvPr/>
        </p:nvPicPr>
        <p:blipFill>
          <a:blip r:embed="rId1"/>
          <a:stretch/>
        </p:blipFill>
        <p:spPr>
          <a:xfrm>
            <a:off x="6516720" y="3716280"/>
            <a:ext cx="242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лучае, если в течение двух таймов команды забили одинаковое количество голов, то или фиксируется ничья, или победитель выявляется согласно установленному регламенту матча. В этом случае может быть назначено дополнительное время —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 Одно время в футболе существовало правило, по которому победителем объявлялась команда, первой забившая гол (правило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«золотого гол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ли выигрывавшая по окончании любого из дополнительных таймов (правило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«серебряного гол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послематчевых пеналь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являющихся частью матча : по воротам противника с расстояния 11 метров пробивается по пять ударов разными игроками. Если количество забитых пенальти у обеих команд будет равным, тогда пробиваются по одной паре пенальти, пока не будет выявлен победите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143083651"/>
          <p:cNvPicPr/>
          <p:nvPr/>
        </p:nvPicPr>
        <p:blipFill>
          <a:blip r:embed="rId2"/>
          <a:stretch/>
        </p:blipFill>
        <p:spPr>
          <a:xfrm>
            <a:off x="5327640" y="4264200"/>
            <a:ext cx="3816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1:28:57Z</dcterms:created>
  <dc:creator>Касимова Олеся</dc:creator>
  <dc:description/>
  <dc:language>en-US</dc:language>
  <cp:lastModifiedBy>Владелец</cp:lastModifiedBy>
  <dcterms:modified xsi:type="dcterms:W3CDTF">2014-11-07T04:51:31Z</dcterms:modified>
  <cp:revision>5</cp:revision>
  <dc:subject/>
  <dc:title>«История футбола»</dc:title>
</cp:coreProperties>
</file>