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C4F3-8C89-4110-9414-E238060AE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BA42-A190-476F-835B-7DED465C3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3C14-7C18-45EA-B959-BD3F53BE4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A197-9A3B-4224-A129-8AECD7AF1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D7D7C-8EC7-4D5A-8BC1-E83BE008F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1AF6E-AE6C-4C6B-B146-B4796A531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F7049-55FD-4D48-B5E5-B215EBF4D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85C87-A6A3-4EB1-8948-47C325FEB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A0E3D-57BA-4342-97CB-A5123F2C1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E1D0B-8D1B-4504-B492-0A7B60EA1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DD781-F3A6-4CE2-8C27-FBC69BB98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F98B-244E-45D7-B008-B294DE126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2BD96-449E-4ACF-9A1F-2B5D84E7B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22DB5-AB7A-469B-B44B-7E21BBE2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DB358-0798-4C6B-A898-6A990CFDD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9BB79-9E36-4786-A1E2-FF1A82C01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EF762-5CA4-40F9-9378-21A53B483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5444-F009-4990-908B-2035B7B0D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B02F-AE01-41EC-9171-6B7857F2F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4A0E-C57C-4688-B6FD-E3037020F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DBA3-F041-4510-9B79-745485875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ADB3-B1F5-43B7-8E07-6506F0DD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AB11-E091-4AF0-8404-A27C285E3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446C-9CB8-428D-BDDD-B8FB05C6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8E062-A8FC-4292-B9C9-DF74C41DEB3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1DF58-3493-47C9-9BA7-014492E3AB1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91;&#1090;&#1079;&#1072;&#1083;_(AMF)" TargetMode="External"/><Relationship Id="rId2" Type="http://schemas.openxmlformats.org/officeDocument/2006/relationships/hyperlink" Target="http://ru.wikipedia.org/wiki/&#1052;&#1080;&#1085;&#1080;-&#1092;&#1091;&#1090;&#1073;&#1086;&#1083;" TargetMode="External"/><Relationship Id="rId3" Type="http://schemas.openxmlformats.org/officeDocument/2006/relationships/hyperlink" Target="http://ru.wikipedia.org/w/index.php?title=&#1044;&#1074;&#1086;&#1088;&#1086;&#1074;&#1099;&#1081;_&#1092;&#1091;&#1090;&#1073;&#1086;&#1083;&amp;action=edit&amp;redlink=1" TargetMode="External"/><Relationship Id="rId4" Type="http://schemas.openxmlformats.org/officeDocument/2006/relationships/hyperlink" Target="http://ru.wikipedia.org/wiki/&#1055;&#1083;&#1103;&#1078;&#1085;&#1099;&#1081;_&#1092;&#1091;&#1090;&#1073;&#1086;&#1083;" TargetMode="External"/><Relationship Id="rId5" Type="http://schemas.openxmlformats.org/officeDocument/2006/relationships/hyperlink" Target="http://ru.wikipedia.org/wiki/&#1041;&#1105;&#1088;&#1090;&#1086;&#1085;-&#1072;&#1087;&#1086;&#1085;-&#1058;&#1088;&#1077;&#1085;&#1090;" TargetMode="External"/><Relationship Id="rId6" Type="http://schemas.openxmlformats.org/officeDocument/2006/relationships/hyperlink" Target="http://ru.wikipedia.org/wiki/&#1041;&#1086;&#1083;&#1086;&#1090;&#1085;&#1099;&#1081;_&#1092;&#1091;&#1090;&#1073;&#1086;&#1083;" TargetMode="External"/><Relationship Id="rId7" Type="http://schemas.openxmlformats.org/officeDocument/2006/relationships/hyperlink" Target="http://ru.wikipedia.org/wiki/&#1060;&#1091;&#1090;&#1073;&#1086;&#1083;&#1100;&#1085;&#1099;&#1081;_&#1092;&#1088;&#1080;&#1089;&#1090;&#1072;&#1081;&#1083;" TargetMode="External"/><Relationship Id="rId8" Type="http://schemas.openxmlformats.org/officeDocument/2006/relationships/hyperlink" Target="http://ru.wikipedia.org/wiki/&#1060;&#1091;&#1090;&#1076;&#1072;&#1073;&#1083;&#1073;&#1086;&#1083;" TargetMode="External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85;&#1075;&#1083;&#1080;&#1081;&#1089;&#1082;&#1080;&#1081;_&#1103;&#1079;&#1099;&#1082;" TargetMode="External"/><Relationship Id="rId2" Type="http://schemas.openxmlformats.org/officeDocument/2006/relationships/hyperlink" Target="http://ru.wikipedia.org/wiki/&#1057;&#1087;&#1086;&#1088;&#1090;" TargetMode="External"/><Relationship Id="rId3" Type="http://schemas.openxmlformats.org/officeDocument/2006/relationships/hyperlink" Target="http://ru.wikipedia.org/wiki/&#1060;&#1091;&#1090;&#1073;&#1086;&#1083;:&#1055;&#1088;&#1072;&#1074;&#1080;&#1083;&#1086;_2:&#1052;&#1103;&#1095;" TargetMode="External"/><Relationship Id="rId4" Type="http://schemas.openxmlformats.org/officeDocument/2006/relationships/hyperlink" Target="http://ru.wikipedia.org/wiki/&#1042;&#1086;&#1088;&#1086;&#1090;&#1072;_(&#1089;&#1087;&#1086;&#1088;&#1090;)" TargetMode="External"/><Relationship Id="rId5" Type="http://schemas.openxmlformats.org/officeDocument/2006/relationships/hyperlink" Target="http://ru.wikipedia.org/wiki/&#1042;&#1080;&#1076;_&#1089;&#1087;&#1086;&#1088;&#1090;&#1072;" TargetMode="External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85;&#1075;&#1083;&#1080;&#1081;&#1089;&#1082;&#1080;&#1081;_&#1103;&#1079;&#1099;&#1082;" TargetMode="External"/><Relationship Id="rId2" Type="http://schemas.openxmlformats.org/officeDocument/2006/relationships/hyperlink" Target="http://ru.wikipedia.org/wiki/&#1056;&#1077;&#1075;&#1073;&#1080;" TargetMode="External"/><Relationship Id="rId3" Type="http://schemas.openxmlformats.org/officeDocument/2006/relationships/hyperlink" Target="http://ru.wikipedia.org/wiki/&#1040;&#1085;&#1075;&#1083;&#1080;&#1081;&#1089;&#1082;&#1080;&#1081;_&#1103;&#1079;&#1099;&#1082;" TargetMode="External"/><Relationship Id="rId4" Type="http://schemas.openxmlformats.org/officeDocument/2006/relationships/hyperlink" Target="http://ru.wikipedia.org/wiki/1880-&#1077;" TargetMode="External"/><Relationship Id="rId5" Type="http://schemas.openxmlformats.org/officeDocument/2006/relationships/hyperlink" Target="http://ru.wikipedia.org/wiki/&#1040;&#1085;&#1075;&#1083;&#1080;&#1081;&#1089;&#1082;&#1080;&#1081;_&#1103;&#1079;&#1099;&#1082;" TargetMode="External"/><Relationship Id="rId6" Type="http://schemas.openxmlformats.org/officeDocument/2006/relationships/hyperlink" Target="http://ru.wikipedia.org/wiki/&#1040;&#1085;&#1075;&#1083;&#1080;&#1103;" TargetMode="Externa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5;&#1088;&#1072;&#1074;&#1080;&#1083;&#1086;" TargetMode="External"/><Relationship Id="rId2" Type="http://schemas.openxmlformats.org/officeDocument/2006/relationships/hyperlink" Target="http://ru.wikipedia.org/wiki/1848_&#1075;&#1086;&#1076;" TargetMode="External"/><Relationship Id="rId3" Type="http://schemas.openxmlformats.org/officeDocument/2006/relationships/hyperlink" Target="http://ru.wikipedia.org/wiki/1863_&#1075;&#1086;&#1076;" TargetMode="External"/><Relationship Id="rId4" Type="http://schemas.openxmlformats.org/officeDocument/2006/relationships/hyperlink" Target="http://ru.wikipedia.org/wiki/&#1060;&#1091;&#1090;&#1073;&#1086;&#1083;&#1100;&#1085;&#1072;&#1103;_&#1040;&#1089;&#1089;&#1086;&#1094;&#1080;&#1072;&#1094;&#1080;&#1103;_&#1040;&#1085;&#1075;&#1083;&#1080;&#1080;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8;&#1072;&#1081;&#1084;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91;&#1090;&#1073;&#1086;&#1083;&#1100;&#1085;&#1086;&#1077;_&#1087;&#1086;&#1083;&#1077;" TargetMode="External"/><Relationship Id="rId2" Type="http://schemas.openxmlformats.org/officeDocument/2006/relationships/hyperlink" Target="http://ru.wikipedia.org/wiki/&#1042;&#1088;&#1072;&#1090;&#1072;&#1088;&#1100;_(&#1092;&#1091;&#1090;&#1073;&#1086;&#1083;)" TargetMode="External"/><Relationship Id="rId3" Type="http://schemas.openxmlformats.org/officeDocument/2006/relationships/hyperlink" Target="http://ru.wikipedia.org/wiki/&#1060;&#1091;&#1090;&#1073;&#1086;&#1083;&#1100;&#1085;&#1086;&#1077;_&#1087;&#1086;&#1083;&#1077;#.D1.88.D1.82.D1.80.D0.B0.D1.84.D0.BD.D0.B0.D1.8F_.D0.BF.D0.BB.D0.BE.D1.89.D0.B0.D0.B4.D1.8C" TargetMode="External"/><Relationship Id="rId4" Type="http://schemas.openxmlformats.org/officeDocument/2006/relationships/hyperlink" Target="http://ru.wikipedia.org/wiki/&#1042;&#1086;&#1088;&#1086;&#1090;&#1072;_(&#1089;&#1087;&#1086;&#1088;&#1090;)" TargetMode="External"/><Relationship Id="rId5" Type="http://schemas.openxmlformats.org/officeDocument/2006/relationships/hyperlink" Target="http://ru.wikipedia.org/wiki/&#1047;&#1072;&#1097;&#1080;&#1090;&#1085;&#1080;&#1082;_(&#1092;&#1091;&#1090;&#1073;&#1086;&#1083;)" TargetMode="External"/><Relationship Id="rId6" Type="http://schemas.openxmlformats.org/officeDocument/2006/relationships/hyperlink" Target="http://ru.wikipedia.org/wiki/&#1055;&#1086;&#1083;&#1091;&#1079;&#1072;&#1097;&#1080;&#1090;&#1085;&#1080;&#1082;_(&#1092;&#1091;&#1090;&#1073;&#1086;&#1083;)" TargetMode="External"/><Relationship Id="rId7" Type="http://schemas.openxmlformats.org/officeDocument/2006/relationships/hyperlink" Target="http://ru.wikipedia.org/wiki/&#1053;&#1072;&#1087;&#1072;&#1076;&#1072;&#1102;&#1097;&#1080;&#1081;_(&#1092;&#1091;&#1090;&#1073;&#1086;&#1083;)" TargetMode="External"/><Relationship Id="rId8" Type="http://schemas.openxmlformats.org/officeDocument/2006/relationships/hyperlink" Target="http://ru.wikipedia.org/wiki/&#1043;&#1086;&#1083;_(&#1092;&#1091;&#1090;&#1073;&#1086;&#1083;)" TargetMode="External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7;&#1086;&#1083;&#1086;&#1090;&#1086;&#1081;_&#1075;&#1086;&#1083;" TargetMode="External"/><Relationship Id="rId2" Type="http://schemas.openxmlformats.org/officeDocument/2006/relationships/hyperlink" Target="http://ru.wikipedia.org/wiki/&#1057;&#1077;&#1088;&#1077;&#1073;&#1088;&#1103;&#1085;&#1099;&#1081;_&#1075;&#1086;&#1083;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5;&#1086;&#1089;&#1083;&#1077;&#1084;&#1072;&#1090;&#1095;&#1077;&#1074;&#1099;&#1077;_&#1087;&#1077;&#1085;&#1072;&#1083;&#1100;&#1090;&#1080;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252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b2b2b2"/>
                </a:solidFill>
                <a:latin typeface="Arial"/>
              </a:rPr>
              <a:t>«История футбола»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5580000" y="4365720"/>
            <a:ext cx="32400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3995640" y="649116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Соревнования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ревнования по футболу, как и в любом другом виде спорта — важная составляющая игры. Соревнование организуется федерацией, для каждого турнира составляется регламент, в котором обычно определяют состав участников, схему турнира, правила определения победителя при равенстве очков и какие-то отклонения от правил, например количество замен. Соревнования делятся на внутренние и международные, которые в свою очередь разделяются на клубные и национальных сборных. Футбольные турниры собирают десятки тысяч зрителей на трибунах стадиона и многомиллионные аудитория по телевиден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Разновидности футбола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уществует множество разновидностей футбола, в основном с меньшим количеством игроков, в том числе: 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футзал (AMF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и 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футзал (FIFA) - мини-футбо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играются в зале на специальном покрытии), 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дворовый футбо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(играется на любом покрытии на полях любого размера любым количеством людей),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пляжный футбо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(играется на песке), «речной футбол» (по колено в воде, ежегодный турнир в английском г. 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5"/>
              </a:rPr>
              <a:t>Бёртон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, «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6"/>
              </a:rPr>
              <a:t>болотный футбо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» (играется на болоте), 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7"/>
              </a:rPr>
              <a:t>футбольный фристай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(заключается в исполнении всевозможных финтов и трюков), 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8"/>
              </a:rPr>
              <a:t>футдаблбо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(играется двумя мячами)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акже настольный и виртуальный футбо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скольку популярность футбола очень высока, существует много игр, имитирующих футбо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9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2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39640" y="980640"/>
            <a:ext cx="8229600" cy="23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утбо́л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(от 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англ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foot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— нога, 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ball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— мяч) — командный вид 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спорт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в котором целью является забить 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мяч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в 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ворот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соперника ногами или другими частями тела (кроме рук) большее количество раз, чем команда соперника. В настоящее время самый популярный и массовый 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Arial"/>
                <a:hlinkClick r:id="rId5"/>
              </a:rPr>
              <a:t>вид спорт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в мир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4" descr="5"/>
          <p:cNvPicPr/>
          <p:nvPr/>
        </p:nvPicPr>
        <p:blipFill>
          <a:blip r:embed="rId6"/>
          <a:stretch/>
        </p:blipFill>
        <p:spPr>
          <a:xfrm>
            <a:off x="4211640" y="3500280"/>
            <a:ext cx="44658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981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b2b2b2"/>
                </a:solidFill>
                <a:latin typeface="Arial"/>
              </a:rPr>
              <a:t>Названия игры</a:t>
            </a:r>
            <a:br>
              <a:rPr sz="6000"/>
            </a:b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лное английское название (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англ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association football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 было придумано, чтобы отличать эту игру от других разновидностей «ножного мяча», особенно 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регб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(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англ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rugby football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. В 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1880-х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годах появилось сокращённое название «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ккер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» (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Arial"/>
                <a:hlinkClick r:id="rId5"/>
              </a:rPr>
              <a:t>англ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soccer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, которое в наши дни получило широкое распространение в ряде англоязычных стран (исключая 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Arial"/>
                <a:hlinkClick r:id="rId6"/>
              </a:rPr>
              <a:t>Англию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где болельщики считают его пренебрежительным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3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2b2b2"/>
                </a:solidFill>
                <a:latin typeface="Arial"/>
              </a:rPr>
              <a:t>История футбола</a:t>
            </a:r>
            <a:br>
              <a:rPr sz="4000"/>
            </a:b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128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гры, похожие на современный футбол, существовали довольно давно у разных народов, однако первые записанные 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правил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датированы 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1848 годом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Датой рождения футбола считается 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1863 год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когда была организована первая 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Ассоциация футбол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и составлены правила, похожие на современные. История футбола началась очень давно. Так, например, и в Египте, и в Германии, и в Китае были игры, похожие на футбол. Самая удачная из них называлась гарпастум и придумали её итальянцы. Но когда появился современный футбол, гарпастум был забыт. Когда англичане придумали футбол, они сразу стали популяризировать его во всех странах, включая Россию. В то время в чемпионате участвовало много английских команд. О футболе в России впервые было сказано в книге одного из докторов «игры с мячом на воздухе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2b2b2"/>
                </a:solidFill>
                <a:latin typeface="Arial"/>
              </a:rPr>
              <a:t>Правила игры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дельная футбольная игра называется матч, который в свою очередь состоит из двух 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таймов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по 45 минут. Пауза между первым и вторым таймами составляет 15 минут, в течение которой команды отдыхают, а по её окончании меняются ворот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11280" y="691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футбол играют на 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пол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с травяным или синтетическим покрытием. В игре участвуют две команды: в каждой от 7 до 11 человек. Один человек в команде (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вратарь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 может играть руками в 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штрафной площад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у своих ворот, его основной задачей является защита 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ворот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Остальные игроки также имеют свои задачи и позиции на поле. 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5"/>
              </a:rPr>
              <a:t>Защитник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располагаются в основном на своей половине поля, их задача — противодействовать нападающим игрокам противоположной команды. 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6"/>
              </a:rPr>
              <a:t>Полузащитник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действуют в середине поля, их роль — помогать защитникам или нападающим в зависимости от игровой ситуации. 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7"/>
              </a:rPr>
              <a:t>Нападающи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располагаются, преимущественно на половине поля соперника, основная задача — забивать 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8"/>
              </a:rPr>
              <a:t>голы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4" descr="1301"/>
          <p:cNvPicPr/>
          <p:nvPr/>
        </p:nvPicPr>
        <p:blipFill>
          <a:blip r:embed="rId9"/>
          <a:stretch/>
        </p:blipFill>
        <p:spPr>
          <a:xfrm>
            <a:off x="5867280" y="3933720"/>
            <a:ext cx="266400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3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3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ель игры — забить мяч в ворота противника, сделать это как можно большее количество раз и постараться не допустить гола в свои ворота. Матч выигрывает команда, забившая большее количество гол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4" descr="250px-Lionel_Messi_Player_of_the_Year_2011"/>
          <p:cNvPicPr/>
          <p:nvPr/>
        </p:nvPicPr>
        <p:blipFill>
          <a:blip r:embed="rId1"/>
          <a:stretch/>
        </p:blipFill>
        <p:spPr>
          <a:xfrm>
            <a:off x="6516720" y="3716280"/>
            <a:ext cx="242568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случае, если в течение двух таймов команды забили одинаковое количество голов, то или фиксируется ничья, или победитель выявляется согласно установленному регламенту матча. В этом случае может быть назначено дополнительное время — ещё два тайма по 15 минут каждый. Как правило, между основным и дополнительным временем матча командам предоставляется перерыв. Между дополнительными таймами командам даётся лишь время на смену сторон. Одно время в футболе существовало правило, по которому победителем объявлялась команда, первой забившая гол (правило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«золотого гола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 или выигрывавшая по окончании любого из дополнительных таймов (правило 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«серебряного гола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1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68360" y="1052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настоящий момент дополнительное время либо не играется вовсе, либо играется в полном объёме (2 тайма по 15 минут). Если в течение дополнительного времени победителя выявить не удаётся, проводится серия 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послематчевых пенальт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не являющихся частью матча : по воротам противника с расстояния 11 метров пробивается по пять ударов разными игроками. Если количество забитых пенальти у обеих команд будет равным, тогда пробиваются по одной паре пенальти, пока не будет выявлен победител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4" descr="143083651"/>
          <p:cNvPicPr/>
          <p:nvPr/>
        </p:nvPicPr>
        <p:blipFill>
          <a:blip r:embed="rId2"/>
          <a:stretch/>
        </p:blipFill>
        <p:spPr>
          <a:xfrm>
            <a:off x="5327640" y="4264200"/>
            <a:ext cx="3816360" cy="25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3T11:28:57Z</dcterms:created>
  <dc:creator>Касимова Олеся</dc:creator>
  <dc:description/>
  <dc:language>en-US</dc:language>
  <cp:lastModifiedBy>Владелец</cp:lastModifiedBy>
  <dcterms:modified xsi:type="dcterms:W3CDTF">2014-11-07T04:51:31Z</dcterms:modified>
  <cp:revision>5</cp:revision>
  <dc:subject/>
  <dc:title>«История футбола»</dc:title>
</cp:coreProperties>
</file>