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86F-A46B-4D2E-9E86-56A124A8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20C-7FBD-4E42-8082-7F158E9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428-32BE-4C0D-B7BB-A39733C7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5A5-F501-497A-AE08-A4E80A3D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817-81AF-4E13-9623-FDA4759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564-3919-4E99-A031-98D45C9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411-5009-49F2-92DC-A2CB3B3A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B8F-2B32-4683-A9F8-06FCF15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BD7-1128-49FF-8860-C27736B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ACD-4FA2-41E6-ADE3-8C2EC53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3A4-0233-46AF-866A-7674649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2CF-422B-4CB2-89F4-2AA4707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3553-60A7-40A7-A75F-1B479ED4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стория, застывшая в граните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Памятники Тавды и Тавдинского рай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43700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510320" cy="503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: скульптор Анатолий Анатольевич Анисимов и его супруга Татьяна Борисовна Онуфриева, их сын Андрей в содружестве с архитектором Виктором Петровичем Старковым. Проект был одобрен художественным советом Союза худо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209080" cy="462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494172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ердловске в скульптурном цехе мастер Сарапулова изготовляла бетонные фигуры солдат и женской группы. В Тавде возводилось стилизованное знамя-пилон, подиум и декоративный бассейн.  Для этого потребовалось уложить около трех тысяч бет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458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7840" y="4941720"/>
            <a:ext cx="8300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8 октября 1977 года состоялось торжественное открытие мемориала тавдинцам, погибшим в годы Великой Отечественной войны. Выступает секретарь Тавдинского горкома КПСС Татьяна Григорьевна Бычкар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ысловым и композиционным центром монумента является стилизованное знамя высотой 20 м, вдоль которого идет строй воинов. Вся композиция расположена на обширном бетонном подиуме, облицованном мрамором. Подиум имеет два входа: один - на главный фасад, другой - боковой, обращен к бассей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ая композиция - женская группа. У них напряженные и скорбные лица. Они провожают своих отцов, сыновей, любимых в ве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и две композиции соединены декоративным бассейном, на его водной глади отражается небо и провожающие солдат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657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86800" cy="517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566100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 000 тавдинцев ушли на фронт защищать нашу страну. 5817 из них не верну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исимов Анатолий Анатольевич (1910–199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ьптор и педагог. Родился в Казани, учился в Свердловске в УХПТ (1929–1932). Дипломная работа– барельеф «На стройке», руководитель И. А. Камбаров. Преподавал в СХУ (1940-е). Участник выставок (с 1932 г.), член СХ СССР. Автор рельефов «Советская Армия на учениях» (1935), «Великие люди Урала» (1949), круглых скульптур – «Партизаны» (1943), «Юный оленевод» (1964). Большое место в его творчестве занимали сказочный и анималистический жанры: «Золотой Волос», «Хозяйка Медной горы» (по сказам П. П. Бажова, 1948), «Лось», «Куница», «Белый медведь» и др. Скульптор СХПМ (с 1949 г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рков Виктор Петрович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55 г. получил художественное образование в Художественном училище. В 1967 г. закончил УПИ им. С.М.Кирова по специальности "Архитектура".Работает в УралГАХА с 1986 г. В течение 15 лет работал главным архитектором института Агропромпроект. Член Союза архитекторов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работанным проектам построены экспериментально-показательные поселки Патруши, Городец. В г. Екатеринбурге построены жилые дома улучшенной планировки по индивидуальным проектам. Награжден за показательные поселки бронзовой медалью ВДН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авдинские эвакогоспит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располагались в старом хирургическом корпусе городской больницы, в здании теперешнего СПТУ, в жилом доме по улице Красногвардейской, 5 и на территории Тавдинского Дома отдыха (нейрохирургический госпиталь №4006 на 200 коек). Тех, кто умер от ран, хоронили на городском кладбище (пос.Еловка) и на сельском погосте в Саитково. На городском кладбище в 1961 году установлена скульптура воина со знаменем, склонившегося над могилой погибших братьев по оруж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Памятник Киров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38980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9120" y="580536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воинов, умерших от ран в тавдинских госпиталях. Городское кладбище (пос.Еловка). Установлен в 1961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5877000"/>
            <a:ext cx="81198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аитково в 1985 году воздвигнут обелиск, увенчанный звезд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322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3716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мориал в Герасим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620120" cy="544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32000" y="595008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ня Увал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6274080" cy="343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00440" cy="3162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62560" y="765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о Кош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5327640" cy="398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4329000" cy="386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0880" y="537372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ло Город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1440" y="602136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абашка, 1974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37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38200" y="602136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ьшая Пустынь, 198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92560" y="6083280"/>
            <a:ext cx="46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ня Ленина,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555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лиск работникам Тавдинского лесокомбината им. В.В.Куйбышева,  погибшим на полях Великой Отечественной войны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7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гей Миронович Киров (Костриков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секретарь Ленинградского обкома ВКП(б), секретарь ЦК ВКП(б), член Политбюро ЦК ВКП(б) и Президиума ВЦИК СССР. Друг И.В.Сталина. 1 декабря 1934 года был убит в Смольном. Пользовался огромным уважением и авторитетом, поэтому его трагическая смерть вызвала огромный резонанс во всей стран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33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 на могиле братьев Морозов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влик Моро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щийся Герасимовской школы Тавдинского района Уральской области, в советское время получивший известность как пионер-герой, символ борца с кул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Большой советской энциклопедии, Павлик Морозов был «организатором и председателем первого пионерского отряда в с. Герасим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наших современников имя Павлика Морозова давно уже стало нарицательны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влик Моро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я этого 13-летнего мальчика стало символом дважды. Сначала - символом борьбы пионеров-героев с «контрреволюцией» и «кулачеством». Потом - символом предательства, доносительства и подлости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докс в том, что ни та, ни другая трактовка не имеют практически никакого отношения к подлинной истории Павлика Мороз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етская пропаганда мгновенно возвела Павлика на пьедестал как пионера-героя. В новые времена с тем же пылом и той же поспешностью его заклеймили как предателя. Павел (13 лет) и Фёдор (8 лет) Морозовы были убиты 2 сентября 1932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81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влик и Фёдя Морозовы похоронены 7 сентября 1932  г. в центре села Герасим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 на могиле братьев Морозовых – Павла и Фед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 - Петр Алексеевич Сажин. Открыт 16 июня 195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780320" cy="5178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37372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июня 2017 г. в клубе «Суть Времени » в Екатеринбурге на один вечер была открыта для осмотра выставка «Спасенное наследие» работ скульптора Петра Алексеевича Сажина — одного из главных монументалистов Свердлов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843600" cy="45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9736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скульптуры, представленные на выставке, были буквально спасены из расселяемых мастерских Союза художников в Екатеринбурге. В экспозицию вошли эскизы, макеты, готовые скульптуры, в том числе рабочие модели памятников Комсомолу Урала, Свердлову, Кирову, Блюхеру, один из вариантов памятника Павлику Мороз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амятник-бюст писателя Павла Петровича Баж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5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464000" cy="425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HOME\Documents\ПУт в сказку\normal_IMG_9.jpg"/>
          <p:cNvPicPr/>
          <p:nvPr/>
        </p:nvPicPr>
        <p:blipFill>
          <a:blip r:embed="rId3"/>
          <a:stretch/>
        </p:blipFill>
        <p:spPr>
          <a:xfrm>
            <a:off x="171360" y="219240"/>
            <a:ext cx="426096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Петрович Бажов– известный советский писатель. Автор уральских сказов «Малахитовая шкатулка», за которые был награжден Сталинской премией 2-й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«Малахитовой шкатулке» содержится много мифологических персонажей, например: Хозяйка Медной горы, Великий Полоз, Данила-мастер, бабка Синюшка, Огневушка-поскакушка 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Бажов создал множество произведений, на основе которых были поставлены балеты, оперы, спектакли, сняты фильмы и мультфиль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жов — дед по материнской линии политического деятеля Егора Гайдара, прадед Марии Гайд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03280" y="260280"/>
            <a:ext cx="5616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черке «Северные сукноделы» говорится о работе суконной фабрики  братьев Андреевых. Автор рассказывает о нравах и порядках царивших на фабрике, о тяжелой  жизни рабочих и  нелегком труде детей, вынужденных работать наравне со взрослыми. «Первый лесозавод»  посвящен истории освоения  лесного богатства нашего края. Старый рабочий рассказывает  об основании первого лесозавода на Тавде  в 1915 году. «Машинка на Азанке»  рассказывает о сложном, переломном времени. Шел 1918 год – уже была установлена Советская власть и началась национализация, но хозяева  лесопилки, чтобы ее не потерять создали трудовое общество «Пионер», где они оставались фактическими хозяевами. Как они пытались провести рабочих, и что из этого вышло и посвящен очерк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5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гей Миронович Кир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1886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08360" y="1600200"/>
            <a:ext cx="518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трагической кончины Киров стал символом борьбы с внутренними врагами. В память о Кирове проходили собрания, газеты размещала на своих страницах материалы о жизни «железного ленинца», его революционной и партийной деятельности. Шел процесс присвоения имени С.М. Кирова городам, предприятиям, улиц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йонам, возводились памя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40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вел Петрович Баж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7280" y="1125000"/>
            <a:ext cx="4619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ст у школы №16 на улице 9-е января, 13. Дважды побывал в Тавде замечательный сказочник П.П.Бажов. Нашему городу, его мастеровым людям, знающим «живинку» в деле, посвятил он три своих очерка (Северные сукноделы», «Первый лесозавод», «Машинка на Азанке»). Имя Бажова носит школа №16, у входа в которую в 1978 году на высоком постаменте был установлен бюст уральского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6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56360" cy="514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шем городе также появилась улица имени Кирова с красивейшим тополиным  бульваром длиной 2,5 км  и гранитным бюстом в окружении большого цветника.  Автор бюста – скульптор Петр Алексеевич Сажин (сентябрь 1962 года). Высота бюста – 1 м., постамент – 3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тр Алексеевич Сажи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 Алексеевич Сажин родился 19 июня 1919 года в деревне Матвеевка Самарской губернии в семье сапожника. С 1936 по 1939 год будущий скульптор учился в Казанском художественном училище. В 1939 году Сажин был призван в армию, служил на Монголо-Маньчжурской границе, участвовал в боях против Японии. В 1946 году он переехал в Свердлов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жин - мастер скульптурного портрета. Жителям Екатеринбурга Петр Алексеевич известен в первую очередь памятниками Комсомолу Урала (1959) и Уральскому добровольческому танковому корпусу (1962) на Привокзальной площади. Скульптор также создал памятники Павлику Морозову в Свердловске и в селе Герасим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 Сажин скончался 5 февраля 1999 года в Екатеринбурге. 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мятники тавдинцам, погибшим в годы Великой Отечественн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070520" cy="610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95840" y="281160"/>
            <a:ext cx="419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мориальный комплекс  тавдинцам, погибшим в годы Великой Отечественной войны в центре города, на улице Кир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мемориала состоялось 28 октября 197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 же у скульптурной группы «Провожающие на фронт» в 1995 году установлена памятная доска в честь вдов фронтови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2T19:01:02Z</dcterms:created>
  <dc:creator>777</dc:creator>
  <dc:description/>
  <dc:language>en-US</dc:language>
  <cp:lastModifiedBy>777</cp:lastModifiedBy>
  <dcterms:modified xsi:type="dcterms:W3CDTF">2017-08-22T19:13:03Z</dcterms:modified>
  <cp:revision>5</cp:revision>
  <dc:subject/>
  <dc:title>История, застывшая в граните...</dc:title>
</cp:coreProperties>
</file>