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1F2-4F85-4E9B-AEF0-20F1FA77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6C3-AA42-485B-966B-77523667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227-5127-4C57-B9CF-E29D2DDE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74F4-6D76-498C-9A78-F7AB7DBD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C15-2B18-47D3-8F48-6E6DD0B3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B28-95A9-4C46-87AF-9F7DA0DE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372-1853-443F-A8DF-50CCBFE2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7B3-E76B-4225-9F8A-CE583508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A63-F5EC-472D-A117-AB07730C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C48-6D61-4ECF-88EA-BA05FBEB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062-564D-4940-BB1B-FDEAEEF1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B30-3E1D-4DB7-8442-0B51DD56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B27C-B19D-4D37-A552-FCC0F8DE4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8;&#1079;&#1086;&#1073;&#1088;&#1072;&#1078;&#1077;&#1085;&#1080;&#1077;:Lenin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4247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стория, застывшая в граните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997360"/>
            <a:ext cx="7991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Памятники Тавды и Тавдинского райо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437000"/>
            <a:ext cx="55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 Макаров А.Д., преподаватель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юменского нефтегазового коллед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19280" y="258480"/>
            <a:ext cx="5267160" cy="619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ди́мир Ильи́ч Ле́нин (1870 -1924) — революционер, создатель партии большевиков, один из организаторов и руководителей Октябрьской социалистической революции 1917 г., председатель правительства РСФСР и СССР. Учёный-марксист, философ и публицист, основоположник ленинизма, идеолог и создатель Третьего Коммунистического интернационала, основатель Советского государства. Один из самых известных политических деятелей XX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В. И. Ленин. 1920 год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981000"/>
            <a:ext cx="27795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915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 советское время не было человека в СССР, кто не знал имени Ленина. Впервые имя Ленина было присвоено после его смерти, в 1924 году, городам Ленинграду и Ульяновску, в знак огромной любви советского народа к своему вождю и учителю, в целях увековечения его памяти. В Тавдинском районе в этом же году деревня Малые Чандыри была переименована в деревню Ленино, по решению крестьянского схода. Главная улица города также стала носить имя Ленина, и самое примечательное по архитектуре здание Дома культуры, в районе фанерного комбината, тоже имени Ленина (открыт 7 ноября 1954 года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27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44500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вый памятник Ленину в городе Тавде был установлен в саду лесокомбината в 1943 г. авторская копия известного советского скульптора С.Д. Меркурова.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удьба памят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мятник В. И. Ленину находился справа от главного входа в летний театр (здания сейчас нет). Памятник был выполнен из гипса. Постамент на низком пьедестале. Ленин сидит в кресле в момент глубокого раздумья. Его лицо видится ясно: чуть прищуренные глаза, пластическое совершенство высокого чистого лба выражает величие непростого человека. В 2001 году этот памятник достался тюменскому предпринимателю, решившему создать музей памятников под открытым неб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353440" cy="5572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18320" y="5916600"/>
            <a:ext cx="654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тний театр в саду лесокомби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3397320" cy="4535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28120" y="692280"/>
            <a:ext cx="70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.Д. Меркуров. Памятник В.И. Ленину в Москве (194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846680" y="1268280"/>
            <a:ext cx="3351240" cy="5256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49800" y="60930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68120" y="1890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мятники - близне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ргей Дмитриевич Меркуров (1881-1952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80000" y="162864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етский скульптор-монументалист. Академик. Народный художник СССР. Лауреат двух Сталинских премий. Автор многочисленных, часто гигантских размеров, монументов И. В. Сталину и В. И. Ленину.  Надгробные памятники у Кремлёвской стены (Ф. Э. Дзержинскому, А. А. Жданову, М. И. Калинину, Я. М. Свердлову, М. В. Фрунз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273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460836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мятник Ленину на центральной площад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ы - уральские скульпторы супруги Анатолий Иванович Клюев и Любовь Александровна Турская, проект постамента принадлежит тавдинскому художнику Модлеру. Памятник открыт в канун 50-летия Великого Октября 3 ноября 1967 г. Высота памятника с постаментом - 5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35640" y="549360"/>
            <a:ext cx="316872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105440" y="476280"/>
            <a:ext cx="4292280" cy="54738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Памятник В.И. Ленину, городская площадь.JPG"/>
          <p:cNvPicPr/>
          <p:nvPr/>
        </p:nvPicPr>
        <p:blipFill>
          <a:blip r:embed="rId3"/>
          <a:stretch/>
        </p:blipFill>
        <p:spPr>
          <a:xfrm>
            <a:off x="468360" y="476280"/>
            <a:ext cx="3108240" cy="5472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41800" y="6165720"/>
            <a:ext cx="30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дедушке Лени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орцам за дело революции, павшим от рук белогвардейцев в 1918-1919 гг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утешествие памят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08000" y="162864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у проходной Тавдинскоко механического завода торжественно открыли 22 апреля 1980 года. Скульптура Ильича была перенесена с территории Дома отдыха и воздвигнута на новый пьедестал, в котором заложена капсула с обращением к тавдинцам 21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30924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8640720" cy="4606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9280" y="51703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ородской парк культуры и отды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209080" cy="4322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4797360"/>
            <a:ext cx="837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лельщик сборной России по футболу после победы нашей команды над сборной Голландии в четверть финале «Евро-2008» от радости оторвал голову памятнику Ленину. Памятник в городском парке был демонтировал, так как восстановлению он не подлеж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7488360" cy="561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280" y="5877000"/>
            <a:ext cx="77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мятник в Азанке. Постамент достался от другого памят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7775280" cy="5237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29960" y="5700600"/>
            <a:ext cx="66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мятник Ленину в деревне Лен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Памятник Сталин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352000" cy="4559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5080" y="5084640"/>
            <a:ext cx="890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мятник Сталину на центральной площади города. Автор - скульптор Сергей Меркуров, авторская копия. Эти копии стояли по всей стр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45943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9120" y="568440"/>
            <a:ext cx="3405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копия памятника И.В. Сталину созданного Меркуловым для аванпорта канала Москва-Вол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351640" cy="5078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560880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ериод борьбы с культом личности памятник Сталину заменили на бюст Лен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532720" cy="5275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63280" y="5805360"/>
            <a:ext cx="40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же без Сталина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саду лесокомбин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 августа 1919 г. Тавда была освобождена от белогвардей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двадцатилетию этого события, в августе 1939 года, останки жертв колчаковского террора были перенесены в сад лесокомбината (до этого времени братская могила расстрелянных находилась недалеко от железнодорожной станции). На могиле установили памятник - шестиметровый обелиск, увенчанный пятиконечной звездой. У основания памятника надпись: "Вечная слава борцам за дело революции, погибшим от рук белобандитов в 1919 год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том 1964 года, на месте захоронения был открыт новый памятник жертвам Гражданской войны уральского скульптора Анатолия Клю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мориал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воинам, погибшим при исполнении воинского дол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620120" cy="4445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35120" y="4941720"/>
            <a:ext cx="772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 2008 году, по инициативе «афганцев», началась работа по строительству в Тавде мемориала воинам, погибшим при исполнении воинского долга. 15 февраля 2011 года  состоялось открытие мемори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7561440" cy="5111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35120" y="5373720"/>
            <a:ext cx="758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2012 году был решен вопрос с приобретением военной техники для установки на мемори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ины - интернационалис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авде существует районная организация ветеранов Афганистана. Сегодня он насчитывает в своих рядах 78 воинов-интернационалистов. Трое военнослужащих погибли в Афганистане: Александренков Анатолий – умер  от ранений 30 сентября 1983 года, Иванов Игорь – погиб 30 января 1985 года, Никифоров Фёдор – умер от ранений 14 апреля 1986 года. 23 человека награждены боевыми орденами и медаля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авдинцы, погибшие в Чеч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4399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щенко Олег Александр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4399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айнетдинов Радик Казим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4399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нин Николай Владимир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4399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рков Сергей Анатоль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4399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юхин Вадим Серге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4399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пин Константин Юрь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4399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знецов Андрей Викторович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мятник жертвам политических репресс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353440" cy="5327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558972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Тавде в августе 2015 г.открыт памятник жертвам политических репресс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АЛИНСКИЕ РЕПР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92000" y="764640"/>
            <a:ext cx="745164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линские репрессии – это массовые репрессии, начавшиеся в СССР в конце 1920-х и продолжавшиеся до 1950-х годов включительно, и обычно связываемые с именем И.В.Стал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 жертвам сталинских репрессий относят осужденных по ст. 58 УК РСФСР 1926 г. («контрреволюционные преступления»), а также жертв раскулачивания (конец 1920-х - начало 1930-х г.г.) и депортаций наро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гие рассматривают сталинские репрессии как продолжение политических репрессий со стороны большевиков в Советской России, которые начались сразу после Октябрьской революции 191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ходе насильственной коллективизаци одним из главных направлений  государственной политики стало  подавление антисоветских выступлений и связанная с этим «ликвидация кулачества как класс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1513080" cy="1944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3141720"/>
            <a:ext cx="1763640" cy="1584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79280" y="4724280"/>
            <a:ext cx="1513080" cy="1798920"/>
          </a:xfrm>
          <a:prstGeom prst="rect">
            <a:avLst/>
          </a:prstGeom>
          <a:ln w="0">
            <a:noFill/>
          </a:ln>
        </p:spPr>
      </p:pic>
    </p:spTree>
  </p:cSld>
  <p:transition advTm="3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мятник жертвам политических репресси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ведение памятника производилось по инициативе и на средства Елены Владимировны Максименко. По словам Елены Владимировны,  её дед, Виктор Емельянович Горенков,  в начале двадцатых годов был репрессирован и отправлен в один из лагерей Тавдинского рай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торжественном митинге, посвященном открытию памятника, присутствовали глава Тавдинского городского округа Виктор Лачимов, глава администрации округа Константин Баранов, широкая общественность, дети, внуки и правнуки репрессированных, а также гости город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412920"/>
            <a:ext cx="7619760" cy="60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49780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мятник погибшим ликвидаторам аварии на Чернобыльской атомной электроста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353440" cy="4854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7840" y="5300640"/>
            <a:ext cx="830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 июля 2017 года в Тавде, у здания Центральной городской библиотеки состоялось открытие памятника погибшим ликвидаторам аварии на Чернобыльской атомной электростанци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619280" y="189000"/>
            <a:ext cx="6350040" cy="4419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4653000"/>
            <a:ext cx="849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оржественной церемонии приняли участие: Депутат Законодательного Собрания Свердловской области Е.А. Трескова, глава городского округа В.В. Лачимов, жители Тавды, руководители предприятий, организаций, представители общественных организаций. Открытие памятника завершилось минутой молчания и возложением ц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943240" y="189000"/>
            <a:ext cx="29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ека Тав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5229360"/>
            <a:ext cx="445752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солнечной стороне небольшой поляны, окруженной  молодым крепким сосняком, возвышается пятиметровой высоты бетонная стела, напоминающая своим контуром развернутое знамя. Но это и стена, возле которой застыли в момент расстрела три фигуры: падающий от смертельной раны боец, последним усилием воли опирающийся на руку, и два его товарища — пожилой рабочий в фартуке и комиссар в буденовке . У подножия стелы — символический венок памяти. На знамени выбита надпись: «Борцам за дело революции, павшим от рук белогвардейцев в 1918—1919 гг.» На торце стены — имена героев, которые будут вечно жить в нашей памя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9" descr="памятник на братской могиле, погибших от рук белогвардейцев,.JPG"/>
          <p:cNvPicPr/>
          <p:nvPr/>
        </p:nvPicPr>
        <p:blipFill>
          <a:blip r:embed="rId2"/>
          <a:stretch/>
        </p:blipFill>
        <p:spPr>
          <a:xfrm>
            <a:off x="611280" y="189000"/>
            <a:ext cx="755964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893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атолий Иванович Клюе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6096240" cy="4248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1280" y="539280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служенный художник России, профессор УлГУ, скульптор, член Союза художников России с 1960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ился 18 июля 1932 года Анатолий Иванович в городе Нижний Тагил Свердловско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3 году с отличием окончил Уральское художественно-промышленное училище в Нижнем Тагиле. Затем учёба в Ленинградском институте живописи скульптуры и архитектуры им. И.Е. Репина. Свердловский период творчества Анатолия Клюева был исключительно плодотвор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 работал скульптор над ленинской темой, создал образ В.И Ленина, его соратников, членов семьи Ульянов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Памятники Ленину в Тавде и Тавдинском район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2T19:15:26Z</dcterms:created>
  <dc:creator>777</dc:creator>
  <dc:description/>
  <dc:language>en-US</dc:language>
  <cp:lastModifiedBy>777</cp:lastModifiedBy>
  <dcterms:modified xsi:type="dcterms:W3CDTF">2017-08-22T19:18:06Z</dcterms:modified>
  <cp:revision>3</cp:revision>
  <dc:subject/>
  <dc:title>История, застывшая в граните...</dc:title>
</cp:coreProperties>
</file>