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2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1" descr="cvbtrhgh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96115"/>
                </a:solidFill>
                <a:latin typeface="Arial"/>
              </a:rPr>
              <a:t>Page </a:t>
            </a:r>
            <a:fld id="{A6C1954E-06F4-43CF-9909-C083FEB02A49}" type="slidenum">
              <a:rPr b="1" lang="fr-FR" sz="1800" spc="-1" strike="noStrike">
                <a:solidFill>
                  <a:srgbClr val="39611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7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16" descr="uykrfjh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4357800" y="4405320"/>
            <a:ext cx="30938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4"/>
          <p:cNvSpPr/>
          <p:nvPr/>
        </p:nvSpPr>
        <p:spPr>
          <a:xfrm>
            <a:off x="285840" y="214200"/>
            <a:ext cx="5857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ор: ученица 4 класса «А»        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Горячкина Екате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6"/>
          <p:cNvSpPr/>
          <p:nvPr/>
        </p:nvSpPr>
        <p:spPr>
          <a:xfrm>
            <a:off x="357120" y="1928880"/>
            <a:ext cx="5357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Times New Roman"/>
              </a:rPr>
              <a:t>Лекарственные растения моей мест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7"/>
          <p:cNvSpPr/>
          <p:nvPr/>
        </p:nvSpPr>
        <p:spPr>
          <a:xfrm>
            <a:off x="5214960" y="4786200"/>
            <a:ext cx="36432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уководитель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ервой категории Траху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нжелика  Викт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3369240" y="621504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000"/>
                </a:solidFill>
                <a:latin typeface="Arial"/>
              </a:rPr>
              <a:t>Краснодар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714240" y="28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ть – и мачех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Мать-и-мачеха - монотипный род многолетних травянистых растений семейства Астровые , или Сложноцветные. Единственный вид - мать-и-мачеха обыкновенная. Она зацветает рано: средний срок появления цветов — чуть позже середины апреля. 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Многолетнее травянистое растение до 25 см высоты. Корневище ползучее, ветвистое. Цветоносные стебли отрастают рано весной до появления листьев, прямые, паутинисто -опущенные, густо усажены продолговато - яйцевидными, острыми, буро-красными чешуевидными листьями. Зеленые листья появляются после цветения растения. Верхняя сторона листа зеленая, гладкая, холодная(«мачеха»), нижняя-беловойлочная, бархатистая, мягкая и теплая(«мать»)- отсюда русское название растения. Другие названия : двоелистник, камчужная трава, мать-трава.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Многолетнее растение широко распространено в Евразии, на Кавказе, в Сибире и     Средней Азии. 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Растет на влажных глинистых и суглинистых почвах по канавам, берегам рек и ручьев, на глинистых склонах, в населенных пунктах у домов, обычно небольшими зарослями.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Родовое название лат. Tussilago, inis f.,может быть переведено как «кашлегон» (происходит от лат. Tusis ib f. “кашель» и лат. ago,ere “прогонять») Это название связано с медикаментозным применением растения как средство от кашля.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 народной медицине листья и цветы применяют в виде отвара как жаропонижающее,общеукрепляющее при воспаление слизистых оболочек,язве желудка,заболевании почек,головной боли и т.д. Наружно листья применяются при ранах,нарывах,опухолях. Сок из свежих листьев обладают антисептическим,противовоспалительным действием. Сок применяют при насморке.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 листьях и цветках этого весеннего растения содержатся активные вещества, обладающие самыми разными целебными свойствами.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Это не единственное лекарственное растение которое растет в нашей местности. У нас встречаются такие растения как ромашка обыкновенная, мята перечная, подорожник , шиповник, крапива, тысячелистник, зверобой, черемуха, чистотел и много других. Рассмотрим некоторые из них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3" descr="http://sd2.uchebalegko.ru/tw_files2/urls_1062/5/d-4417/4417_html_6a418c17.jpg"/>
          <p:cNvPicPr/>
          <p:nvPr/>
        </p:nvPicPr>
        <p:blipFill>
          <a:blip r:embed="rId1"/>
          <a:stretch/>
        </p:blipFill>
        <p:spPr>
          <a:xfrm>
            <a:off x="2857680" y="2500200"/>
            <a:ext cx="564336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42960" y="28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Где бы вы ни были, на лугу, в огороде, вы непременно заметите многолетнее травянистое растение с широкими листьями – подорожник. Подорожник – обычный многолетний сорняк, тем не менее, это удивительное растение. 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«След белого человека»,— говорили североамериканские индейцы, глядя на невзрачное растеньице с розеткой яйцевидных плотных листьев на длинных широких черешках. Почему же индейцы Северной Америки считают подорожник «следом белого человека»? Да потому что появилось это растение вместе с первыми европейцами. До этого в Америке не было подорожника. И вырастал он именно там, где ступала нога европейца, Суеверные местные жители приписывали это чудодейственной силе и могуществу белого человека. Со страхом, а нередко и с негодованием смотрели они, с какой неимоверной быстротой размножался пришелец из Европы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Конечно же, никакого чуда не было. Просто природа наделила это растение способностью распространяться с помощью человека, животных. Осенью, когда начинаются дожди и слякоть, созревают семена подорожника. От сырости они превращаются в клейкие комочки и вместе с грязью на обуви человека или копытах животных переносятся на далекие расстояния.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Подорожник с давних пор широко используется как лечебное средство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Отвар листьев подорожника — старинное отхаркивающее средство при лечении бронхита и коклюша. Полезен настой подорожника и при туберкулезе легких. Теплый чай из листьев этого растения используют для полоскания горла при ангине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4" descr="http://sd2.uchebalegko.ru/tw_files2/urls_1062/5/d-4417/4417_html_304c641.jpg"/>
          <p:cNvPicPr/>
          <p:nvPr/>
        </p:nvPicPr>
        <p:blipFill>
          <a:blip r:embed="rId1"/>
          <a:stretch/>
        </p:blipFill>
        <p:spPr>
          <a:xfrm>
            <a:off x="5643720" y="285840"/>
            <a:ext cx="3205080" cy="2357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85840" y="2500200"/>
            <a:ext cx="8572320" cy="39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дина ромашки — Америка. Ромашка — как сорняк, растущий на полях. Попала вместе с американским зерном в трюмы пароходов, затем поехала по железнодорожным путям. В мешках оказались дырки, в полу вагонов — щели, и мелкие семена американской ромашки, ехавшей «зайцем», сеялись по полотну железной дороги. Вскоре насыпи покрылись ранее невиданной ароматной травы. Так ромашка расселилась повсеместно и попала в аптеку.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спитатель: Сбор ромашки проводится вручную, ощипывая только корзиночки. Сушат осторожно во избежание осыпания цветков. При заготовке дикорастущей ромашки возможен ошибочный сбор других видов, похожих на аптечную ромашку, имеющих также белые цветки и носящих в быту то же название, употребление которых, однако не допускается .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й из ромашки с медом и сахаром дают пить детям от простуды. Выпейте отвар из ромашки на ночь — сон будет крепким и спокойным. Применяют её от простуды и кашля. 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6"/>
          <p:cNvSpPr/>
          <p:nvPr/>
        </p:nvSpPr>
        <p:spPr>
          <a:xfrm>
            <a:off x="1571760" y="2142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Рома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валерьяна"/>
          <p:cNvPicPr/>
          <p:nvPr/>
        </p:nvPicPr>
        <p:blipFill>
          <a:blip r:embed="rId1"/>
          <a:stretch/>
        </p:blipFill>
        <p:spPr>
          <a:xfrm>
            <a:off x="6929280" y="4929120"/>
            <a:ext cx="2052720" cy="1928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листья мать - мачехи"/>
          <p:cNvPicPr/>
          <p:nvPr/>
        </p:nvPicPr>
        <p:blipFill>
          <a:blip r:embed="rId2"/>
          <a:stretch/>
        </p:blipFill>
        <p:spPr>
          <a:xfrm>
            <a:off x="4211640" y="4859280"/>
            <a:ext cx="2503440" cy="1878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чёрная смородина"/>
          <p:cNvPicPr/>
          <p:nvPr/>
        </p:nvPicPr>
        <p:blipFill>
          <a:blip r:embed="rId3"/>
          <a:stretch/>
        </p:blipFill>
        <p:spPr>
          <a:xfrm>
            <a:off x="2500200" y="3500280"/>
            <a:ext cx="1873440" cy="1498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Викторина «Лекарственные растения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428920" y="1571400"/>
            <a:ext cx="6215040" cy="21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ы натёр ногу в пути. Как облегчить бол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Какая ягода заменяет лимо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Плоды каких кустарников богаты витамином С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Какими лечебными свойствами обладает мать – мачех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Какую траву любят кошки? При каких болезнях она помогает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клюква"/>
          <p:cNvPicPr/>
          <p:nvPr/>
        </p:nvPicPr>
        <p:blipFill>
          <a:blip r:embed="rId4"/>
          <a:stretch/>
        </p:blipFill>
        <p:spPr>
          <a:xfrm>
            <a:off x="6643800" y="3500280"/>
            <a:ext cx="2160360" cy="1444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цеты мать - мачехи"/>
          <p:cNvPicPr/>
          <p:nvPr/>
        </p:nvPicPr>
        <p:blipFill>
          <a:blip r:embed="rId5"/>
          <a:stretch/>
        </p:blipFill>
        <p:spPr>
          <a:xfrm>
            <a:off x="4643280" y="3573360"/>
            <a:ext cx="1667160" cy="1609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подорожник"/>
          <p:cNvPicPr/>
          <p:nvPr/>
        </p:nvPicPr>
        <p:blipFill>
          <a:blip r:embed="rId6"/>
          <a:stretch/>
        </p:blipFill>
        <p:spPr>
          <a:xfrm>
            <a:off x="179280" y="4626000"/>
            <a:ext cx="1675080" cy="2232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шиплвник"/>
          <p:cNvPicPr/>
          <p:nvPr/>
        </p:nvPicPr>
        <p:blipFill>
          <a:blip r:embed="rId7"/>
          <a:stretch/>
        </p:blipFill>
        <p:spPr>
          <a:xfrm>
            <a:off x="2357280" y="5000760"/>
            <a:ext cx="166392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Arial"/>
              </a:rPr>
              <a:t>Результаты исследования</a:t>
            </a: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5" descr="C:\Documents and Settings\Надюшка\Local Settings\Temporary Internet Files\Content.Word\DSCN2154.jpg"/>
          <p:cNvPicPr/>
          <p:nvPr/>
        </p:nvPicPr>
        <p:blipFill>
          <a:blip r:embed="rId1"/>
          <a:stretch/>
        </p:blipFill>
        <p:spPr>
          <a:xfrm>
            <a:off x="3786120" y="4214880"/>
            <a:ext cx="2786040" cy="22143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8" descr="F:\Верщук Юлия\DSCN2160.jpg"/>
          <p:cNvPicPr/>
          <p:nvPr/>
        </p:nvPicPr>
        <p:blipFill>
          <a:blip r:embed="rId2"/>
          <a:stretch/>
        </p:blipFill>
        <p:spPr>
          <a:xfrm>
            <a:off x="5429160" y="1143000"/>
            <a:ext cx="3357720" cy="25718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7" descr="F:\Верщук Юлия\DSCN2157.jpg"/>
          <p:cNvPicPr/>
          <p:nvPr/>
        </p:nvPicPr>
        <p:blipFill>
          <a:blip r:embed="rId3"/>
          <a:stretch/>
        </p:blipFill>
        <p:spPr>
          <a:xfrm>
            <a:off x="1714680" y="1143000"/>
            <a:ext cx="3078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Arial"/>
              </a:rPr>
              <a:t>Отзы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 с радостью отвечала на вопросы викторины. Мне бы хотелось узнать о лечебных свойствах других растений. Катя, спасибо тебе!                                                                         Анастасия Крив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ня поразило разнообразие лекарственных растений и увлекла  их красота. Катя с такой теплотой о них нам рассказывала, что мне захотелось подробнее узнать о папоротниках.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тем Буда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каз про мать – и – мачеху  был очень интересным. А ещё мне понравилась викторина.  Я бы хотел узнать о лекарственных растениях Африки.                                                 Александр Удов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твоём рассказе, Катя, мне понравилось всё. Я бы хотела подробнее узнать о жизни лекарственных растений моря.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тьяна Ткач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14400" y="114264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В заключении я задаю себе вопросы: «Чем для меня была полезна эта работа?», «Чему она научила?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Во-первых, так как я человек любопытный, то  узнала много нового, интересного и полезного. Для ответа на многие вопросы мне понадобилось разные источники информации, поэтому я училась работать с источниками. 3.Мне было трудно, но я старалась находить и выделять главное в огромном мире информации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Изучив литературу я поняла, почему растение получило своё название и как оно переводится с латинского. Для чего его собирают и какие болезни леча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А еще то, что это растение не только лекарственное. Весной пчелы с трудом разыскивают себе пропитание -цветов еще мало. И вот тут-то их и выручает мать-и-мачеха : она еще и неплохой медонос. Во всяком случае , пчелы охотно летят к ней. Ведь он ценный ранневесенний медонос, дающий пчелам нектар и пыльцу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42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Arial"/>
              </a:rPr>
              <a:t>Литература</a:t>
            </a: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14400" y="114300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Доктор Ужегов. «Золотая книга народной медицины».   Москва.: «Вече», 2005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Н.Я. Дмитриева, И.П.Товпинец «Естествознание». М.: Просвещение, 2006 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Плешаков А.А. «Мир вокруг нас» М.: Просвещение, 2005 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Славгородская Л.Н «Лекарственные растения. Полный справочник». Ростов – на Дону.: Феникс, 2005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)Андреев В.Е «Многообразие растений» М.: Просвещение,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7"/>
          <p:cNvSpPr/>
          <p:nvPr/>
        </p:nvSpPr>
        <p:spPr>
          <a:xfrm>
            <a:off x="2268360" y="260280"/>
            <a:ext cx="587556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Пробл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блюдая и рассматривая растения на улице, в лесу, на лугу и узнав, что они могут помочь здоровью человека. Решила узнать о их значимости в жизни людей, их целебные свойства, правила сбора. Поэтому мной был разработан экологический проект «Лекарственные растения моей местност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2627280" y="3571920"/>
            <a:ext cx="612144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2428920" y="3643200"/>
            <a:ext cx="63579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Ц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ить лекарственные растения моей местности, правила их сбора, применения для оздоровления орган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371320" y="214200"/>
            <a:ext cx="62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Были поставлены 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627280" y="1486080"/>
            <a:ext cx="61214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азователь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обобщить знания о лекарственных растениях нашей местности; изучить растения; выяснить значение лекарственных растений для человека; определить вред, который человек наносит прир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вающ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азвивать навыки исследова-тельск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питательная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ть бережное отноше-ние к прир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Гипотез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71840" y="1600200"/>
            <a:ext cx="611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ученики узнают, как могут обыкновенные растения ближайшего окружения  помочь здоровью человека, то будут бережнее к ним относ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Arial"/>
              </a:rPr>
              <a:t>Методы исследования</a:t>
            </a: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714400" y="1600200"/>
            <a:ext cx="597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иск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ке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тистическая обработка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уск стенгаз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дение виктор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ятие интервью у однокласс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Arial"/>
              </a:rPr>
              <a:t>Этапы исследования</a:t>
            </a: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428920" y="1357200"/>
            <a:ext cx="650088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1-й этап- подготовите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2-й этап — исследовательский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Посещ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ьной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библиотек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ятие интервью у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иск материала в интерн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3-й этап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обобщение результ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ный час в 4 «А» классе на те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Лекарственные растен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а – викторина «Знаете ли вы лекарственные растения вашей местности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а – викторина «Звёздный час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граждение побед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ка мультимедийной презентации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9" descr="C:\Documents and Settings\Надюшка\Рабочий стол\ромашки.jpg"/>
          <p:cNvPicPr/>
          <p:nvPr/>
        </p:nvPicPr>
        <p:blipFill>
          <a:blip r:embed="rId1"/>
          <a:stretch/>
        </p:blipFill>
        <p:spPr>
          <a:xfrm>
            <a:off x="571680" y="5143680"/>
            <a:ext cx="2428560" cy="15001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7" descr="C:\Documents and Settings\Надюшка\Рабочий стол\огоньки.jpg"/>
          <p:cNvPicPr/>
          <p:nvPr/>
        </p:nvPicPr>
        <p:blipFill>
          <a:blip r:embed="rId2"/>
          <a:stretch/>
        </p:blipFill>
        <p:spPr>
          <a:xfrm>
            <a:off x="3357720" y="5143680"/>
            <a:ext cx="2428560" cy="1500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Сколько существует видов растений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57120" y="1785960"/>
            <a:ext cx="8329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тения разных видов люди находят практически повсюду – на суше, в море от засушливых пустынь до лесов, где льют бесконечные тропические дожди. Растения могут быть на теле животного и внутри него. К растениям относятся и мельчайшие бактерии, и одноклеточные водоросли, такие крохотные, что увидеть их можно лишь в микроскоп, и огромные деревья, например гигантские секвойи. В целом обширное и пёстрое царство растений насчитывает более 350000 видов. Отдельных экземпляров растений в мире больше, чем животных. Растения на Земле – начало всего жив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5" descr="C:\Documents and Settings\Надюшка\Рабочий стол\ели.jpg"/>
          <p:cNvPicPr/>
          <p:nvPr/>
        </p:nvPicPr>
        <p:blipFill>
          <a:blip r:embed="rId3"/>
          <a:stretch/>
        </p:blipFill>
        <p:spPr>
          <a:xfrm>
            <a:off x="6143760" y="5143680"/>
            <a:ext cx="257148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В чём отличие между растениями и животными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571680" y="1643040"/>
            <a:ext cx="1643040" cy="3988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Пит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2571840" y="1643040"/>
            <a:ext cx="1008000" cy="3373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в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2627280" y="2276640"/>
            <a:ext cx="1217520" cy="337320"/>
          </a:xfrm>
          <a:prstGeom prst="rect">
            <a:avLst/>
          </a:prstGeom>
          <a:solidFill>
            <a:srgbClr val="f1f9f9"/>
          </a:solidFill>
          <a:ln w="7632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зду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2643120" y="2857680"/>
            <a:ext cx="868320" cy="337320"/>
          </a:xfrm>
          <a:prstGeom prst="rect">
            <a:avLst/>
          </a:prstGeom>
          <a:solidFill>
            <a:srgbClr val="00b0f0"/>
          </a:solidFill>
          <a:ln w="7632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трелка вправо 8"/>
          <p:cNvSpPr/>
          <p:nvPr/>
        </p:nvSpPr>
        <p:spPr>
          <a:xfrm rot="570000">
            <a:off x="3720960" y="184932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право 9"/>
          <p:cNvSpPr/>
          <p:nvPr/>
        </p:nvSpPr>
        <p:spPr>
          <a:xfrm>
            <a:off x="4000680" y="2357280"/>
            <a:ext cx="564840" cy="150840"/>
          </a:xfrm>
          <a:prstGeom prst="rightArrow">
            <a:avLst>
              <a:gd name="adj1" fmla="val 50000"/>
              <a:gd name="adj2" fmla="val 49963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вправо 10"/>
          <p:cNvSpPr/>
          <p:nvPr/>
        </p:nvSpPr>
        <p:spPr>
          <a:xfrm rot="20934000">
            <a:off x="3712680" y="285264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1"/>
          <p:cNvSpPr/>
          <p:nvPr/>
        </p:nvSpPr>
        <p:spPr>
          <a:xfrm>
            <a:off x="5072040" y="2643120"/>
            <a:ext cx="1873440" cy="580680"/>
          </a:xfrm>
          <a:prstGeom prst="rect">
            <a:avLst/>
          </a:prstGeom>
          <a:solidFill>
            <a:srgbClr val="bfbfbf"/>
          </a:solidFill>
          <a:ln w="7632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b0a05"/>
                </a:solidFill>
                <a:latin typeface="Arial"/>
              </a:rPr>
              <a:t>Минераль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b0a05"/>
                </a:solidFill>
                <a:latin typeface="Arial"/>
              </a:rPr>
              <a:t>ве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5029200" y="1474920"/>
            <a:ext cx="1047600" cy="1231920"/>
          </a:xfrm>
          <a:prstGeom prst="rect">
            <a:avLst/>
          </a:prstGeom>
          <a:ln w="0">
            <a:noFill/>
          </a:ln>
        </p:spPr>
      </p:pic>
      <p:sp>
        <p:nvSpPr>
          <p:cNvPr id="72" name="Круговая стрелка 13"/>
          <p:cNvSpPr/>
          <p:nvPr/>
        </p:nvSpPr>
        <p:spPr>
          <a:xfrm rot="16200000">
            <a:off x="4750560" y="2392560"/>
            <a:ext cx="571320" cy="642960"/>
          </a:xfrm>
          <a:custGeom>
            <a:avLst/>
            <a:gdLst>
              <a:gd name="textAreaLeft" fmla="*/ 108720 w 571320"/>
              <a:gd name="textAreaRight" fmla="*/ 462600 w 571320"/>
              <a:gd name="textAreaTop" fmla="*/ 119160 h 642960"/>
              <a:gd name="textAreaBottom" fmla="*/ 523800 h 642960"/>
            </a:gdLst>
            <a:ahLst/>
            <a:rect l="textAreaLeft" t="textAreaTop" r="textAreaRight" b="textAreaBottom"/>
            <a:pathLst>
              <a:path w="571500" h="642938">
                <a:moveTo>
                  <a:pt x="35719" y="321469"/>
                </a:moveTo>
                <a:lnTo>
                  <a:pt x="35719" y="321469"/>
                </a:lnTo>
                <a:arcTo wR="250031" hR="285750" stAng="10800000" swAng="9820822"/>
                <a:lnTo>
                  <a:pt x="562699" y="250551"/>
                </a:lnTo>
                <a:lnTo>
                  <a:pt x="500062" y="321469"/>
                </a:lnTo>
                <a:lnTo>
                  <a:pt x="419824" y="250551"/>
                </a:lnTo>
                <a:lnTo>
                  <a:pt x="454282" y="250551"/>
                </a:lnTo>
                <a:lnTo>
                  <a:pt x="454282" y="250551"/>
                </a:lnTo>
                <a:arcTo wR="178594" hR="214313" stAng="-1369270" swAng="-9430711"/>
                <a:close/>
              </a:path>
            </a:pathLst>
          </a:custGeom>
          <a:solidFill>
            <a:srgbClr val="ff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7527960" y="1616040"/>
            <a:ext cx="1311120" cy="1633680"/>
          </a:xfrm>
          <a:prstGeom prst="rect">
            <a:avLst/>
          </a:prstGeom>
          <a:ln w="0">
            <a:noFill/>
          </a:ln>
        </p:spPr>
      </p:pic>
      <p:sp>
        <p:nvSpPr>
          <p:cNvPr id="74" name="Стрелка вправо 15"/>
          <p:cNvSpPr/>
          <p:nvPr/>
        </p:nvSpPr>
        <p:spPr>
          <a:xfrm rot="10800000">
            <a:off x="6215040" y="1857240"/>
            <a:ext cx="1285920" cy="162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6"/>
          <p:cNvSpPr/>
          <p:nvPr/>
        </p:nvSpPr>
        <p:spPr>
          <a:xfrm>
            <a:off x="6000840" y="2071800"/>
            <a:ext cx="150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орган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ществ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7"/>
          <p:cNvSpPr/>
          <p:nvPr/>
        </p:nvSpPr>
        <p:spPr>
          <a:xfrm>
            <a:off x="500040" y="3571920"/>
            <a:ext cx="1727280" cy="3988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Дви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6"/>
          <p:cNvSpPr/>
          <p:nvPr/>
        </p:nvSpPr>
        <p:spPr>
          <a:xfrm>
            <a:off x="2428920" y="3643200"/>
            <a:ext cx="209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 движу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7"/>
          <p:cNvSpPr/>
          <p:nvPr/>
        </p:nvSpPr>
        <p:spPr>
          <a:xfrm>
            <a:off x="6357960" y="342900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егают, лет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лавают, прыг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0"/>
          <p:cNvSpPr/>
          <p:nvPr/>
        </p:nvSpPr>
        <p:spPr>
          <a:xfrm>
            <a:off x="571680" y="4357800"/>
            <a:ext cx="1643040" cy="7038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Нервн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9"/>
          <p:cNvSpPr/>
          <p:nvPr/>
        </p:nvSpPr>
        <p:spPr>
          <a:xfrm>
            <a:off x="2500200" y="450072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сутству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1"/>
          <p:cNvSpPr/>
          <p:nvPr/>
        </p:nvSpPr>
        <p:spPr>
          <a:xfrm>
            <a:off x="7000920" y="45007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е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3"/>
          <p:cNvSpPr/>
          <p:nvPr/>
        </p:nvSpPr>
        <p:spPr>
          <a:xfrm>
            <a:off x="714240" y="5786280"/>
            <a:ext cx="1500480" cy="3988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Р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2"/>
          <p:cNvSpPr/>
          <p:nvPr/>
        </p:nvSpPr>
        <p:spPr>
          <a:xfrm>
            <a:off x="2428920" y="578628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тут до конца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3"/>
          <p:cNvSpPr/>
          <p:nvPr/>
        </p:nvSpPr>
        <p:spPr>
          <a:xfrm>
            <a:off x="5429160" y="578628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тут до половой зрел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8229600" cy="41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ажды весной мы ездили отдыхать на берег реки. Издалека я увидела облако желтеньких цветов, ярких, будто маленькие электрические лампочки, которые зажгла сама весна. Цветки были похожи на одуванчики. Мне стало очень интересно и я спросила у мамы: «Что это за огоньки вдали?»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ма ответила: «Это мать-и-мачеха-лекарственное растение» Меня очень заинтересовало название растения и как им лечатся? Приехав домой я открыла книгу и стала читать. Вот что я узнала про этот цветок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ждое время года имеет множество примет. Весна даже больше , чем другое время года. Потому что весной ежедневно происходит что-то новое , что-то меняется. И главное очень наглядно. Одна из самых значительных примет весны -зацветание мать-и-мачех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http://sd2.uchebalegko.ru/tw_files2/urls_1062/5/d-4417/4417_html_585074e8.jpg"/>
          <p:cNvPicPr/>
          <p:nvPr/>
        </p:nvPicPr>
        <p:blipFill>
          <a:blip r:embed="rId1"/>
          <a:stretch/>
        </p:blipFill>
        <p:spPr>
          <a:xfrm>
            <a:off x="2857680" y="3929040"/>
            <a:ext cx="50004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eeDigitalPhotos.net </dc:description>
  <dc:language>en-US</dc:language>
  <cp:lastModifiedBy>123</cp:lastModifiedBy>
  <dcterms:modified xsi:type="dcterms:W3CDTF">2017-08-22T05:21:40Z</dcterms:modified>
  <cp:revision>50</cp:revision>
  <dc:subject/>
  <dc:title>Light in the forest</dc:title>
</cp:coreProperties>
</file>