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1" descr="cvbtrhgh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96115"/>
                </a:solidFill>
                <a:latin typeface="Arial"/>
              </a:rPr>
              <a:t>Page </a:t>
            </a:r>
            <a:fld id="{F218EB2C-B7F4-4AB9-8034-F8CB116D4410}" type="slidenum">
              <a:rPr b="1" lang="fr-FR" sz="1800" spc="-1" strike="noStrike">
                <a:solidFill>
                  <a:srgbClr val="39611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uykrfjh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357800" y="4405320"/>
            <a:ext cx="3093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85840" y="21420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: ученица 4 класса «А»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Горячк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357120" y="1928880"/>
            <a:ext cx="5357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Лекарственные растения моей мес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5214960" y="4786200"/>
            <a:ext cx="3643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й категории Траху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желика 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69240" y="621504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</a:rPr>
              <a:t>Краснодар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142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ь – и мач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ать-и-мачеха - монотипный род многолетних травянистых растений семейства Астровые , или Сложноцветные. Единственный вид - мать-и-мачеха обыкновенная. Она зацветает рано: средний срок появления цветов — чуть позже середины апреля.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ноголетнее травянистое растение до 25 см высоты. Корневище ползучее, ветвистое. Цветоносные стебли отрастают рано весной до появления листьев, прямые, паутинисто -опущенные, густо усажены продолговато - яйцевидными, острыми, буро-красными чешуевидными листьями. Зеленые листья появляются после цветения растения. Верхняя сторона листа зеленая, гладкая, холодная(«мачеха»), нижняя-беловойлочная, бархатистая, мягкая и теплая(«мать»)- отсюда русское название растения. Другие названия : двоелистник, камчужная трава, мать-трав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ноголетнее растение широко распространено в Евразии, на Кавказе, в Сибире и     Средней Азии.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Растет на влажных глинистых и суглинистых почвах по канавам, берегам рек и ручьев, на глинистых склонах, в населенных пунктах у домов, обычно небольшими зарослями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Родовое название лат. Tussilago, inis f.,может быть переведено как «кашлегон» (происходит от лат. Tusis ib f. “кашель» и лат. ago,ere “прогонять») Это название связано с медикаментозным применением растения как средство от кашля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народной медицине листья и цветы применяют в виде отвара как жаропонижающее,общеукрепляющее при воспаление слизистых оболочек,язве желудка,заболевании почек,головной боли и т.д. Наружно листья применяются при ранах,нарывах,опухолях. Сок из свежих листьев обладают антисептическим,противовоспалительным действием. Сок применяют при насморке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листьях и цветках этого весеннего растения содержатся активные вещества, обладающие самыми разными целебными свойствами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то не единственное лекарственное растение которое растет в нашей местности. У нас встречаются такие растения как ромашка обыкновенная, мята перечная, подорожник , шиповник, крапива, тысячелистник, зверобой, черемуха, чистотел и много других. Рассмотрим некоторые из ни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sd2.uchebalegko.ru/tw_files2/urls_1062/5/d-4417/4417_html_6a418c17.jpg"/>
          <p:cNvPicPr/>
          <p:nvPr/>
        </p:nvPicPr>
        <p:blipFill>
          <a:blip r:embed="rId1"/>
          <a:stretch/>
        </p:blipFill>
        <p:spPr>
          <a:xfrm>
            <a:off x="2857680" y="2500200"/>
            <a:ext cx="56433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Где бы вы ни были, на лугу, в огороде, вы непременно заметите многолетнее травянистое растение с широкими листьями – подорожник. Подорожник – обычный многолетний сорняк, тем не менее, это удивительное растение.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«След белого человека»,— говорили североамериканские индейцы, глядя на невзрачное растеньице с розеткой яйцевидных плотных листьев на длинных широких черешках. Почему же индейцы Северной Америки считают подорожник «следом белого человека»? Да потому что появилось это растение вместе с первыми европейцами. До этого в Америке не было подорожника. И вырастал он именно там, где ступала нога европейца, Суеверные местные жители приписывали это чудодейственной силе и могуществу белого человека. Со страхом, а нередко и с негодованием смотрели они, с какой неимоверной быстротой размножался пришелец из Европы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онечно же, никакого чуда не было. Просто природа наделила это растение способностью распространяться с помощью человека, животных. Осенью, когда начинаются дожди и слякоть, созревают семена подорожника. От сырости они превращаются в клейкие комочки и вместе с грязью на обуви человека или копытах животных переносятся на далекие расстояния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дорожник с давних пор широко используется как лечебное средство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твар листьев подорожника — старинное отхаркивающее средство при лечении бронхита и коклюша. Полезен настой подорожника и при туберкулезе легких. Теплый чай из листьев этого растения используют для полоскания горла при ангин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http://sd2.uchebalegko.ru/tw_files2/urls_1062/5/d-4417/4417_html_304c641.jpg"/>
          <p:cNvPicPr/>
          <p:nvPr/>
        </p:nvPicPr>
        <p:blipFill>
          <a:blip r:embed="rId1"/>
          <a:stretch/>
        </p:blipFill>
        <p:spPr>
          <a:xfrm>
            <a:off x="5643720" y="285840"/>
            <a:ext cx="320508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500200"/>
            <a:ext cx="857232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на ромашки — Америка. Ромашка — как сорняк, растущий на полях. Попала вместе с американским зерном в трюмы пароходов, затем поехала по железнодорожным путям. В мешках оказались дырки, в полу вагонов — щели, и мелкие семена американской ромашки, ехавшей «зайцем», сеялись по полотну железной дороги. Вскоре насыпи покрылись ранее невиданной ароматной травы. Так ромашка расселилась повсеместно и попала в аптеку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: Сбор ромашки проводится вручную, ощипывая только корзиночки. Сушат осторожно во избежание осыпания цветков. При заготовке дикорастущей ромашки возможен ошибочный сбор других видов, похожих на аптечную ромашку, имеющих также белые цветки и носящих в быту то же название, употребление которых, однако не допускается 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й из ромашки с медом и сахаром дают пить детям от простуды. Выпейте отвар из ромашки на ночь — сон будет крепким и спокойным. Применяют её от простуды и кашля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571760" y="214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Ром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валерьяна"/>
          <p:cNvPicPr/>
          <p:nvPr/>
        </p:nvPicPr>
        <p:blipFill>
          <a:blip r:embed="rId1"/>
          <a:stretch/>
        </p:blipFill>
        <p:spPr>
          <a:xfrm>
            <a:off x="6929280" y="4929120"/>
            <a:ext cx="2052720" cy="192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листья мать - мачехи"/>
          <p:cNvPicPr/>
          <p:nvPr/>
        </p:nvPicPr>
        <p:blipFill>
          <a:blip r:embed="rId2"/>
          <a:stretch/>
        </p:blipFill>
        <p:spPr>
          <a:xfrm>
            <a:off x="4211640" y="4859280"/>
            <a:ext cx="2503440" cy="1878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чёрная смородина"/>
          <p:cNvPicPr/>
          <p:nvPr/>
        </p:nvPicPr>
        <p:blipFill>
          <a:blip r:embed="rId3"/>
          <a:stretch/>
        </p:blipFill>
        <p:spPr>
          <a:xfrm>
            <a:off x="2500200" y="3500280"/>
            <a:ext cx="1873440" cy="1498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кторина «Лекарственные растени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28920" y="1571400"/>
            <a:ext cx="621504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натёр ногу в пути. Как облегчить бо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кая ягода заменяет лим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лоды каких кустарников богаты витамином 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Какими лечебными свойствами обладает мать – мачех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ую траву любят кошки? При каких болезнях она помога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клюква"/>
          <p:cNvPicPr/>
          <p:nvPr/>
        </p:nvPicPr>
        <p:blipFill>
          <a:blip r:embed="rId4"/>
          <a:stretch/>
        </p:blipFill>
        <p:spPr>
          <a:xfrm>
            <a:off x="6643800" y="3500280"/>
            <a:ext cx="2160360" cy="144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цеты мать - мачехи"/>
          <p:cNvPicPr/>
          <p:nvPr/>
        </p:nvPicPr>
        <p:blipFill>
          <a:blip r:embed="rId5"/>
          <a:stretch/>
        </p:blipFill>
        <p:spPr>
          <a:xfrm>
            <a:off x="4643280" y="3573360"/>
            <a:ext cx="1667160" cy="160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подорожник"/>
          <p:cNvPicPr/>
          <p:nvPr/>
        </p:nvPicPr>
        <p:blipFill>
          <a:blip r:embed="rId6"/>
          <a:stretch/>
        </p:blipFill>
        <p:spPr>
          <a:xfrm>
            <a:off x="179280" y="462600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шиплвник"/>
          <p:cNvPicPr/>
          <p:nvPr/>
        </p:nvPicPr>
        <p:blipFill>
          <a:blip r:embed="rId7"/>
          <a:stretch/>
        </p:blipFill>
        <p:spPr>
          <a:xfrm>
            <a:off x="2357280" y="5000760"/>
            <a:ext cx="16639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Результаты исследования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C:\Documents and Settings\Надюшка\Local Settings\Temporary Internet Files\Content.Word\DSCN2154.jpg"/>
          <p:cNvPicPr/>
          <p:nvPr/>
        </p:nvPicPr>
        <p:blipFill>
          <a:blip r:embed="rId1"/>
          <a:stretch/>
        </p:blipFill>
        <p:spPr>
          <a:xfrm>
            <a:off x="37861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F:\Верщук Юлия\DSCN2160.jpg"/>
          <p:cNvPicPr/>
          <p:nvPr/>
        </p:nvPicPr>
        <p:blipFill>
          <a:blip r:embed="rId2"/>
          <a:stretch/>
        </p:blipFill>
        <p:spPr>
          <a:xfrm>
            <a:off x="5429160" y="114300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F:\Верщук Юлия\DSCN2157.jpg"/>
          <p:cNvPicPr/>
          <p:nvPr/>
        </p:nvPicPr>
        <p:blipFill>
          <a:blip r:embed="rId3"/>
          <a:stretch/>
        </p:blipFill>
        <p:spPr>
          <a:xfrm>
            <a:off x="1714680" y="1143000"/>
            <a:ext cx="3078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тзы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 с радостью отвечала на вопросы викторины. Мне бы хотелось узнать о лечебных свойствах других растений. Катя, спасибо тебе!                                                                         Анастасия Крив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 поразило разнообразие лекарственных растений и увлекла  их красота. Катя с такой теплотой о них нам рассказывала, что мне захотелось подробнее узнать о папоротниках.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ем Буд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 про мать – и – мачеху  был очень интересным. А ещё мне понравилась викторина.  Я бы хотел узнать о лекарственных растениях Африки.                                                 Александр Удов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воём рассказе, Катя, мне понравилось всё. Я бы хотела подробнее узнать о жизни лекарственных растений моря.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яна Ткач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 заключении я задаю себе вопросы: «Чем для меня была полезна эта работа?», «Чему она научила?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о-первых, так как я человек любопытный, то  узнала много нового, интересного и полезного. Для ответа на многие вопросы мне понадобилось разные источники информации, поэтому я училась работать с источниками. 3.Мне было трудно, но я старалась находить и выделять главное в огромном мире информации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Изучив литературу я поняла, почему растение получило своё название и как оно переводится с латинского. Для чего его собирают и какие болезни леч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А еще то, что это растение не только лекарственное. Весной пчелы с трудом разыскивают себе пропитание -цветов еще мало. И вот тут-то их и выручает мать-и-мачеха : она еще и неплохой медонос. Во всяком случае , пчелы охотно летят к ней. Ведь он ценный ранневесенний медонос, дающий пчелам нектар и пыльц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Литература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1430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октор Ужегов. «Золотая книга народной медицины».   Москва.: «Вече», 2005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Н.Я. Дмитриева, И.П.Товпинец «Естествознание». М.: Просвещение, 2006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лешаков А.А. «Мир вокруг нас» М.: Просвещение, 2005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Славгородская Л.Н «Лекарственные растения. Полный справочник». Ростов – на Дону.: Феникс, 2005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Андреев В.Е «Многообразие растений» М.: Просвещение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268360" y="260280"/>
            <a:ext cx="58755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и рассматривая растения на улице, в лесу, на лугу и узнав, что они могут помочь здоровью человека. Решила узнать о их значимости в жизни людей, их целебные свойства, правила сбора. Поэтому мной был разработан экологический проект «Лекарственные растения моей мест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627280" y="3571920"/>
            <a:ext cx="61214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28920" y="3643200"/>
            <a:ext cx="6357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лекарственные растения моей местности, правила их сбора, применения для оздоровления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371320" y="21420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Были поставлены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627280" y="1486080"/>
            <a:ext cx="6121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общить знания о лекарственных растениях нашей местности; изучить растения; выяснить значение лекарственных растений для человека; определить вред, который человек наносит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звивать навыки исследова-тельск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ная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ь бережное отноше-ние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Гипоте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ченики узнают, как могут обыкновенные растения ближайшего окружения  помочь здоровью человека, то будут бережнее к ним относ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Методы исследования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14400" y="160020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 стен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викто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ие интервью у одн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Этапы исследования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8920" y="1357200"/>
            <a:ext cx="65008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-й этап- 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-й этап — исследовательский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сещ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о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ие интервью у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материала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3-й эта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обобще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ный час в 4 «А» классе на 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карственные раст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– викторина «Знаете ли вы лекарственные растения вашей местност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– викторина «Звёздный ча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раждение побе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мультимедийной презентаци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9" descr="C:\Documents and Settings\Надюшка\Рабочий стол\ромашки.jpg"/>
          <p:cNvPicPr/>
          <p:nvPr/>
        </p:nvPicPr>
        <p:blipFill>
          <a:blip r:embed="rId1"/>
          <a:stretch/>
        </p:blipFill>
        <p:spPr>
          <a:xfrm>
            <a:off x="571680" y="5143680"/>
            <a:ext cx="242856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C:\Documents and Settings\Надюшка\Рабочий стол\огоньки.jpg"/>
          <p:cNvPicPr/>
          <p:nvPr/>
        </p:nvPicPr>
        <p:blipFill>
          <a:blip r:embed="rId2"/>
          <a:stretch/>
        </p:blipFill>
        <p:spPr>
          <a:xfrm>
            <a:off x="3357720" y="5143680"/>
            <a:ext cx="2428560" cy="1500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колько существует видов растени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1785960"/>
            <a:ext cx="8329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ения разных видов люди находят практически повсюду – на суше, в море от засушливых пустынь до лесов, где льют бесконечные тропические дожди. Растения могут быть на теле животного и внутри него. К растениям относятся и мельчайшие бактерии, и одноклеточные водоросли, такие крохотные, что увидеть их можно лишь в микроскоп, и огромные деревья, например гигантские секвойи. В целом обширное и пёстрое царство растений насчитывает более 350000 видов. Отдельных экземпляров растений в мире больше, чем животных. Растения на Земле – начало всего жи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C:\Documents and Settings\Надюшка\Рабочий стол\ели.jpg"/>
          <p:cNvPicPr/>
          <p:nvPr/>
        </p:nvPicPr>
        <p:blipFill>
          <a:blip r:embed="rId3"/>
          <a:stretch/>
        </p:blipFill>
        <p:spPr>
          <a:xfrm>
            <a:off x="6143760" y="5143680"/>
            <a:ext cx="2571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 чём отличие между растениями и животным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1680" y="1643040"/>
            <a:ext cx="164304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571840" y="1643040"/>
            <a:ext cx="1008000" cy="337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627280" y="2276640"/>
            <a:ext cx="1217520" cy="337320"/>
          </a:xfrm>
          <a:prstGeom prst="rect">
            <a:avLst/>
          </a:prstGeom>
          <a:solidFill>
            <a:srgbClr val="f1f9f9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643120" y="2857680"/>
            <a:ext cx="868320" cy="337320"/>
          </a:xfrm>
          <a:prstGeom prst="rect">
            <a:avLst/>
          </a:prstGeom>
          <a:solidFill>
            <a:srgbClr val="00b0f0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8"/>
          <p:cNvSpPr/>
          <p:nvPr/>
        </p:nvSpPr>
        <p:spPr>
          <a:xfrm rot="570000">
            <a:off x="3720960" y="18493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9"/>
          <p:cNvSpPr/>
          <p:nvPr/>
        </p:nvSpPr>
        <p:spPr>
          <a:xfrm>
            <a:off x="4000680" y="2357280"/>
            <a:ext cx="564840" cy="15084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0"/>
          <p:cNvSpPr/>
          <p:nvPr/>
        </p:nvSpPr>
        <p:spPr>
          <a:xfrm rot="20934000">
            <a:off x="3712680" y="28526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5072040" y="2643120"/>
            <a:ext cx="1873440" cy="58068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0a05"/>
                </a:solidFill>
                <a:latin typeface="Arial"/>
              </a:rPr>
              <a:t>Минер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0a05"/>
                </a:solidFill>
                <a:latin typeface="Arial"/>
              </a:rPr>
              <a:t>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29200" y="1474920"/>
            <a:ext cx="1047600" cy="1231920"/>
          </a:xfrm>
          <a:prstGeom prst="rect">
            <a:avLst/>
          </a:prstGeom>
          <a:ln w="0">
            <a:noFill/>
          </a:ln>
        </p:spPr>
      </p:pic>
      <p:sp>
        <p:nvSpPr>
          <p:cNvPr id="72" name="Круговая стрелка 13"/>
          <p:cNvSpPr/>
          <p:nvPr/>
        </p:nvSpPr>
        <p:spPr>
          <a:xfrm rot="16200000">
            <a:off x="4750560" y="2392560"/>
            <a:ext cx="571320" cy="642960"/>
          </a:xfrm>
          <a:custGeom>
            <a:avLst/>
            <a:gdLst>
              <a:gd name="textAreaLeft" fmla="*/ 108720 w 571320"/>
              <a:gd name="textAreaRight" fmla="*/ 462600 w 571320"/>
              <a:gd name="textAreaTop" fmla="*/ 119160 h 642960"/>
              <a:gd name="textAreaBottom" fmla="*/ 523800 h 642960"/>
            </a:gdLst>
            <a:ahLst/>
            <a:rect l="textAreaLeft" t="textAreaTop" r="textAreaRight" b="textAreaBottom"/>
            <a:pathLst>
              <a:path w="571500" h="642938">
                <a:moveTo>
                  <a:pt x="35719" y="321469"/>
                </a:moveTo>
                <a:lnTo>
                  <a:pt x="35719" y="321469"/>
                </a:lnTo>
                <a:arcTo wR="250031" hR="285750" stAng="10800000" swAng="9820822"/>
                <a:lnTo>
                  <a:pt x="562699" y="250551"/>
                </a:lnTo>
                <a:lnTo>
                  <a:pt x="500062" y="321469"/>
                </a:lnTo>
                <a:lnTo>
                  <a:pt x="419824" y="250551"/>
                </a:lnTo>
                <a:lnTo>
                  <a:pt x="454282" y="250551"/>
                </a:lnTo>
                <a:lnTo>
                  <a:pt x="454282" y="250551"/>
                </a:lnTo>
                <a:arcTo wR="178594" hR="214313" stAng="-1369270" swAng="-9430711"/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7527960" y="1616040"/>
            <a:ext cx="1311120" cy="163368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право 15"/>
          <p:cNvSpPr/>
          <p:nvPr/>
        </p:nvSpPr>
        <p:spPr>
          <a:xfrm rot="10800000">
            <a:off x="6215040" y="1857240"/>
            <a:ext cx="128592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6000840" y="207180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орг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щ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3571920"/>
            <a:ext cx="17272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6"/>
          <p:cNvSpPr/>
          <p:nvPr/>
        </p:nvSpPr>
        <p:spPr>
          <a:xfrm>
            <a:off x="2428920" y="3643200"/>
            <a:ext cx="20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движу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6357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гают, ле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вают, прыг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571680" y="4357800"/>
            <a:ext cx="164304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Нерв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9"/>
          <p:cNvSpPr/>
          <p:nvPr/>
        </p:nvSpPr>
        <p:spPr>
          <a:xfrm>
            <a:off x="2500200" y="4500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7000920" y="45007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714240" y="5786280"/>
            <a:ext cx="15004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2"/>
          <p:cNvSpPr/>
          <p:nvPr/>
        </p:nvSpPr>
        <p:spPr>
          <a:xfrm>
            <a:off x="2428920" y="5786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ут до конц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3"/>
          <p:cNvSpPr/>
          <p:nvPr/>
        </p:nvSpPr>
        <p:spPr>
          <a:xfrm>
            <a:off x="5429160" y="5786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ут до половой зрел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жды весной мы ездили отдыхать на берег реки. Издалека я увидела облако желтеньких цветов, ярких, будто маленькие электрические лампочки, которые зажгла сама весна. Цветки были похожи на одуванчики. Мне стало очень интересно и я спросила у мамы: «Что это за огоньки вдали?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 ответила: «Это мать-и-мачеха-лекарственное растение» Меня очень заинтересовало название растения и как им лечатся? Приехав домой я открыла книгу и стала читать. Вот что я узнала про этот цвет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ое время года имеет множество примет. Весна даже больше , чем другое время года. Потому что весной ежедневно происходит что-то новое , что-то меняется. И главное очень наглядно. Одна из самых значительных примет весны -зацветание мать-и-мач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sd2.uchebalegko.ru/tw_files2/urls_1062/5/d-4417/4417_html_585074e8.jpg"/>
          <p:cNvPicPr/>
          <p:nvPr/>
        </p:nvPicPr>
        <p:blipFill>
          <a:blip r:embed="rId1"/>
          <a:stretch/>
        </p:blipFill>
        <p:spPr>
          <a:xfrm>
            <a:off x="2857680" y="3929040"/>
            <a:ext cx="5000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123</cp:lastModifiedBy>
  <dcterms:modified xsi:type="dcterms:W3CDTF">2017-08-22T05:21:40Z</dcterms:modified>
  <cp:revision>50</cp:revision>
  <dc:subject/>
  <dc:title>Light in the forest</dc:title>
</cp:coreProperties>
</file>