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33CB-638B-472E-903F-AAF2A90B27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C635-481C-4370-B621-E5271E0D39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4D56-BEEC-4421-B1CF-892D61FA15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5802-34A1-4C77-B5CC-D177E72993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6E69-AED3-4FC9-B1EB-EFE49159C6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677B-A9CF-4236-95E2-52020DBE30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CC8C-C4E6-4F61-850C-9DE8F903E5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C209-BEA7-454F-B0E7-F8ECD4924B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2166-1480-42BF-9CB4-8B934314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77C0-71C7-41B9-967F-099E07AF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EF5F-1FFA-4E26-BC79-F3FD1507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74B2-77A0-43B1-BAE2-A373A054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47F6-0346-4632-B177-1A173971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416E-E0E3-4910-9A1C-41464716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DF50-03B0-4B85-9524-08EBD7CC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C0B6-57DA-4473-BF8B-752B5B60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F687-37F2-426E-BBE7-A957500F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F413-23AD-4E40-B975-8443B70F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AB2D-C669-49F6-839C-660FB0EE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BDA2-ED41-4B86-97BB-634E683B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039E-1A58-4539-9C99-D7257DF2C5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86;&#1089;,_&#1050;&#1072;&#1088;&#1083;_&#1060;&#1088;&#1080;&#1076;&#1088;&#1080;&#1093;_&#1061;&#1088;&#1080;&#1089;&#1090;&#1080;&#1072;&#1085;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85960"/>
            <a:ext cx="7772400" cy="18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Минералы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графия 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5188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7. Кварц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(поддаётся обработке алмазом, царапает стекл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176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тические приб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е- и радио аппа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велирное д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ерамическая промышл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кварц"/>
          <p:cNvPicPr/>
          <p:nvPr/>
        </p:nvPicPr>
        <p:blipFill>
          <a:blip r:embed="rId1"/>
          <a:stretch/>
        </p:blipFill>
        <p:spPr>
          <a:xfrm>
            <a:off x="4284720" y="2708280"/>
            <a:ext cx="455436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5188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8. Топаз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(поддаётся обработке алмазом, царапает стекл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176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велирные изде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ая медиц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топаз"/>
          <p:cNvPicPr/>
          <p:nvPr/>
        </p:nvPicPr>
        <p:blipFill>
          <a:blip r:embed="rId1"/>
          <a:stretch/>
        </p:blipFill>
        <p:spPr>
          <a:xfrm>
            <a:off x="3995640" y="2349360"/>
            <a:ext cx="476244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5188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9. Корунд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(поддаётся обработке алмазом, царапает стекл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176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велирные изде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неупорный и абразивный матери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иоэлектронная промышл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корунд"/>
          <p:cNvPicPr/>
          <p:nvPr/>
        </p:nvPicPr>
        <p:blipFill>
          <a:blip r:embed="rId1"/>
          <a:stretch/>
        </p:blipFill>
        <p:spPr>
          <a:xfrm>
            <a:off x="5151600" y="1989000"/>
            <a:ext cx="359388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5188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0. Алмаз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(режет стекл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176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велирные изделия (бриллиан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готовление ножей, свёрл, резцо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алмаз"/>
          <p:cNvPicPr/>
          <p:nvPr/>
        </p:nvPicPr>
        <p:blipFill>
          <a:blip r:embed="rId1"/>
          <a:stretch/>
        </p:blipFill>
        <p:spPr>
          <a:xfrm>
            <a:off x="4211640" y="2492280"/>
            <a:ext cx="467532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6840" y="1599840"/>
            <a:ext cx="43290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езные ископаемы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минералы и горные породы земной коры, которые человек использует в своей хозяйствен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928800" y="357120"/>
            <a:ext cx="72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олезные ископаем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C:\Documents and Settings\Admin\Рабочий стол\nefti.bmp"/>
          <p:cNvPicPr/>
          <p:nvPr/>
        </p:nvPicPr>
        <p:blipFill>
          <a:blip r:embed="rId1"/>
          <a:stretch/>
        </p:blipFill>
        <p:spPr>
          <a:xfrm>
            <a:off x="4784760" y="1643040"/>
            <a:ext cx="41720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 составу и особенностям использования полезные ископаемые объединяют в три групп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435780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зные ископаемые распределены в земной коре неравномер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копления полезных ископаемых в отдельные местах называют -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есторождениям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а на большой площади – так называемые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винции и бассейны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428760" y="2214720"/>
            <a:ext cx="2214360" cy="192852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d9"/>
                </a:solidFill>
                <a:latin typeface="Arial"/>
              </a:rPr>
              <a:t>горрооооооооооооооооооттю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3571920" y="2214720"/>
            <a:ext cx="2286000" cy="185724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d9"/>
                </a:solidFill>
                <a:latin typeface="Arial"/>
              </a:rPr>
              <a:t>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6572160" y="2214720"/>
            <a:ext cx="2143080" cy="185724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d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500040" y="2357280"/>
            <a:ext cx="19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юч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менный уголь, нефть и природный 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6"/>
          <p:cNvSpPr/>
          <p:nvPr/>
        </p:nvSpPr>
        <p:spPr>
          <a:xfrm>
            <a:off x="3643200" y="2286000"/>
            <a:ext cx="214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лличе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руды): железные руды, магнитные руды, медный колчедан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7"/>
          <p:cNvSpPr/>
          <p:nvPr/>
        </p:nvSpPr>
        <p:spPr>
          <a:xfrm>
            <a:off x="6572160" y="2286000"/>
            <a:ext cx="192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металлические (нерудные)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менная соль, фосфориты, алмазы, песок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Выветривание и перемещение горных по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вид нашей планеты постоянно изменя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му способствую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нутренние процес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оисходящие в недрах Земли: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новение гор и впа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ржение вулк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етряс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нешние процес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оисходящие под действием Сол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и них важное значение имеет </a:t>
            </a: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выветри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ВЫВЕТРИ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ветриванием называется процесс разрушения и изменения горных пород на поверхности суши под действием атмосферного воздуха, солнечных лучей, грунтовых и поверхностных вод и жизнедеятельности организ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Выделяю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000080"/>
          <a:ext cx="8229600" cy="5316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d9"/>
                          </a:solidFill>
                          <a:latin typeface="Arial"/>
                        </a:rPr>
                        <a:t>Вид выветри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18720">
                      <a:solidFill>
                        <a:srgbClr val="ffffd9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d9"/>
                          </a:solidFill>
                          <a:latin typeface="Arial"/>
                        </a:rPr>
                        <a:t>К чему привод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18720">
                      <a:solidFill>
                        <a:srgbClr val="ffffd9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d9"/>
                          </a:solidFill>
                          <a:latin typeface="Arial"/>
                        </a:rPr>
                        <a:t>Пр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18720">
                      <a:solidFill>
                        <a:srgbClr val="ffffd9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d9"/>
                          </a:solidFill>
                          <a:latin typeface="Arial"/>
                        </a:rPr>
                        <a:t>Чаще встречает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18720">
                      <a:solidFill>
                        <a:srgbClr val="ffffd9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1872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</a:t>
                      </a:r>
                      <a:r>
                        <a:rPr b="0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механическому распаду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ных п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1872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ое колебание </a:t>
                      </a:r>
                      <a:r>
                        <a:rPr b="0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емператур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оздуха и </a:t>
                      </a:r>
                      <a:r>
                        <a:rPr b="0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вод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попадающая в трещины п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1872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айонах с </a:t>
                      </a:r>
                      <a:r>
                        <a:rPr b="0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ухим и жарким клима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1872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64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</a:t>
                      </a:r>
                      <a:r>
                        <a:rPr b="0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изменению состав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ералов в горных пород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жную роль играет </a:t>
                      </a:r>
                      <a:r>
                        <a:rPr b="0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вод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которая двигаясь в толще земной коры растворяет их и производит сложные изме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айонах с </a:t>
                      </a:r>
                      <a:r>
                        <a:rPr b="0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жарким и влажным клима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</a:t>
                      </a:r>
                      <a:r>
                        <a:rPr b="0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механическому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роблению и </a:t>
                      </a:r>
                      <a:r>
                        <a:rPr b="0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химическим измене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действие различных </a:t>
                      </a:r>
                      <a:r>
                        <a:rPr b="0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рганизмов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которые извлекают из пород и поглощают одни химические элементы, а выделяют друг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 </a:t>
                      </a:r>
                      <a:r>
                        <a:rPr b="0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всех района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де встречаются живые организм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Деятельность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142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ое влияние на разрушение горных пород оказыва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ияние челове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ыча полезных ископае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йка гигантских промышленных пред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кладка дорог и тоннелей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Documents and Settings\Admin\Рабочий стол\стройка.bmp"/>
          <p:cNvPicPr/>
          <p:nvPr/>
        </p:nvPicPr>
        <p:blipFill>
          <a:blip r:embed="rId1"/>
          <a:stretch/>
        </p:blipFill>
        <p:spPr>
          <a:xfrm>
            <a:off x="1000080" y="3857760"/>
            <a:ext cx="3424320" cy="2555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Documents and Settings\Admin\Рабочий стол\метро.bmp"/>
          <p:cNvPicPr/>
          <p:nvPr/>
        </p:nvPicPr>
        <p:blipFill>
          <a:blip r:embed="rId2"/>
          <a:stretch/>
        </p:blipFill>
        <p:spPr>
          <a:xfrm>
            <a:off x="6000840" y="3500280"/>
            <a:ext cx="2643120" cy="29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388764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Твердость минералов</a:t>
            </a:r>
            <a:br>
              <a:rPr sz="4400"/>
            </a:b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и их приме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9640" y="3357360"/>
            <a:ext cx="81360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кала́ Мо́о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 — набор эталонных минералов для определения твердости методом царап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ожена в 1811 году немецким минералогом </a:t>
            </a:r>
            <a:r>
              <a:rPr b="0" lang="ru-RU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Фридрихом Моос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200px-Фрідріх_Моос"/>
          <p:cNvPicPr/>
          <p:nvPr/>
        </p:nvPicPr>
        <p:blipFill>
          <a:blip r:embed="rId2"/>
          <a:stretch/>
        </p:blipFill>
        <p:spPr>
          <a:xfrm>
            <a:off x="5661000" y="260280"/>
            <a:ext cx="24051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. 25, 26 -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чит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.93 задание № 4, 5 (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 тетрад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Эталонные минералы шкалы твёрдости Мо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предложил считать твёрдость талька (самого мягкого минерала) равной 1, а алмаз (самый твёрдый минерал) – 1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 ними располагаются минералы с промежуточными значениями твёрд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вестно, что более твёрдый минерал оставляет царапину на более мягком.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 на поверхности кварца ортоклаз не оставляет следа, а топаз оставляет. Это значит, что кварц твёрже ортоклаза, но мягче топаз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3631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Тальк </a:t>
            </a:r>
            <a:br>
              <a:rPr sz="44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(царапается ногте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38894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ы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пор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в промышленности: бумажной, пищевой, лакокрасочной и других отрасл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тальк"/>
          <p:cNvPicPr/>
          <p:nvPr/>
        </p:nvPicPr>
        <p:blipFill>
          <a:blip r:embed="rId1"/>
          <a:stretch/>
        </p:blipFill>
        <p:spPr>
          <a:xfrm>
            <a:off x="4500720" y="2205000"/>
            <a:ext cx="435600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3631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2. Гипс </a:t>
            </a:r>
            <a:br>
              <a:rPr sz="44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(царапается ногте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38894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велирные изде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меты интерь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гипс 2"/>
          <p:cNvPicPr/>
          <p:nvPr/>
        </p:nvPicPr>
        <p:blipFill>
          <a:blip r:embed="rId1"/>
          <a:stretch/>
        </p:blipFill>
        <p:spPr>
          <a:xfrm>
            <a:off x="4500720" y="2421000"/>
            <a:ext cx="43592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5188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3. Кальцит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(царапается медной монето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38894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мическое производ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елочны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кальцит"/>
          <p:cNvPicPr/>
          <p:nvPr/>
        </p:nvPicPr>
        <p:blipFill>
          <a:blip r:embed="rId1"/>
          <a:stretch/>
        </p:blipFill>
        <p:spPr>
          <a:xfrm>
            <a:off x="4500720" y="2421000"/>
            <a:ext cx="410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5188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4. Флюорит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(царапается ножом и оконным стекло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176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омышлен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п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родной медиц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ерамическом производ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флюорит"/>
          <p:cNvPicPr/>
          <p:nvPr/>
        </p:nvPicPr>
        <p:blipFill>
          <a:blip r:embed="rId1"/>
          <a:stretch/>
        </p:blipFill>
        <p:spPr>
          <a:xfrm>
            <a:off x="4643280" y="2421000"/>
            <a:ext cx="411804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5188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5. Апатит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(царапается ножом и оконным стекло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176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ство удобр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велирные изде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апатит"/>
          <p:cNvPicPr/>
          <p:nvPr/>
        </p:nvPicPr>
        <p:blipFill>
          <a:blip r:embed="rId1"/>
          <a:stretch/>
        </p:blipFill>
        <p:spPr>
          <a:xfrm>
            <a:off x="4716360" y="2421000"/>
            <a:ext cx="414504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5188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6. Ортоклаз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(царапается напильнико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176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сырье в стекольной и керамической промыш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родной медиц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ортоклаз"/>
          <p:cNvPicPr/>
          <p:nvPr/>
        </p:nvPicPr>
        <p:blipFill>
          <a:blip r:embed="rId1"/>
          <a:stretch/>
        </p:blipFill>
        <p:spPr>
          <a:xfrm>
            <a:off x="4572000" y="2421000"/>
            <a:ext cx="410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08:47:50Z</dcterms:created>
  <dc:creator>pavel</dc:creator>
  <dc:description/>
  <dc:language>en-US</dc:language>
  <cp:lastModifiedBy>User</cp:lastModifiedBy>
  <dcterms:modified xsi:type="dcterms:W3CDTF">2012-02-16T08:46:14Z</dcterms:modified>
  <cp:revision>20</cp:revision>
  <dc:subject/>
  <dc:title>Слайд 1</dc:title>
</cp:coreProperties>
</file>