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0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92236-80F0-4B0C-BAF8-E36017622A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2BAFB-B1CD-4309-B0CE-E0B6C7F263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9A11F-6DCA-4371-9F89-C1D10BBBD4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54EFB-0A2E-4B3A-BC52-A5245601EF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9B4C7-84A6-479A-B682-12CB091967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786D3-AC09-4898-A917-9E16F4EB24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E08DF-8841-4646-8D94-E93F6F0872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67372-9E19-4DFC-AAB5-F0561A9AD9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6C90-1D62-466C-B370-DABD22E73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08EF-1D93-45C5-AD02-7A2425C2C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21AF-B134-43F1-ADDF-B58A67067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0637-F2E4-43FC-A88B-4AE7A6543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4F41-5BF0-41DC-A69D-2F20F9558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6F93-4F7B-42B6-B72F-F06AB2749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623F-4342-4303-9E54-3B0A5F26A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2A54-CC60-4818-9083-7544E919E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BC39-CB3D-4F45-A0BC-0B952D14F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8BF6-D036-4C8B-9A39-A0110624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EC48-C37A-4177-A36B-13E7DD61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7E14-B563-4B00-A9C2-AF33DFB2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07813-8AC9-444E-A7A8-81660DE985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86;&#1086;&#1089;,_&#1050;&#1072;&#1088;&#1083;_&#1060;&#1088;&#1080;&#1076;&#1088;&#1080;&#1093;_&#1061;&#1088;&#1080;&#1089;&#1090;&#1080;&#1072;&#1085;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85960"/>
            <a:ext cx="7772400" cy="18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Минералы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ография 6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65188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7. Кварц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(поддаётся обработке алмазом, царапает стекл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41767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н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тические приб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ле- и радио аппара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ювелирное де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ерамическая промышл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кварц"/>
          <p:cNvPicPr/>
          <p:nvPr/>
        </p:nvPicPr>
        <p:blipFill>
          <a:blip r:embed="rId1"/>
          <a:stretch/>
        </p:blipFill>
        <p:spPr>
          <a:xfrm>
            <a:off x="4284720" y="2708280"/>
            <a:ext cx="455436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65188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8. Топаз 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(поддаётся обработке алмазом, царапает стекл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41767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н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ювелирные изде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ая медиц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топаз"/>
          <p:cNvPicPr/>
          <p:nvPr/>
        </p:nvPicPr>
        <p:blipFill>
          <a:blip r:embed="rId1"/>
          <a:stretch/>
        </p:blipFill>
        <p:spPr>
          <a:xfrm>
            <a:off x="3995640" y="2349360"/>
            <a:ext cx="476244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65188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9. Корунд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(поддаётся обработке алмазом, царапает стекл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41767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н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ювелирные изде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гнеупорный и абразивный матери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диоэлектронная промышл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корунд"/>
          <p:cNvPicPr/>
          <p:nvPr/>
        </p:nvPicPr>
        <p:blipFill>
          <a:blip r:embed="rId1"/>
          <a:stretch/>
        </p:blipFill>
        <p:spPr>
          <a:xfrm>
            <a:off x="5151600" y="1989000"/>
            <a:ext cx="3593880" cy="45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65188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10. Алмаз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(режет стекл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41767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н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ювелирные изделия (бриллиант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готовление ножей, свёрл, резцов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алмаз"/>
          <p:cNvPicPr/>
          <p:nvPr/>
        </p:nvPicPr>
        <p:blipFill>
          <a:blip r:embed="rId1"/>
          <a:stretch/>
        </p:blipFill>
        <p:spPr>
          <a:xfrm>
            <a:off x="4211640" y="2492280"/>
            <a:ext cx="467532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6840" y="1599840"/>
            <a:ext cx="43290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лезные ископаемы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это минералы и горные породы земной коры, которые человек использует в своей хозяйственн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"/>
          <p:cNvSpPr/>
          <p:nvPr/>
        </p:nvSpPr>
        <p:spPr>
          <a:xfrm>
            <a:off x="928800" y="357120"/>
            <a:ext cx="72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Полезные ископаем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C:\Documents and Settings\Admin\Рабочий стол\nefti.bmp"/>
          <p:cNvPicPr/>
          <p:nvPr/>
        </p:nvPicPr>
        <p:blipFill>
          <a:blip r:embed="rId1"/>
          <a:stretch/>
        </p:blipFill>
        <p:spPr>
          <a:xfrm>
            <a:off x="4784760" y="1643040"/>
            <a:ext cx="417204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о составу и особенностям использования полезные ископаемые объединяют в три группы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4357800"/>
            <a:ext cx="822960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езные ископаемые распределены в земной коре неравномер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копления полезных ископаемых в отдельные местах называют -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месторождениями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а на большой площади – так называемые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овинции и бассейны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3"/>
          <p:cNvSpPr/>
          <p:nvPr/>
        </p:nvSpPr>
        <p:spPr>
          <a:xfrm>
            <a:off x="428760" y="2214720"/>
            <a:ext cx="2214360" cy="1928520"/>
          </a:xfrm>
          <a:prstGeom prst="rect">
            <a:avLst/>
          </a:prstGeom>
          <a:solidFill>
            <a:srgbClr val="fffff7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d9"/>
                </a:solidFill>
                <a:latin typeface="Arial"/>
              </a:rPr>
              <a:t>горрооооооооооооооооооттюч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5"/>
          <p:cNvSpPr/>
          <p:nvPr/>
        </p:nvSpPr>
        <p:spPr>
          <a:xfrm>
            <a:off x="3571920" y="2214720"/>
            <a:ext cx="2286000" cy="1857240"/>
          </a:xfrm>
          <a:prstGeom prst="rect">
            <a:avLst/>
          </a:prstGeom>
          <a:solidFill>
            <a:srgbClr val="fffff7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d9"/>
                </a:solidFill>
                <a:latin typeface="Arial"/>
              </a:rPr>
              <a:t>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6"/>
          <p:cNvSpPr/>
          <p:nvPr/>
        </p:nvSpPr>
        <p:spPr>
          <a:xfrm>
            <a:off x="6572160" y="2214720"/>
            <a:ext cx="2143080" cy="1857240"/>
          </a:xfrm>
          <a:prstGeom prst="rect">
            <a:avLst/>
          </a:prstGeom>
          <a:solidFill>
            <a:srgbClr val="fffff7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d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5"/>
          <p:cNvSpPr/>
          <p:nvPr/>
        </p:nvSpPr>
        <p:spPr>
          <a:xfrm>
            <a:off x="500040" y="2357280"/>
            <a:ext cx="192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рючие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аменный уголь, нефть и природный г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6"/>
          <p:cNvSpPr/>
          <p:nvPr/>
        </p:nvSpPr>
        <p:spPr>
          <a:xfrm>
            <a:off x="3643200" y="2286000"/>
            <a:ext cx="214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аллическ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руды): железные руды, магнитные руды, медный колчедан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7"/>
          <p:cNvSpPr/>
          <p:nvPr/>
        </p:nvSpPr>
        <p:spPr>
          <a:xfrm>
            <a:off x="6572160" y="2286000"/>
            <a:ext cx="1928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металлические (нерудные)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менная соль, фосфориты, алмазы, песок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Выветривание и перемещение горных пор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ешний вид нашей планеты постоянно изменяет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му способствуют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нутренние процесс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роисходящие в недрах Земли: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никновение гор и впад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вержение вулк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емлетряс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нешние процесс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роисходящие под действием Солн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и них важное значение имеет </a:t>
            </a:r>
            <a:r>
              <a:rPr b="1" i="1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выветри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ВЫВЕТРИ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ветриванием называется процесс разрушения и изменения горных пород на поверхности суши под действием атмосферного воздуха, солнечных лучей, грунтовых и поверхностных вод и жизнедеятельности организм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Выделяю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57200" y="1000080"/>
          <a:ext cx="8229600" cy="53164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d9"/>
                          </a:solidFill>
                          <a:latin typeface="Arial"/>
                        </a:rPr>
                        <a:t>Вид выветри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d9"/>
                      </a:solidFill>
                    </a:lnL>
                    <a:lnR w="5760">
                      <a:solidFill>
                        <a:srgbClr val="ffffd9"/>
                      </a:solidFill>
                    </a:lnR>
                    <a:lnT w="5760">
                      <a:solidFill>
                        <a:srgbClr val="ffffd9"/>
                      </a:solidFill>
                    </a:lnT>
                    <a:lnB w="18720">
                      <a:solidFill>
                        <a:srgbClr val="ffffd9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d9"/>
                          </a:solidFill>
                          <a:latin typeface="Arial"/>
                        </a:rPr>
                        <a:t>К чему приводи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d9"/>
                      </a:solidFill>
                    </a:lnL>
                    <a:lnR w="5760">
                      <a:solidFill>
                        <a:srgbClr val="ffffd9"/>
                      </a:solidFill>
                    </a:lnR>
                    <a:lnT w="5760">
                      <a:solidFill>
                        <a:srgbClr val="ffffd9"/>
                      </a:solidFill>
                    </a:lnT>
                    <a:lnB w="18720">
                      <a:solidFill>
                        <a:srgbClr val="ffffd9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d9"/>
                          </a:solidFill>
                          <a:latin typeface="Arial"/>
                        </a:rPr>
                        <a:t>Прич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d9"/>
                      </a:solidFill>
                    </a:lnL>
                    <a:lnR w="5760">
                      <a:solidFill>
                        <a:srgbClr val="ffffd9"/>
                      </a:solidFill>
                    </a:lnR>
                    <a:lnT w="5760">
                      <a:solidFill>
                        <a:srgbClr val="ffffd9"/>
                      </a:solidFill>
                    </a:lnT>
                    <a:lnB w="18720">
                      <a:solidFill>
                        <a:srgbClr val="ffffd9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d9"/>
                          </a:solidFill>
                          <a:latin typeface="Arial"/>
                        </a:rPr>
                        <a:t>Чаще встречаетс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d9"/>
                      </a:solidFill>
                    </a:lnL>
                    <a:lnR w="5760">
                      <a:solidFill>
                        <a:srgbClr val="ffffd9"/>
                      </a:solidFill>
                    </a:lnR>
                    <a:lnT w="5760">
                      <a:solidFill>
                        <a:srgbClr val="ffffd9"/>
                      </a:solidFill>
                    </a:lnT>
                    <a:lnB w="18720">
                      <a:solidFill>
                        <a:srgbClr val="ffffd9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ическ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d9"/>
                      </a:solidFill>
                    </a:lnL>
                    <a:lnR w="5760">
                      <a:solidFill>
                        <a:srgbClr val="ffffd9"/>
                      </a:solidFill>
                    </a:lnR>
                    <a:lnT w="18720">
                      <a:solidFill>
                        <a:srgbClr val="ffffd9"/>
                      </a:solidFill>
                    </a:lnT>
                    <a:lnB w="5760">
                      <a:solidFill>
                        <a:srgbClr val="ffffd9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 </a:t>
                      </a:r>
                      <a:r>
                        <a:rPr b="0" i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механическому распаду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рных пор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d9"/>
                      </a:solidFill>
                    </a:lnL>
                    <a:lnR w="5760">
                      <a:solidFill>
                        <a:srgbClr val="ffffd9"/>
                      </a:solidFill>
                    </a:lnR>
                    <a:lnT w="18720">
                      <a:solidFill>
                        <a:srgbClr val="ffffd9"/>
                      </a:solidFill>
                    </a:lnT>
                    <a:lnB w="5760">
                      <a:solidFill>
                        <a:srgbClr val="ffffd9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кое колебание </a:t>
                      </a:r>
                      <a:r>
                        <a:rPr b="0" i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температуры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оздуха и </a:t>
                      </a:r>
                      <a:r>
                        <a:rPr b="0" i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вода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попадающая в трещины пор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d9"/>
                      </a:solidFill>
                    </a:lnL>
                    <a:lnR w="5760">
                      <a:solidFill>
                        <a:srgbClr val="ffffd9"/>
                      </a:solidFill>
                    </a:lnR>
                    <a:lnT w="18720">
                      <a:solidFill>
                        <a:srgbClr val="ffffd9"/>
                      </a:solidFill>
                    </a:lnT>
                    <a:lnB w="5760">
                      <a:solidFill>
                        <a:srgbClr val="ffffd9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районах с </a:t>
                      </a:r>
                      <a:r>
                        <a:rPr b="0" i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сухим и жарким климат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d9"/>
                      </a:solidFill>
                    </a:lnL>
                    <a:lnR w="5760">
                      <a:solidFill>
                        <a:srgbClr val="ffffd9"/>
                      </a:solidFill>
                    </a:lnR>
                    <a:lnT w="18720">
                      <a:solidFill>
                        <a:srgbClr val="ffffd9"/>
                      </a:solidFill>
                    </a:lnT>
                    <a:lnB w="5760">
                      <a:solidFill>
                        <a:srgbClr val="ffffd9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164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мическ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d9"/>
                      </a:solidFill>
                    </a:lnL>
                    <a:lnR w="5760">
                      <a:solidFill>
                        <a:srgbClr val="ffffd9"/>
                      </a:solidFill>
                    </a:lnR>
                    <a:lnT w="5760">
                      <a:solidFill>
                        <a:srgbClr val="ffffd9"/>
                      </a:solidFill>
                    </a:lnT>
                    <a:lnB w="5760">
                      <a:solidFill>
                        <a:srgbClr val="ffffd9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 </a:t>
                      </a:r>
                      <a:r>
                        <a:rPr b="0" i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изменению состава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нералов в горных пород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d9"/>
                      </a:solidFill>
                    </a:lnL>
                    <a:lnR w="5760">
                      <a:solidFill>
                        <a:srgbClr val="ffffd9"/>
                      </a:solidFill>
                    </a:lnR>
                    <a:lnT w="5760">
                      <a:solidFill>
                        <a:srgbClr val="ffffd9"/>
                      </a:solidFill>
                    </a:lnT>
                    <a:lnB w="5760">
                      <a:solidFill>
                        <a:srgbClr val="ffffd9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жную роль играет </a:t>
                      </a:r>
                      <a:r>
                        <a:rPr b="0" i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вода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которая двигаясь в толще земной коры растворяет их и производит сложные изме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d9"/>
                      </a:solidFill>
                    </a:lnL>
                    <a:lnR w="5760">
                      <a:solidFill>
                        <a:srgbClr val="ffffd9"/>
                      </a:solidFill>
                    </a:lnR>
                    <a:lnT w="5760">
                      <a:solidFill>
                        <a:srgbClr val="ffffd9"/>
                      </a:solidFill>
                    </a:lnT>
                    <a:lnB w="5760">
                      <a:solidFill>
                        <a:srgbClr val="ffffd9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районах с </a:t>
                      </a:r>
                      <a:r>
                        <a:rPr b="0" i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жарким и влажным климат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d9"/>
                      </a:solidFill>
                    </a:lnL>
                    <a:lnR w="5760">
                      <a:solidFill>
                        <a:srgbClr val="ffffd9"/>
                      </a:solidFill>
                    </a:lnR>
                    <a:lnT w="5760">
                      <a:solidFill>
                        <a:srgbClr val="ffffd9"/>
                      </a:solidFill>
                    </a:lnT>
                    <a:lnB w="5760">
                      <a:solidFill>
                        <a:srgbClr val="ffffd9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ческ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d9"/>
                      </a:solidFill>
                    </a:lnL>
                    <a:lnR w="5760">
                      <a:solidFill>
                        <a:srgbClr val="ffffd9"/>
                      </a:solidFill>
                    </a:lnR>
                    <a:lnT w="5760">
                      <a:solidFill>
                        <a:srgbClr val="ffffd9"/>
                      </a:solidFill>
                    </a:lnT>
                    <a:lnB w="5760">
                      <a:solidFill>
                        <a:srgbClr val="ffffd9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 </a:t>
                      </a:r>
                      <a:r>
                        <a:rPr b="0" i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механическому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роблению и </a:t>
                      </a:r>
                      <a:r>
                        <a:rPr b="0" i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химическим изменени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d9"/>
                      </a:solidFill>
                    </a:lnL>
                    <a:lnR w="5760">
                      <a:solidFill>
                        <a:srgbClr val="ffffd9"/>
                      </a:solidFill>
                    </a:lnR>
                    <a:lnT w="5760">
                      <a:solidFill>
                        <a:srgbClr val="ffffd9"/>
                      </a:solidFill>
                    </a:lnT>
                    <a:lnB w="5760">
                      <a:solidFill>
                        <a:srgbClr val="ffffd9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действие различных </a:t>
                      </a:r>
                      <a:r>
                        <a:rPr b="0" i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организмов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которые извлекают из пород и поглощают одни химические элементы, а выделяют друг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d9"/>
                      </a:solidFill>
                    </a:lnL>
                    <a:lnR w="5760">
                      <a:solidFill>
                        <a:srgbClr val="ffffd9"/>
                      </a:solidFill>
                    </a:lnR>
                    <a:lnT w="5760">
                      <a:solidFill>
                        <a:srgbClr val="ffffd9"/>
                      </a:solidFill>
                    </a:lnT>
                    <a:lnB w="5760">
                      <a:solidFill>
                        <a:srgbClr val="ffffd9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 </a:t>
                      </a:r>
                      <a:r>
                        <a:rPr b="0" i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всех районах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де встречаются живые организмы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d9"/>
                      </a:solidFill>
                    </a:lnL>
                    <a:lnR w="5760">
                      <a:solidFill>
                        <a:srgbClr val="ffffd9"/>
                      </a:solidFill>
                    </a:lnR>
                    <a:lnT w="5760">
                      <a:solidFill>
                        <a:srgbClr val="ffffd9"/>
                      </a:solidFill>
                    </a:lnT>
                    <a:lnB w="5760">
                      <a:solidFill>
                        <a:srgbClr val="ffffd9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Деятельность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2142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ое влияние на разрушение горных пород оказывае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лияние челове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быча полезных ископаем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ойка гигантских промышленных предпри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кладка дорог и тоннелей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C:\Documents and Settings\Admin\Рабочий стол\стройка.bmp"/>
          <p:cNvPicPr/>
          <p:nvPr/>
        </p:nvPicPr>
        <p:blipFill>
          <a:blip r:embed="rId1"/>
          <a:stretch/>
        </p:blipFill>
        <p:spPr>
          <a:xfrm>
            <a:off x="1000080" y="3857760"/>
            <a:ext cx="3424320" cy="2555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C:\Documents and Settings\Admin\Рабочий стол\метро.bmp"/>
          <p:cNvPicPr/>
          <p:nvPr/>
        </p:nvPicPr>
        <p:blipFill>
          <a:blip r:embed="rId2"/>
          <a:stretch/>
        </p:blipFill>
        <p:spPr>
          <a:xfrm>
            <a:off x="6000840" y="3500280"/>
            <a:ext cx="2643120" cy="29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388764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Твердость минералов</a:t>
            </a:r>
            <a:br>
              <a:rPr sz="4400"/>
            </a:b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и их примен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9640" y="3357360"/>
            <a:ext cx="81360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кала́ Мо́ос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 — набор эталонных минералов для определения твердости методом царапа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ложена в 1811 году немецким минералогом </a:t>
            </a:r>
            <a:r>
              <a:rPr b="0" lang="ru-RU" sz="3200" spc="-1" strike="noStrike" u="sng">
                <a:solidFill>
                  <a:srgbClr val="ff5050"/>
                </a:solidFill>
                <a:uFillTx/>
                <a:latin typeface="Arial"/>
                <a:hlinkClick r:id="rId1"/>
              </a:rPr>
              <a:t>Фридрихом Моосо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200px-Фрідріх_Моос"/>
          <p:cNvPicPr/>
          <p:nvPr/>
        </p:nvPicPr>
        <p:blipFill>
          <a:blip r:embed="rId2"/>
          <a:stretch/>
        </p:blipFill>
        <p:spPr>
          <a:xfrm>
            <a:off x="5661000" y="260280"/>
            <a:ext cx="240516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. 25, 26 -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чит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.93 задание № 4, 5 (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в тетрад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Эталонные минералы шкалы твёрдости Моо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предложил считать твёрдость талька (самого мягкого минерала) равной 1, а алмаз (самый твёрдый минерал) – 1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жду ними располагаются минералы с промежуточными значениями твёрд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вестно, что более твёрдый минерал оставляет царапину на более мягком.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пример, на поверхности кварца ортоклаз не оставляет следа, а топаз оставляет. Это значит, что кварц твёрже ортоклаза, но мягче топаз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36316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 algn="ctr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Тальк </a:t>
            </a:r>
            <a:br>
              <a:rPr sz="4400"/>
            </a:b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(царапается ногтем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388944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н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бы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пор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 в промышленности: бумажной, пищевой, лакокрасочной и других отрасл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тальк"/>
          <p:cNvPicPr/>
          <p:nvPr/>
        </p:nvPicPr>
        <p:blipFill>
          <a:blip r:embed="rId1"/>
          <a:stretch/>
        </p:blipFill>
        <p:spPr>
          <a:xfrm>
            <a:off x="4500720" y="2205000"/>
            <a:ext cx="435600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36316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2. Гипс </a:t>
            </a:r>
            <a:br>
              <a:rPr sz="4400"/>
            </a:b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(царапается ногтем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388944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н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ювелирные изде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меты интерь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оитель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диц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гипс 2"/>
          <p:cNvPicPr/>
          <p:nvPr/>
        </p:nvPicPr>
        <p:blipFill>
          <a:blip r:embed="rId1"/>
          <a:stretch/>
        </p:blipFill>
        <p:spPr>
          <a:xfrm>
            <a:off x="4500720" y="2421000"/>
            <a:ext cx="435924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65188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3. Кальцит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(царапается медной монетой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388944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н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оитель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имическое производ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елочные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кальцит"/>
          <p:cNvPicPr/>
          <p:nvPr/>
        </p:nvPicPr>
        <p:blipFill>
          <a:blip r:embed="rId1"/>
          <a:stretch/>
        </p:blipFill>
        <p:spPr>
          <a:xfrm>
            <a:off x="4500720" y="2421000"/>
            <a:ext cx="41036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65188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4. Флюорит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(царапается ножом и оконным стеклом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41767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н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ромышлен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опт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народной медиц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ерамическом производст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флюорит"/>
          <p:cNvPicPr/>
          <p:nvPr/>
        </p:nvPicPr>
        <p:blipFill>
          <a:blip r:embed="rId1"/>
          <a:stretch/>
        </p:blipFill>
        <p:spPr>
          <a:xfrm>
            <a:off x="4643280" y="2421000"/>
            <a:ext cx="4118040" cy="41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65188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5. Апатит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(царапается ножом и оконным стеклом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41767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н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изводство удобр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ювелирные изде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апатит"/>
          <p:cNvPicPr/>
          <p:nvPr/>
        </p:nvPicPr>
        <p:blipFill>
          <a:blip r:embed="rId1"/>
          <a:stretch/>
        </p:blipFill>
        <p:spPr>
          <a:xfrm>
            <a:off x="4716360" y="2421000"/>
            <a:ext cx="414504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65188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6. Ортоклаз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(царапается напильником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41767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н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сырье в стекольной и керамической промышле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народной медиц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ортоклаз"/>
          <p:cNvPicPr/>
          <p:nvPr/>
        </p:nvPicPr>
        <p:blipFill>
          <a:blip r:embed="rId1"/>
          <a:stretch/>
        </p:blipFill>
        <p:spPr>
          <a:xfrm>
            <a:off x="4572000" y="2421000"/>
            <a:ext cx="41036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08:47:50Z</dcterms:created>
  <dc:creator>pavel</dc:creator>
  <dc:description/>
  <dc:language>en-US</dc:language>
  <cp:lastModifiedBy>User</cp:lastModifiedBy>
  <dcterms:modified xsi:type="dcterms:W3CDTF">2012-02-16T08:46:14Z</dcterms:modified>
  <cp:revision>20</cp:revision>
  <dc:subject/>
  <dc:title>Слайд 1</dc:title>
</cp:coreProperties>
</file>