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BDC-970C-4305-B753-DFB3EFD0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870A-873E-41D3-B9C4-D6A7C8B0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39C-B9C7-4763-8C3F-78DD6BC4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112-12F5-475A-9A81-0F9BFB74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6CE-7501-4068-BD8C-9B250FDD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F3E-9B2C-48CB-AD27-FBF72188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D4A-90B3-4092-A047-47C3FDD5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02F4-34BA-4460-A999-A7007D5A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E47-948B-41BD-9E3C-EFADF670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63C-1A76-40DD-9D99-E7303911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4DF9-B829-4CF6-A34F-CA49E6D5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C88-DEC5-473B-A8A7-7E72FBE6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21D0-916D-4B99-8503-50B28760A1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752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Моя любимая страна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5308560"/>
            <a:ext cx="6400800" cy="15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орческая работа – отчет о чт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ипова Зоя, 8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ANd9GcShYDJ23FzIcHZ91PzqvCTGPiOQM6_f8IdcpD1k65Fw4ssrrntTXqoiJU0"/>
          <p:cNvPicPr/>
          <p:nvPr/>
        </p:nvPicPr>
        <p:blipFill>
          <a:blip r:embed="rId1"/>
          <a:stretch/>
        </p:blipFill>
        <p:spPr>
          <a:xfrm>
            <a:off x="2556000" y="1268280"/>
            <a:ext cx="3711600" cy="40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Лиля и Влад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А  эту серию я еще не дочитала. Сюжет очень интересен т.к. Влад (Владислав) из племени славов (людей- рысей). А вот лиля – обычный человек. Подобные связи запрещены законом селения слав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Автор – Ярослава Лазарев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155520" y="46080"/>
            <a:ext cx="1905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9"/>
          <p:cNvSpPr/>
          <p:nvPr/>
        </p:nvSpPr>
        <p:spPr>
          <a:xfrm>
            <a:off x="3619440" y="1790640"/>
            <a:ext cx="1905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11"/>
          <p:cNvSpPr/>
          <p:nvPr/>
        </p:nvSpPr>
        <p:spPr>
          <a:xfrm>
            <a:off x="155520" y="46080"/>
            <a:ext cx="1905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155520" y="46080"/>
            <a:ext cx="1905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15"/>
          <p:cNvSpPr/>
          <p:nvPr/>
        </p:nvSpPr>
        <p:spPr>
          <a:xfrm>
            <a:off x="155520" y="46080"/>
            <a:ext cx="1905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17" descr="vozmezdie-polnoluniya_238698"/>
          <p:cNvPicPr/>
          <p:nvPr/>
        </p:nvPicPr>
        <p:blipFill>
          <a:blip r:embed="rId1"/>
          <a:stretch/>
        </p:blipFill>
        <p:spPr>
          <a:xfrm>
            <a:off x="611280" y="1197000"/>
            <a:ext cx="33732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4883"/>
          <p:cNvPicPr/>
          <p:nvPr/>
        </p:nvPicPr>
        <p:blipFill>
          <a:blip r:embed="rId1"/>
          <a:stretch/>
        </p:blipFill>
        <p:spPr>
          <a:xfrm>
            <a:off x="539640" y="620640"/>
            <a:ext cx="3508560" cy="5510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ANd9GcSgG-pnRmGHqMlq8UtBfQystxddlOYxosb_jwDN2S0sIA0Grux2"/>
          <p:cNvPicPr/>
          <p:nvPr/>
        </p:nvPicPr>
        <p:blipFill>
          <a:blip r:embed="rId2"/>
          <a:stretch/>
        </p:blipFill>
        <p:spPr>
          <a:xfrm>
            <a:off x="5076720" y="765000"/>
            <a:ext cx="34466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Полина и Артур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Их история не сразу впечатлила меня. И я не могу коротко пересказать  книгу. Просто чита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Автор- Екатерина Невол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7" descr="8196"/>
          <p:cNvPicPr/>
          <p:nvPr/>
        </p:nvPicPr>
        <p:blipFill>
          <a:blip r:embed="rId1"/>
          <a:stretch/>
        </p:blipFill>
        <p:spPr>
          <a:xfrm>
            <a:off x="5867280" y="189000"/>
            <a:ext cx="2651400" cy="409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Catherine-Nevolina"/>
          <p:cNvPicPr/>
          <p:nvPr/>
        </p:nvPicPr>
        <p:blipFill>
          <a:blip r:embed="rId2"/>
          <a:stretch/>
        </p:blipFill>
        <p:spPr>
          <a:xfrm>
            <a:off x="3995640" y="4149720"/>
            <a:ext cx="2017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03786925"/>
          <p:cNvPicPr/>
          <p:nvPr/>
        </p:nvPicPr>
        <p:blipFill>
          <a:blip r:embed="rId1"/>
          <a:stretch/>
        </p:blipFill>
        <p:spPr>
          <a:xfrm>
            <a:off x="395280" y="549360"/>
            <a:ext cx="3681360" cy="58071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7"/>
          <p:cNvSpPr/>
          <p:nvPr/>
        </p:nvSpPr>
        <p:spPr>
          <a:xfrm>
            <a:off x="155520" y="46080"/>
            <a:ext cx="190512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155520" y="46080"/>
            <a:ext cx="190512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11" descr="8197"/>
          <p:cNvPicPr/>
          <p:nvPr/>
        </p:nvPicPr>
        <p:blipFill>
          <a:blip r:embed="rId2"/>
          <a:stretch/>
        </p:blipFill>
        <p:spPr>
          <a:xfrm>
            <a:off x="4937040" y="476280"/>
            <a:ext cx="348624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Это еще не все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Конечно в мо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стране есть еще м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героев, но я не буд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про них рассказыв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8" descr="title"/>
          <p:cNvPicPr/>
          <p:nvPr/>
        </p:nvPicPr>
        <p:blipFill>
          <a:blip r:embed="rId1"/>
          <a:stretch/>
        </p:blipFill>
        <p:spPr>
          <a:xfrm>
            <a:off x="179280" y="1700280"/>
            <a:ext cx="447192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Послесловие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Я часто бываю в Книголюбии и общаюсь с героями кни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8" descr="Smilik_07_enl"/>
          <p:cNvPicPr/>
          <p:nvPr/>
        </p:nvPicPr>
        <p:blipFill>
          <a:blip r:embed="rId1"/>
          <a:stretch/>
        </p:blipFill>
        <p:spPr>
          <a:xfrm>
            <a:off x="4572000" y="1701720"/>
            <a:ext cx="3887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7" descr="apro_10488198_orig_"/>
          <p:cNvPicPr/>
          <p:nvPr/>
        </p:nvPicPr>
        <p:blipFill>
          <a:blip r:embed="rId1"/>
          <a:stretch/>
        </p:blipFill>
        <p:spPr>
          <a:xfrm>
            <a:off x="826920" y="549360"/>
            <a:ext cx="77043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Книголюбия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Моя страна- это частичка моего воображения, насыщенная событиями и свершениями. В этой стране не много жителей, но там всегда есть, с кем поговор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povarka2"/>
          <p:cNvPicPr/>
          <p:nvPr/>
        </p:nvPicPr>
        <p:blipFill>
          <a:blip r:embed="rId1"/>
          <a:stretch/>
        </p:blipFill>
        <p:spPr>
          <a:xfrm>
            <a:off x="4427640" y="1484280"/>
            <a:ext cx="41418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Жители страны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В моей стране мало жителей. Но все они очень интересны. И, конечно все они – герои кни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Сейчас я вас с ними познаком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8" descr="0ac5cc9c73806dfcd8b0f04aed414800"/>
          <p:cNvPicPr/>
          <p:nvPr/>
        </p:nvPicPr>
        <p:blipFill>
          <a:blip r:embed="rId1"/>
          <a:stretch/>
        </p:blipFill>
        <p:spPr>
          <a:xfrm>
            <a:off x="179280" y="1916280"/>
            <a:ext cx="46818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Влада и Гисьс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Эти герои первыми поселились в моей воображаемой стране. Их история не имеет банального разв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Эта серия из четырех книг. А последняя даже не вышла. В своей стране я часто расспрашиваю их о будущей кни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Автор этой серии Саша Гот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8" descr="am_06"/>
          <p:cNvPicPr/>
          <p:nvPr/>
        </p:nvPicPr>
        <p:blipFill>
          <a:blip r:embed="rId1"/>
          <a:stretch/>
        </p:blipFill>
        <p:spPr>
          <a:xfrm>
            <a:off x="5508720" y="260280"/>
            <a:ext cx="2501640" cy="3175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sp-479x240"/>
          <p:cNvPicPr/>
          <p:nvPr/>
        </p:nvPicPr>
        <p:blipFill>
          <a:blip r:embed="rId2"/>
          <a:stretch/>
        </p:blipFill>
        <p:spPr>
          <a:xfrm>
            <a:off x="4375080" y="4149720"/>
            <a:ext cx="476892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5"/>
          <p:cNvSpPr/>
          <p:nvPr/>
        </p:nvSpPr>
        <p:spPr>
          <a:xfrm>
            <a:off x="155520" y="46080"/>
            <a:ext cx="19051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155520" y="46080"/>
            <a:ext cx="19051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155520" y="46080"/>
            <a:ext cx="19051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11" descr="36322"/>
          <p:cNvPicPr/>
          <p:nvPr/>
        </p:nvPicPr>
        <p:blipFill>
          <a:blip r:embed="rId1"/>
          <a:stretch/>
        </p:blipFill>
        <p:spPr>
          <a:xfrm>
            <a:off x="250920" y="404640"/>
            <a:ext cx="3779640" cy="5953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ANd9GcTGSdRKmuJ-TOM4Ur1pkMcL6BigZuo8i81m41P4clknhnL02DhI"/>
          <p:cNvPicPr/>
          <p:nvPr/>
        </p:nvPicPr>
        <p:blipFill>
          <a:blip r:embed="rId2"/>
          <a:stretch/>
        </p:blipFill>
        <p:spPr>
          <a:xfrm>
            <a:off x="4915080" y="333360"/>
            <a:ext cx="361764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Маша и Макс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Следующие герои – Маша и Макс. Я не буду о них многого говорить. Их история более баналь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Автор книг          Елена Усачев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9" descr="%D1%83%D1%81%D0%B0%D1%87%D0%B5%D0%B2%D0%B0_%D0%BA%D0%BE%D0%BF%D0%B8%D1%8F"/>
          <p:cNvPicPr/>
          <p:nvPr/>
        </p:nvPicPr>
        <p:blipFill>
          <a:blip r:embed="rId1"/>
          <a:stretch/>
        </p:blipFill>
        <p:spPr>
          <a:xfrm>
            <a:off x="324000" y="476280"/>
            <a:ext cx="2763720" cy="33922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1"/>
          <p:cNvSpPr/>
          <p:nvPr/>
        </p:nvSpPr>
        <p:spPr>
          <a:xfrm>
            <a:off x="155520" y="46080"/>
            <a:ext cx="333396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2905200" y="1990800"/>
            <a:ext cx="333360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5" descr="Elena-Usacheva"/>
          <p:cNvPicPr/>
          <p:nvPr/>
        </p:nvPicPr>
        <p:blipFill>
          <a:blip r:embed="rId2"/>
          <a:stretch/>
        </p:blipFill>
        <p:spPr>
          <a:xfrm>
            <a:off x="1692360" y="3645000"/>
            <a:ext cx="33336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6817"/>
          <p:cNvPicPr/>
          <p:nvPr/>
        </p:nvPicPr>
        <p:blipFill>
          <a:blip r:embed="rId1"/>
          <a:stretch/>
        </p:blipFill>
        <p:spPr>
          <a:xfrm>
            <a:off x="324000" y="404640"/>
            <a:ext cx="3539880" cy="5612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prevrashenie"/>
          <p:cNvPicPr/>
          <p:nvPr/>
        </p:nvPicPr>
        <p:blipFill>
          <a:blip r:embed="rId2"/>
          <a:stretch/>
        </p:blipFill>
        <p:spPr>
          <a:xfrm>
            <a:off x="4500720" y="476280"/>
            <a:ext cx="349560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Лада и  Грег.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Самая интересная история у Лады и Грега. Они пережили огромное количество испытаний. Все закончилось хорошо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Автор – Ярослава Лазаре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8" descr="Lazareva"/>
          <p:cNvPicPr/>
          <p:nvPr/>
        </p:nvPicPr>
        <p:blipFill>
          <a:blip r:embed="rId1"/>
          <a:stretch/>
        </p:blipFill>
        <p:spPr>
          <a:xfrm>
            <a:off x="4500720" y="189000"/>
            <a:ext cx="3552840" cy="3752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Yaroslava_Lazareva"/>
          <p:cNvPicPr/>
          <p:nvPr/>
        </p:nvPicPr>
        <p:blipFill>
          <a:blip r:embed="rId2"/>
          <a:stretch/>
        </p:blipFill>
        <p:spPr>
          <a:xfrm>
            <a:off x="5364000" y="4373640"/>
            <a:ext cx="204948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ANd9GcRjUUthQR3ptkPsuwK1tgLp3C_nltdfeMk1q5PsEtlb1UshdOJh0w"/>
          <p:cNvPicPr/>
          <p:nvPr/>
        </p:nvPicPr>
        <p:blipFill>
          <a:blip r:embed="rId1"/>
          <a:stretch/>
        </p:blipFill>
        <p:spPr>
          <a:xfrm>
            <a:off x="1332000" y="333360"/>
            <a:ext cx="648180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8T18:11:10Z</dcterms:created>
  <dc:creator>1</dc:creator>
  <dc:description/>
  <dc:language>en-US</dc:language>
  <cp:lastModifiedBy>Home</cp:lastModifiedBy>
  <dcterms:modified xsi:type="dcterms:W3CDTF">2017-08-22T12:34:39Z</dcterms:modified>
  <cp:revision>4</cp:revision>
  <dc:subject/>
  <dc:title>Моя любимая страна!</dc:title>
</cp:coreProperties>
</file>