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EF11B-4C02-4E00-9484-FC3BA730D1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68B2-9FA3-40CD-8CEF-2AE2162D9F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9396C-3401-4F63-A90B-A345D40FDF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CF84-7AF2-4974-8044-14BCB899D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576D0-F8FB-444B-A340-EAE49C90B5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12575-AD83-4475-98DE-5222667AA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53985-49A9-4219-B05C-3E54072F6F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01D45-6384-4D6E-8AB4-1B0451BC9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1F7D8-FAAA-4734-AE15-B8F1A52CF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03907-FFF7-4E69-9922-E7446EB252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ED709-4D5F-486B-9FF3-E5F41C1E5C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6C540-470A-4772-B6BA-262B640C4A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B2092-DB29-4708-946D-EF7B54B927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50B12-2043-4733-A71B-1210670777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A057-B036-47E0-B814-64831D1D6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FB6F-913D-4110-A039-6BF7B87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7AC5-47EB-4740-90C5-2525F7E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B60E-8579-4BD5-95F9-6D5E21280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6A355-2819-476F-BF6A-259FE33A3C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59485-AF03-4034-8715-84DBFB95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358E7-04FA-48A8-9D45-3593CB7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0B9D1-5AAC-4959-B951-58F717B2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ACBA-837B-4D4C-AA2A-BAC23359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6489D-62B1-4DC9-90E8-3175890D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870B8-0037-44AF-AF68-51305CD1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D044-A280-4790-980E-1973227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D4115-77B1-4682-B287-EDE2B2D9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AD811-3D01-4876-AE6C-632EF99D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26EA9-80CD-4A0E-B6DA-1738786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CE755-19FC-4F68-BCB0-D4A702A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F06C4-9DDA-41B6-9AAF-6AA5D4550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E8DC-D1EB-4C4A-9116-5D01E8E9C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BB96-9CC2-421F-8432-54A57AD4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A8BC-C0F1-4859-B800-2CAB46D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0B3F-8493-40D0-9616-2947BB64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DF25-BA6F-48C9-B497-56F68744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497C-7C32-406B-89B9-E41F45E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BF12-3EC6-42A8-B2F1-A56A9AC9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16B-9B02-4F18-ABA4-9663E3A6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F72A-4F84-4F48-93DD-58870A6C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2EA7-926E-42B5-9F7C-19AE0C1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4295-12A6-447D-8847-B8B429E2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81FC-1BF7-4C27-9160-263A200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887-5B48-49B3-B510-B8B9E8AA1B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7990A-EBE1-4C84-A9D0-04DF1F49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1C04-1EE6-4016-9059-218FB3BD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62B4-7F9E-441F-96A3-E1E91E1D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D91B-18C7-4C88-BC69-CE121723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B6E2-EF53-419B-BCD9-5D96EB5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1840-9EE5-4A88-A7E7-919D81DE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10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C3E33-C785-4F22-8709-AC0D7087C62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0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71AA88-A51D-4E22-B10B-9CD450C9DBA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0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9D595D-AFE5-4570-91E4-FA063609576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Российской Федерац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Красноярского кр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ГБОУ СПО «Красноярский педагогический колледж №2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деление «Дошкольное  и дополнительное образован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ЦК «Дошкольное образован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2499840"/>
            <a:ext cx="6400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угляк Юлия Викто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 «Мы за здоровый образ жиз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тельная груп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179280" y="204840"/>
            <a:ext cx="3468960" cy="3935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959280" y="3600360"/>
            <a:ext cx="4500360" cy="3060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700520" y="338040"/>
            <a:ext cx="32194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4"/>
          <a:stretch/>
        </p:blipFill>
        <p:spPr>
          <a:xfrm>
            <a:off x="4859280" y="900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пополнилась развивающая сре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дактические игры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Умею, не умею», «Правильная и вредная ед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ьбомы: «Зимние виды спорта», «Летние виды спорта», «Полезные – вредные продукты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рибуты к сюжетно – ролевым играм,подвижным игр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ов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36360" y="900000"/>
            <a:ext cx="4104000" cy="28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4140360" y="936720"/>
            <a:ext cx="4600440" cy="3382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539640" y="3780000"/>
            <a:ext cx="4060800" cy="266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5040360" y="4140360"/>
            <a:ext cx="387972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457200" y="274680"/>
            <a:ext cx="822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 есть высочайшее богатство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9640" y="903240"/>
            <a:ext cx="842976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 поспорить с тем, что в еснове всестороннего развития человека лежит здоровье. Есть здоровье – человек жизнерадостен, хватает сил на саморазвитие, на успешную личную жизнь. Нет здоровья, так и топчется человек на месте, теряя то, что у него был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– это то, что желает каждый человек, но быть абсолютно здоровым не может никто. Не иметь никаких отклонений в работе организма – невозможно. Сложившиеся социальные условия, научно-технические преобразования не способствуют сохранению здоровья. Но можно противостоять этим влияниям, приостановить разрушения организма, не страдать от болезней и быть готовым к любой деятельности. Стоит только изменить свой образ жизни, и человек сможет чувствовать себя здоров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0" y="720360"/>
            <a:ext cx="9144000" cy="64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дет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глублять знания детей о факторах, влияющих на состояние своего здоровья и окружающи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итывать привычку и потребность в здоровом образе жизн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звать интерес к спорту и физическим упражнени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родител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ть представление родителям о значимости совместной двигательной деятельности с деть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ширять знания родителей о физических умениях и навыках дет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ствовать созданию активной позиции родителей в совместной оздоровительной деятельности в ДО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интересовать родителей в укреплении здорового образа жизни в семь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педагог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ать план мероприятий по проекту «Мы за здоровый образ жизни!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ть предметно – развивающую среду по данной проблеме в группе; подобрать наглядны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он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паганда здорового образа жизни среди детей и родителей, повысить стремление родителей использовать двигательную деятельность с детьми для формирования основ здорового образа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ое мероприят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ортивный досуг: «Будь здоров!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и, дети подготовительной группы, родители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тельност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 дне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дготовительны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рефлексивно диагностически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актически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ключительный.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Ежедневная профилактическая раб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34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5580000" y="900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79200" y="3959280"/>
            <a:ext cx="334044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2700360" y="1800360"/>
            <a:ext cx="3060720" cy="23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5716440" y="3959280"/>
            <a:ext cx="3283200" cy="264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3240000" y="4319640"/>
            <a:ext cx="316080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264280" y="1260360"/>
            <a:ext cx="3879720" cy="26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439560" y="3419640"/>
            <a:ext cx="4061160" cy="2830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4759200" y="3959280"/>
            <a:ext cx="4240440" cy="2581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4859280" y="648000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Будем спортом заниматься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79640" y="6300720"/>
            <a:ext cx="2879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рачи – наши помощники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219640" y="9000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Полезные продукты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5"/>
          <a:stretch/>
        </p:blipFill>
        <p:spPr>
          <a:xfrm>
            <a:off x="79200" y="728640"/>
            <a:ext cx="3700800" cy="26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посредственно образова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0" y="720720"/>
            <a:ext cx="2700360" cy="197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4859280" y="3710160"/>
            <a:ext cx="4060800" cy="276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5759280" y="992160"/>
            <a:ext cx="3340440" cy="2068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5"/>
          <a:stretch/>
        </p:blipFill>
        <p:spPr>
          <a:xfrm>
            <a:off x="179280" y="3060720"/>
            <a:ext cx="3340080" cy="2247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6"/>
          <a:stretch/>
        </p:blipFill>
        <p:spPr>
          <a:xfrm>
            <a:off x="2700360" y="5132520"/>
            <a:ext cx="2440080" cy="1725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2700360"/>
            <a:ext cx="5168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Лимон и апельсин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40360" y="3240000"/>
            <a:ext cx="3779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Полезные и вредные продукты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45960" y="5316480"/>
            <a:ext cx="49467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Овощи и фрукты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7"/>
          <a:stretch/>
        </p:blipFill>
        <p:spPr>
          <a:xfrm>
            <a:off x="2600280" y="1089000"/>
            <a:ext cx="316080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79200" y="539640"/>
            <a:ext cx="4600800" cy="359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4859280" y="72072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4579920" y="3959280"/>
            <a:ext cx="4419720" cy="2898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260280" y="4319640"/>
            <a:ext cx="2979720" cy="2511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4680000" y="0"/>
            <a:ext cx="3240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южетно – ролевые игр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Поликлиника», «Аптека», «Больница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79280" y="179280"/>
            <a:ext cx="5156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680000" y="3600360"/>
            <a:ext cx="4716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чер подвижных иг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ирилл и илья</dc:creator>
  <dc:description/>
  <dc:language>en-US</dc:language>
  <cp:lastModifiedBy>кирилл и илья</cp:lastModifiedBy>
  <dcterms:modified xsi:type="dcterms:W3CDTF">2017-08-22T16:31:42Z</dcterms:modified>
  <cp:revision>1</cp:revision>
  <dc:subject/>
  <dc:title>Министерство образования и науки Российской Федерации Министерство образования и науки Красноярского края КГБОУ СПО «Красноярский педагогический колледж №2» Отделение «Дошкольное  и дополнительное образование» ПЦК «Дошкольное образование»  </dc:title>
</cp:coreProperties>
</file>