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BF3CF-778D-4418-A75B-69C95F4763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98B3A-1D84-436A-B5D7-CDCB26E32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39713-65C4-4462-9930-D79648FE5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20B0-DF5E-4A60-B2B4-3E48F06A8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77B2-4254-4B52-989B-C5A4E6FCEC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E237A-CD68-43EA-A3CB-05920A3B2B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A2B1B-9D33-403E-ADC6-E184C1DDA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583AE-46AB-4161-8984-F787CDB0C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B3346-6AE0-45BA-A014-78D8A8E8B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F44C-8B16-48E1-A492-9DF9A83C2B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AC024-9FD9-4B5F-BE43-858F1CADA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DAB0-88DA-482F-9A57-92F41FCC5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6D49-26DB-4C46-820A-4C718DDAB0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D8059-AE1D-4208-A3B6-B31AE07580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3491-68AC-4278-AB8E-FBB6AAD47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82C2-C543-4BD6-837B-40E1823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92A6-7451-4488-AC24-2DC160D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7113-0CCC-495F-86FC-6B19B2BC4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3F25A-6120-4EC8-8BED-F5597F0E7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306FC-D52C-4320-B84A-E3CB381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24D15-972B-4137-BEBA-6068EEB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8263-642E-4E7D-B912-73228FB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1E16F-C2CE-40C4-A504-5C202F7C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8EE04-7158-4F73-B26B-D3AE8563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7CC1-D032-474D-BE41-90110C2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B428-3E07-4931-AB48-1EE3F562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0D79E-0427-43A8-BD39-474BDC5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AE2CA-8DCE-40BA-B731-32616D2A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A9E6B-0316-48D7-BEE9-EB10DEC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E5BD-DA1E-4D86-A69F-4AC1557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FC4FA-92CB-43CC-A0D0-439BA44CA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0F8D-BBE8-4282-A294-8D811B538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DB0C-1248-4209-B4B1-FC7AFC9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315-0D7E-46ED-9A40-09F0350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7BC9-108F-4F21-9C58-BFFB044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4E1-B960-475D-BAF4-50525AB5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D382-D666-4938-96F4-C3C600E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0A9A-FAEA-4E4A-BAA9-10FF02F9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BA98-1915-43C5-AF10-741CE34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6919-DB07-4016-9A50-EA876DA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A31-C263-490F-8E2E-FBB8F60A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902-5A9E-42A6-B5E2-8717AC2E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BA2B-3499-41CA-B250-E9BD54D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48D-8899-4EAB-9604-044940E90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7C07-F8FA-432E-BDDB-6CD74ED1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4C97-E451-4B50-956F-08080E5B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4576-ED9C-4823-9F2C-7D9F5F2C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2A23-88A0-44CE-8278-F85105E5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A707-53DE-4B6F-B993-6F91015F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D8BE-BE46-4A44-BD22-E2E819C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DB94C-5487-4285-B3F6-26113BC7E30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C975C7-5C21-4CEA-9F32-763095288B3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0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9584C2-8F3A-4748-A4EF-AD53D1F38B5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Красноярского кр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ГБОУ СПО «Красноярский педагогический колледж №2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еление «Дошкольное  и дополнительное образован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ЦК «Дошкольное образован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угляк Юлия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 «Мы за здоровый образ жи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179280" y="204840"/>
            <a:ext cx="3468960" cy="3935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959280" y="3600360"/>
            <a:ext cx="4500360" cy="3060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700520" y="338040"/>
            <a:ext cx="32194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4"/>
          <a:stretch/>
        </p:blipFill>
        <p:spPr>
          <a:xfrm>
            <a:off x="4859280" y="90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пополнилась развивающая ср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дактические игры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Умею, не умею», «Правильная и вредная ед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ьбомы: «Зимние виды спорта», «Летние виды спорта», «Полезные – вредные продукты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рибуты к сюжетно – ролевым играм,подвижным игр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36360" y="900000"/>
            <a:ext cx="4104000" cy="28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4140360" y="936720"/>
            <a:ext cx="4600440" cy="338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539640" y="3780000"/>
            <a:ext cx="4060800" cy="266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5040360" y="4140360"/>
            <a:ext cx="387972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457200" y="274680"/>
            <a:ext cx="822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есть высочайшее богатство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640" y="903240"/>
            <a:ext cx="8429760" cy="57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 поспорить с тем, что в еснове всестороннего развития человека лежит здоровье. Есть здоровье – человек жизнерадостен, хватает сил на саморазвитие, на успешную личную жизнь. Нет здоровья, так и топчется человек на месте, теряя то, что у него был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– это то, что желает каждый человек, но быть абсолютно здоровым не может никто. Не иметь никаких отклонений в работе организма – невозможно. Сложившиеся социальные условия, научно-технические преобразования не способствуют сохранению здоровья. Но можно противостоять этим влияниям, приостановить разрушения организма, не страдать от болезней и быть готовым к любой деятельности. Стоит только изменить свой образ жизни, и человек сможет чувствовать себя здоров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0" y="720360"/>
            <a:ext cx="9144000" cy="64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глублять знания детей о факторах, влияющих на состояние своего здоровья и окружающи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ывать привычку и потребность в здоровом образе жиз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звать интерес к спорту и физическим упражнени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родител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ть представление родителям о значимости совместной двигательной деятельности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ширять знания родителей о физических умениях и навыках дет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овать созданию активной позиции родителей в совместной оздоровительной деятельности в Д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интересовать родителей в укреплении здорового образа жизни в семь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я педагог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ать план мероприятий по проекту «Мы за здоровый образ жизни!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ть предметно – развивающую среду по данной проблеме в группе; подобрать наглядн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он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паганда здорового образа жизни среди детей и родителей, повысить стремление родителей использовать двигательную деятельность с детьми для формирования основ здорового образа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ое мероприят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ртивный досуг: «Будь здоров!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и, дети подготовительной группы, родители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тельност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 дне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готовительн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ефлексивно диагностически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актически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ключительный.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жедневная профилактическ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5580000" y="900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79200" y="3959280"/>
            <a:ext cx="334044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2700360" y="1800360"/>
            <a:ext cx="3060720" cy="23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5716440" y="3959280"/>
            <a:ext cx="3283200" cy="264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3240000" y="4319640"/>
            <a:ext cx="31608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264280" y="1260360"/>
            <a:ext cx="3879720" cy="26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439560" y="3419640"/>
            <a:ext cx="4061160" cy="2830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4759200" y="3959280"/>
            <a:ext cx="4240440" cy="2581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4859280" y="648000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Будем спортом заниматься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79640" y="6300720"/>
            <a:ext cx="2879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рачи – наши помощники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219640" y="9000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олезные продукты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5"/>
          <a:stretch/>
        </p:blipFill>
        <p:spPr>
          <a:xfrm>
            <a:off x="79200" y="728640"/>
            <a:ext cx="3700800" cy="26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0" y="72072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4859280" y="3710160"/>
            <a:ext cx="4060800" cy="276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5759280" y="992160"/>
            <a:ext cx="3340440" cy="206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tretch/>
        </p:blipFill>
        <p:spPr>
          <a:xfrm>
            <a:off x="179280" y="3060720"/>
            <a:ext cx="3340080" cy="2247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2700360" y="5132520"/>
            <a:ext cx="2440080" cy="1725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2700360"/>
            <a:ext cx="5168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Лимон и апельсин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40360" y="3240000"/>
            <a:ext cx="3779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Полезные и вредные продукты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45960" y="5316480"/>
            <a:ext cx="49467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Овощи и фрукты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7"/>
          <a:stretch/>
        </p:blipFill>
        <p:spPr>
          <a:xfrm>
            <a:off x="2600280" y="1089000"/>
            <a:ext cx="316080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79200" y="539640"/>
            <a:ext cx="4600800" cy="359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4859280" y="72072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4579920" y="3959280"/>
            <a:ext cx="4419720" cy="289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260280" y="4319640"/>
            <a:ext cx="2979720" cy="2511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4680000" y="0"/>
            <a:ext cx="3240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южетно – ролевые игр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Поликлиника», «Аптека», «Больница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79280" y="179280"/>
            <a:ext cx="5156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680000" y="3600360"/>
            <a:ext cx="4716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чер подвижных иг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ирилл и илья</dc:creator>
  <dc:description/>
  <dc:language>en-US</dc:language>
  <cp:lastModifiedBy>кирилл и илья</cp:lastModifiedBy>
  <dcterms:modified xsi:type="dcterms:W3CDTF">2017-08-22T16:31:42Z</dcterms:modified>
  <cp:revision>1</cp:revision>
  <dc:subject/>
  <dc:title>Министерство образования и науки Российской Федерации Министерство образования и науки Красноярского края КГБОУ СПО «Красноярский педагогический колледж №2» Отделение «Дошкольное  и дополнительное образование» ПЦК «Дошкольное образование»  </dc:title>
</cp:coreProperties>
</file>