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FC-782E-4D13-B82F-11FF5F2B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E53-2677-42E1-B251-CA28FD1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001-BAAA-4F6D-BBDF-4346D3C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CCD-4EED-48FE-98EE-3BAE5E8F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3BAD-D2BD-4A7C-ADE6-A968917C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11A6-62CE-47B0-B61C-57803484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91C9-4AA3-430E-B28E-B8B9D4E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771-28E8-4245-8124-270169E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603-BAA9-42A7-A325-8DADAEE6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7244-1C11-435D-821E-87246D6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CF18-E587-43CA-AA9D-CFAB485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14E-5887-4663-B3E0-A879821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B1F9-8559-4FD7-8B23-44C1822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5EB6-96C7-40E6-BB69-57A9C46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26EC-DC90-478B-B202-6CB56133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C0AE-8333-43AC-B320-9325CB3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928-3B35-4B06-811C-2420A43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AFA-D413-45EB-B079-D51165D2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8EF-F6FB-4F1B-AABA-F56F176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711-A14E-4A0F-91C0-2228106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092-C5FB-48CB-AC15-54875E2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D76-57EB-41E8-B56A-159D5B5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3C5-06E0-4312-B0A9-A477E33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D90-00AD-4C07-A290-3DBBC76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8B0-DB67-4272-9EC3-70A17C0E6A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021-AD0B-469E-850D-BDB5FD12246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 Инфуз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751280" y="1523880"/>
            <a:ext cx="359424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1790640" cy="379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36637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ставитель – инфузория-туфель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518148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Бесполое размнож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перечное деление, чередующееся с половым процессом —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конъюгацие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Следует помнить, что размножение сопровождается увеличением числа особей, а смысл полового процесса состоит только в увеличении генетического разнообраз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828800" y="11268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ногообразие инфузор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6" descr="ris"/>
          <p:cNvPicPr/>
          <p:nvPr/>
        </p:nvPicPr>
        <p:blipFill>
          <a:blip r:embed="rId1"/>
          <a:stretch/>
        </p:blipFill>
        <p:spPr>
          <a:xfrm>
            <a:off x="4267080" y="990720"/>
            <a:ext cx="2837160" cy="359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3162240" y="4557600"/>
            <a:ext cx="5981760" cy="23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7242120" y="1219320"/>
            <a:ext cx="1901880" cy="34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4"/>
          <a:stretch/>
        </p:blipFill>
        <p:spPr>
          <a:xfrm>
            <a:off x="0" y="1219320"/>
            <a:ext cx="3094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2633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ип Споров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438720" cy="343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343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520" y="430200"/>
            <a:ext cx="79261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кие признаки характерны для амебы, эвглены зеленой, инфузории – туфель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65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ая форма 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оянная форма 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вигается при помощи ложнонож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тается бактериями, мельчайшими водорослями, одноклето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питаться растворенными в воде органическими и неорганическими веществ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итании принимают участие хлороплас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идкие продукты жизнедеятельности и избыток воды удаляются через 2 сократительные вакуо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идкие продукты жизнедеятельности и избыток воды удаляются через поверхность тела и сократительную вакуо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аривание пищи происходит в пищеварительных вакуо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щеварительные вакуоли не образую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неблагоприятных условиях превращаются в цис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цитоплазме 1 ядр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цитоплазме 2 яд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8-22T05:47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