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846-88F3-44F9-AE67-0678DDC2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C50-CE42-4957-BFAF-AB6888A2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D9D-73C4-477B-9F62-4724FD2D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E08-2551-4B22-A2A3-3AE69231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801B-822F-46EA-A016-765F858C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A2D0-A36C-4978-B884-4C44C2CE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4C76-FD85-48A3-9043-572310BD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10B2-797E-4BAB-99A4-893AA013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D639-8864-48D0-888D-A9754A93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EB93-2D6D-4798-8B13-C157C39B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2F4F-8ECF-492A-9AC2-B2659B85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015-EB5E-4FDD-897A-5DEA146F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E00A-C888-41E4-A22F-168C85E3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D1E2-9430-441F-8913-6408976B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A7B4-E3E7-4BA5-A060-9D1A57FD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A221-E0E8-4F1F-8F72-2783BB7B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F4BA-E501-4B30-B2B7-E13ADCF7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7A6-CF26-4C88-910F-F1EBA3AE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078-F50F-4EA0-A6BA-BF365F4F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AEF-E134-40E0-BC5E-3CB45525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341-6495-4E04-9735-86F8D324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408-3CA9-43BE-9DA4-1CDCD0BB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0B6-C1AE-4D34-A769-A3945484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A12-F1EC-464F-93DF-C68E0BBF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3428-B8DF-43D6-92EE-B08E816A403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D7DC-D467-49F6-A80E-30672A878CD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ип Инфузор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4751280" y="1523880"/>
            <a:ext cx="3594240" cy="472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1790640" cy="3792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36637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дставитель – инфузория-туфель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28600" y="5181480"/>
            <a:ext cx="856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Бесполое размнож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поперечное деление, чередующееся с половым процессом —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конъюгацие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Следует помнить, что размножение сопровождается увеличением числа особей, а смысл полового процесса состоит только в увеличении генетического разнообраз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828800" y="11268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Многообразие инфузори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6" descr="ris"/>
          <p:cNvPicPr/>
          <p:nvPr/>
        </p:nvPicPr>
        <p:blipFill>
          <a:blip r:embed="rId1"/>
          <a:stretch/>
        </p:blipFill>
        <p:spPr>
          <a:xfrm>
            <a:off x="4267080" y="990720"/>
            <a:ext cx="2837160" cy="359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3162240" y="4557600"/>
            <a:ext cx="5981760" cy="230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7242120" y="1219320"/>
            <a:ext cx="1901880" cy="3481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4"/>
          <a:stretch/>
        </p:blipFill>
        <p:spPr>
          <a:xfrm>
            <a:off x="0" y="1219320"/>
            <a:ext cx="3094200" cy="5257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5"/>
          <a:stretch/>
        </p:blipFill>
        <p:spPr>
          <a:xfrm>
            <a:off x="1981080" y="3048120"/>
            <a:ext cx="26337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ип Споров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438720" cy="343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4495680" y="2286000"/>
            <a:ext cx="4343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520" y="430200"/>
            <a:ext cx="79261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акие признаки характерны для амебы, эвглены зеленой, инфузории – туфельк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650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постоянная форма те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оянная форма те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двигается при помощи ложноноже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итается бактериями, мельчайшими водорослями, одноклето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ет питаться растворенными в воде органическими и неорганическими веществ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итании принимают участие хлороплас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идкие продукты жизнедеятельности и избыток воды удаляются через 2 сократительные вакуол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304920"/>
            <a:ext cx="777240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идкие продукты жизнедеятельности и избыток воды удаляются через поверхность тела и сократительную вакуо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варивание пищи происходит в пищеварительных вакуол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ищеварительные вакуоли не образую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неблагоприятных условиях превращаются в цист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цитоплазме 1 ядр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цитоплазме 2 ядр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08-22T05:47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