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AD4-0B2F-4B6A-A5EE-8CB25398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DE1-3744-46D7-9670-E528FE0F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448-9A4A-4215-8220-93DB4029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B43-AE69-4DEB-B645-F0334673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DBE5-923B-4A42-AFDB-1DE3F8B2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F525-55CD-4811-A8B8-76B6EC77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06F6-160B-4A2C-BE2D-08C25BF9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EC5D-C8E4-4B46-A8A2-5ED553A3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17E1-8F37-43F9-B112-AE9FEC79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19A2-9FC7-4627-8764-F4C708E1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58AB-3ACE-4635-AC9E-DAD7651D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9AA-998C-4CF0-93D9-C6D8428E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3458-91E2-404C-BEC7-B6F9D901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680D-6074-4D89-A495-12D50E85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7CD7-D511-4896-84D8-214AF7C9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FBC3-D706-43F6-B2B5-A98FE61E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4B4B-8B80-4AE4-A524-376F6F37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2B5-6DFB-4741-8283-CDF6B046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F38-39CA-4847-AEF1-BCE21F04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F70-5AA0-450B-8875-357EBFA1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12F-15C7-457C-8DEA-EF4E669B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ED0-9019-4F4F-8178-0494AD6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013-5020-4E5F-9894-1A91B525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981-526C-43BA-8DDC-A4E52E03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3A1C-DCC3-4992-9D98-E7B90B7B2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82B2-8DFA-4451-87FE-59ECA57DB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Опасные интернет сообщества</a:t>
            </a:r>
            <a:br>
              <a:rPr sz="60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1e1a"/>
                </a:solidFill>
                <a:latin typeface="Times New Roman"/>
              </a:rPr>
              <a:t>Примеры названий интернет сообществ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Синий К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Разбуди меня в 4.20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Тихий д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Я в игр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Как ребёнок попадает в такие сообществ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го завлекают посторонние люд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попадает самостоятельно (ввиду интереса или случайно) кликнув ХЕШТЕ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1031"/>
                </a:solidFill>
                <a:latin typeface="Tahoma"/>
              </a:rPr>
              <a:t>Что такое </a:t>
            </a:r>
            <a:r>
              <a:rPr b="0" i="1" lang="en-US" sz="4400" spc="-1" strike="noStrike">
                <a:solidFill>
                  <a:srgbClr val="821031"/>
                </a:solidFill>
                <a:latin typeface="Tahoma"/>
              </a:rPr>
              <a:t>ХЕШТЕ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сылка, кликнув на которую можно попасть на нужную страничку в соцсети или в определённое сообще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ак выглядят такие ссыл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ычно они начинаются 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хийдо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т обратить внимание и на ссылки, которые начинаются 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f57, #f5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то представляют из себя такие сообществ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то группы, в которых в основном состоят де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этих группах проводятся опасные иг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тям предлагают различное выполнение заданий (за частую опасных для жизн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 каждым разом задания увеличиваются по сло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то привлекает детей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терес прохождения зад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терес сверст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щение с незнакомыми людь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г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Что может помочь определить ребёнка, находящегося в таких сообществах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верка его социальных с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бёнок может случайно рассказать друзьям или Вам что ему нужно выполнить какое-нибудь задание (пр: встать ночью, что-то написать, встретить рассвет, нарисовать рисунок на руке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ычно задания даются ночью, поэтому дети часто ставят себе будильн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едует обращать внимание на эмоциональное состояние ребё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1e1a"/>
                </a:solidFill>
                <a:latin typeface="Tahoma"/>
              </a:rPr>
              <a:t>Что делать, если вы узнали, что ваш ребёнок состоит в такой группе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проявлять агресс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устраивать допро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ьше разговаривать с ребёнком о его интерес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Обязательн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ся к психолог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нять ребёнка реальными кружками, тренировк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граничить доступ в интер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9T08:19:21Z</dcterms:created>
  <dc:creator>Lenovo</dc:creator>
  <dc:description/>
  <dc:language>en-US</dc:language>
  <cp:lastModifiedBy>Lenovo</cp:lastModifiedBy>
  <dcterms:modified xsi:type="dcterms:W3CDTF">2017-04-19T09:33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