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0F4-372D-4021-A6EF-3B660346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A87-B5B0-4273-A9DC-C676A263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C06-B8EA-4C65-B221-7B80C7A1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944-E357-4F46-BDB5-251290E1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A310-515F-4BAF-AC09-A29D5D17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A3F1-D1FE-4950-8CAD-2DCD3790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5F1F-9601-4870-AB13-FBB867A9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7EDF-B528-425C-A0A1-F146FDF7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053E-743B-4787-9A67-2308C928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5E59-1790-41A0-99B3-5B271173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4CB2-255A-45B5-ACF0-113D2518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3B7-9EAF-45BC-829F-F43C91D1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C607-4EE2-4F68-BB5D-90A76CB4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4616-55DE-4270-891A-9DDB41A3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A601-A8A1-4F09-9458-3F714A59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09E8-85DE-4242-85AE-C2A80C94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DB7D-9221-499F-9637-6F5CDAB5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94B-C340-45F7-AE27-BDC1559C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E54-62B1-4847-B3CF-DF243DEE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B64-9A05-4FE3-BC07-19044B0D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3C2-2606-42C7-A061-D63B9ED5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2C6-1F23-43F1-A85D-1D10265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B18-0750-4B23-8832-2E1E60C0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CB9-36CC-4942-A691-01209850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EED0-DFA5-43FA-AC27-5FA142E47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DFED-FBC3-45D5-95DF-03DB610C2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Опасные интернет сообщества</a:t>
            </a:r>
            <a:br>
              <a:rPr sz="60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1e1a"/>
                </a:solidFill>
                <a:latin typeface="Times New Roman"/>
              </a:rPr>
              <a:t>Примеры названий интернет сообществ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Синий К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Разбуди меня в 4.20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Тихий д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Я в игр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Как ребёнок попадает в такие сообществ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завлекают посторонние люд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попадает самостоятельно (ввиду интереса или случайно) кликнув ХЕШТЕ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1031"/>
                </a:solidFill>
                <a:latin typeface="Tahoma"/>
              </a:rPr>
              <a:t>Что такое </a:t>
            </a:r>
            <a:r>
              <a:rPr b="0" i="1" lang="en-US" sz="4400" spc="-1" strike="noStrike">
                <a:solidFill>
                  <a:srgbClr val="821031"/>
                </a:solidFill>
                <a:latin typeface="Tahoma"/>
              </a:rPr>
              <a:t>ХЕШТЕ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сылка, кликнув на которую можно попасть на нужную страничку в соцсети или в определённое сообще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ак выглядят такие ссыл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ычно они начинаются 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ийд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т обратить внимание и на ссылки, которые начинаются 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f57, #f5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то представляют из себя такие сообществ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то группы, в которых в основном состоят де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этих группах проводятся опасные иг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тям предлагают различное выполнение заданий (за частую опасных для жизн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 каждым разом задания увеличиваются по сло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то привлекает детей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терес прохождения зад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терес сверст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ение с незнакомыми людь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г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Что может помочь определить ребёнка, находящегося в таких сообществах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рка его социальных с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бёнок может случайно рассказать друзьям или Вам что ему нужно выполнить какое-нибудь задание (пр: встать ночью, что-то написать, встретить рассвет, нарисовать рисунок на руке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ычно задания даются ночью, поэтому дети часто ставят себе будильн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едует обращать внимание на эмоциональное состояние ребё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1e1a"/>
                </a:solidFill>
                <a:latin typeface="Tahoma"/>
              </a:rPr>
              <a:t>Что делать, если вы узнали, что ваш ребёнок состоит в такой групп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проявлять агре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устраивать допро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ьше разговаривать с ребёнком о его интерес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Обязательн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ся к психолог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нять ребёнка реальными кружками, тренировк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граничить доступ в интер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9T08:19:21Z</dcterms:created>
  <dc:creator>Lenovo</dc:creator>
  <dc:description/>
  <dc:language>en-US</dc:language>
  <cp:lastModifiedBy>Lenovo</cp:lastModifiedBy>
  <dcterms:modified xsi:type="dcterms:W3CDTF">2017-04-19T09:33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