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jpeg" ContentType="image/jpeg"/>
  <Override PartName="/ppt/media/image9.png" ContentType="image/png"/>
  <Override PartName="/ppt/media/image6.gif" ContentType="image/gif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B04D-6A2A-47CF-9B80-82CB962A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B7D1-0442-4AF4-83EE-8F4B8AE5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E559-65E8-4059-BB48-F9602817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435F-49F6-467F-BE2D-2BC50B2D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F6F3-22D7-4023-A3B6-1D41D894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B1B2-60E0-4F63-91B6-8E921C2E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815F-A808-4A3F-A063-EA423658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2AE6-E241-4F73-9E2E-5EA34662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CF3C-1D53-4900-9108-2BBCB3D4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F3DE-F961-4773-88A0-ED09D095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E31C-269A-436C-8D57-504E3812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671F-5D12-4F0F-A778-5559B388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1C45-A0D8-46B4-9ABE-3EE28EB1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3FBD-DA36-434E-BB91-FA724CA8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FA58-D275-428A-9EB2-64CE6B77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418C-1402-4C57-9D0E-C78F2D7A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24DE-4027-4703-BA59-C863AAC4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2D00-BEA3-45B4-B4FB-BBFD0BF2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7FCF-57F8-4C95-8892-96489F1D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436-9853-4D6F-B61C-0964D785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4F6-3765-4827-BB47-314E7FD3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087A-D8F4-4517-90B2-BA95924E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F0CB-9B56-4E58-8BD6-BE5E1F62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DCF-C37F-4AA5-901E-D5B9C73E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E9C3-7942-4BA2-A579-455BAD44EA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CC8E-9CCC-4F0B-833A-372B979970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1560" y="2286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Физическое развитие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и формирование правил здорового образа жизни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у детей дошкольного возраста в условиях реализации ФГОС дошкольного образ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5105520" y="541008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структор по ФИЗО: Денисова Э.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Здоровьесберегающие педагогические технологии</a:t>
            </a:r>
            <a:br>
              <a:rPr sz="40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(А.М. Сивцова)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Технологии сохранения и стимулирования здоровь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тчин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тмопласт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намические пау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вижные и спортивные иг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акса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стика пальчиков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стика для гла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стика дыхательн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стика коррегирующ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ные процед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воздушные ван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98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Здоровьесберегающие педагогические техн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2. Технологии обучения здоровому образу жиз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культурная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отренинги и игротерап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уникативные иг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из серии «Здоровье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масса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ечный самомасса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98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редства физического восп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Гигиенические фак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режим деятельности, отдыха, сна и питания, гигиена помещения, площадки, одежды, спортивного инвентар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Естественные силы приро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( солнце, воздух, вод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Физические упраж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обеспечивают удовлетворение естественной биологической потребности детей в движении, способствуют формированию двигательных умений и навык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160" y="6854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Физическая культу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здействует непосредственно на жизненно важные качества, возможности и способности человека, которые получены в виде задатков от природы, передаются по наследству и развиваются в течение жизни поколений под влиянием условий жизни, деятельности и вос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52280" y="4648320"/>
            <a:ext cx="2667240" cy="217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Компоненты физического восп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елесный компон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полагает развитие и коррекцию физических данных ребенка: выносливости, координации, силы, быстроты, гиб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нтеллектуальный компон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правлен на развитие познавательных процессов; на овладение элементарными знаниями: техники выполнения различных движений, анатомического строения человека, правил гигиены, закаливания, сохранения и укрепления здоровья; на знакомство с различными видами физкультурно-спортив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уховно-мировоззренческий компон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полагает формирование у детей навыков здорового образа жизни, заинтересованности и потребности в систематической деятельности физическими упражнениями, закаливающих процедурах для дальнейшей самореализации в учебной, спортивной, трудовой, обществен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Методы физического восп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глядные мет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имитация (подражание), демонстрация способов выполнения физических упражнений, использование наглядных пособий (рисунки, фотографии, видеофильмы), использование зрительных ориентиров, звуковых сигнал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ловесные мет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писание, объяснение, комментирование упражнений, указания, распоряжения вопросы к детям, команды, беседы, чтение, рассказы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актические мет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ыполнение движений, повторение упражнений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ультура здоровья  реб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Необходимый уровен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.е. тот уровень культуры, без освоения которого вообще невозможно говорить о нормах отношения ребенка к себе и окружающим. К этому уровню можно отнести, например, гигиенические навыки, навыки самообслуживания, навыки общения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Желательный уровен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этому уровню целесообразно отнести навыки и умения, на приобретение которых детьми направлены все разделы работы, осуществляемой в дошкольном учреждении в рамках образовательной программы: музыкальная культура, художественная культура, физическая культура, экологическая культура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ариативный уровен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этому уровню относятся виды индивидуального культурного предпочтения, которые, как правило, реализуются через систему дополнительного образования: музыкальных, художественных, спортивных школах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Физическое воспитание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педагогическая система, направленная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ршенствование форм и функций организма ребе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двигательных умений, навыков, зн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физических каче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привычек здорового образа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7720" y="274680"/>
            <a:ext cx="807732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Федеральный государственный образовательный стандарт дошкольного образования обозначает целевые ориенти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у ребенка развита крупная и мелкая моторика. Он может контролировать свои движения и управлять ими, обладает развитой потребностью бегать, прыгать…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владение элементарными нормами и правилами здорового образа жизни (в питании, двигательном режиме, закаливании, при формировании полезных привычек и др.)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обретение опыта в следующих видах деятельности: двигательной, в том числе в основных движениях (ходьбе, беге, прыжках, лазанье и др.), а также при катании на самокате, санках, велосипеде, ходьбе на лыжах, в спортивных играх»; «Ребенок может следовать … правилам безопасного поведения и личной гигиен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1711080" y="304920"/>
            <a:ext cx="683748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3.bp.blogspot.com/-HLWe1DGWD3Y/Ux7ffdi0VRI/AAAAAAAABXs/inMOIhWgMfE/s1600/1.png"/>
          <p:cNvPicPr/>
          <p:nvPr/>
        </p:nvPicPr>
        <p:blipFill>
          <a:blip r:embed="rId1"/>
          <a:stretch/>
        </p:blipFill>
        <p:spPr>
          <a:xfrm>
            <a:off x="685800" y="1600200"/>
            <a:ext cx="7745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Факторы , способствующие физическому развитию до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Объект 2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8362800" cy="5077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Дошкольный возрас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— один из наиболее ответственных периодов в жизни каждого человека. Именно в этом возрастном периоде закладываются основы здоровья, правильного физического развития, происходит становление двигательных способностей, формируется интерес к физической культуре и спорту, воспитываются личностные, морально-волевые и поведенческие качества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3638520" cy="293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26665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ЗДОРОВЬ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a00"/>
                </a:solidFill>
                <a:latin typeface="Arial"/>
              </a:rPr>
              <a:t>это состояние полного физического, психического и социального благополучия, а не просто отсутствие болезней или физических дефек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семирная организация здравоохран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209680" y="0"/>
            <a:ext cx="3384720" cy="277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ФГОС дошкольного 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«Стандарт решает 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охраны и укрепления физического и психического здоровья детей; создание среды, которая гарантирует охрану и укрепление физического и психического здоровья воспитанник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ю физического воспитани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является формирование у детей основ здорового образа жизни. Организованная физкультурная деятельность (как в детских садах, так и семье), свободная двигательная деятельность, когда ребенок во время прогулок играет, прыгает, бегает и т.п., улучшают деятельность сердечно-сосудистой, дыхательной и нервной систем, укрепляют опорно-двигательный аппарат, улучшают обмен веществ; повышают устойчивость ребенка к заболеваниям, мобилизуют защитные силы организм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"/>
          <p:cNvPicPr/>
          <p:nvPr/>
        </p:nvPicPr>
        <p:blipFill>
          <a:blip r:embed="rId1"/>
          <a:stretch/>
        </p:blipFill>
        <p:spPr>
          <a:xfrm>
            <a:off x="2405160" y="4572000"/>
            <a:ext cx="433368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чи физического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здоров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храна и укрепление здоровья, улучшение физического развития, совершенствование и повышение работоспособности организма ребёнка, закали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med59.ru/uploads/vr12.jpg"/>
          <p:cNvPicPr/>
          <p:nvPr/>
        </p:nvPicPr>
        <p:blipFill>
          <a:blip r:embed="rId1"/>
          <a:stretch/>
        </p:blipFill>
        <p:spPr>
          <a:xfrm>
            <a:off x="755640" y="2637000"/>
            <a:ext cx="7488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бразов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ие основным движениям(ходьба, прыжки, плавание, лазание, метание предмет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двигательных качеств(ловкость, выносливости, силы, координации движени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знаний о пользе физических упражнений, о здоровом образе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у ребёнка осознанного отношения к своему здоров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интереса к двигательной деятельности; элементам спорта; достижениям спортсменов в разных видах спор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самоконтроля при выполнении физических упражнений и использовании оборудования, тренажеров, пособий по развитию дви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1523880" y="228600"/>
            <a:ext cx="74678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равственно-волевых качеств, объективной самооценки, доброжелательных взаимоотношений, выработка полезных привычек(к опрятности, чистоте, ежедневной физкультур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480708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Макс</cp:lastModifiedBy>
  <cp:lastPrinted>2016-11-10T16:23:26Z</cp:lastPrinted>
  <dcterms:modified xsi:type="dcterms:W3CDTF">2016-11-10T16:24:53Z</dcterms:modified>
  <cp:revision>36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