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FBD-DB2C-4275-9D27-67022D87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DA5-FB9F-49BF-924A-1CF1333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A45-31BB-4948-9024-7BCD6FDD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D36-4616-4C64-8798-9022EE8C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B709-9D85-43C5-88BB-3C94A41A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DF45-C8A5-4675-BB4D-24D42BE1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560A-167E-4F5D-B69D-C1156525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D618-343D-49C0-A2B6-0332B95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F96B-5AE5-40AA-903D-EEF1A73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D1B8-4CCA-4D59-BCE9-993B1772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D260-6F89-4A8A-B58C-CC87D5B7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744-B686-495F-AA54-34858B89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709E-8D26-4D8E-902F-4E86599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DEE-9571-43AC-A761-5A1E2E3A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F03F-1DC1-4B59-9B7D-F1CD9B5A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C9E4-FC26-4D79-8FCB-F28FC741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F11C-3A29-4BEE-9BCC-36CC2FF4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B68-9C17-4E86-AD3E-CE206495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DC7-A807-4104-A60A-203A7F9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2FB-03B3-4DBE-9130-8A7719E0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048-BEB3-4065-A898-44B6497E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F37-C4F7-42CD-A5FE-C1ED98E9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560-2B66-428F-890F-AD82CB1E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8B3-73ED-4609-9580-73737EB9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2DB4-0E7E-4858-9854-AC1FDD4E07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4280-BBE9-47D6-9BF9-47B751B510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1560" y="228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Физическое развитие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и формирование правил здорового образа жизни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у детей дошкольного возраста в условиях реализации ФГОС дошкольного образ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5105520" y="54100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ктор по ФИЗО: Денисова Э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доровьесберегающие педагогические технологии</a:t>
            </a:r>
            <a:br>
              <a:rPr sz="40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(А.М. Сивцова)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Технологии сохранения и стимулирования здоровь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тчин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тмоплас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еские пау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е и спортив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акс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пальчико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ля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ыхатель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коррегирую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ые процед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воздушные ван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2. Технологии обучения здоровому образу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отренинги и игротерап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ые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из серии «Здоровь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масс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ечный самомасс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редства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Гигиен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жим деятельности, отдыха, сна и питания, гигиена помещения, площадки, одежды, спортивного инвентар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Естественные силы прир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( солнце, воздух, в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Физически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беспечивают удовлетворение естественной биологической потребности детей в движении, способствуют формированию двигательных умений и навы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изическая куль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здействует непосредственно на жизненно важные качества, возможности и способности человека, которые получены в виде задатков от природы, передаются по наследству и развиваются в течение жизни поколений под влиянием условий жизни, деятельности и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2667240" cy="217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омпоненты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лесны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витие и коррекцию физических данных ребенка: выносливости, координации, силы, быстроты, гиб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теллектуальны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правлен на развитие познавательных процессов; на овладение элементарными знаниями: техники выполнения различных движений, анатомического строения человека, правил гигиены, закаливания, сохранения и укрепления здоровья; на знакомство с различными видами физкультурно-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уховно-мировоззренчески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формирование у детей навыков здорового образа жизни, заинтересованности и потребности в систематической деятельности физическими упражнениями, закаливающих процедурах для дальнейшей самореализации в учебной, спортивной, трудовой, общ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Методы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глядны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имитация (подражание), демонстрация способов выполнения физических упражнений, использование наглядных пособий (рисунки, фотографии, видеофильмы), использование зрительных ориентиров, звуковых сигна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овесны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писание, объяснение, комментирование упражнений, указания, распоряжения вопросы к детям, команды, беседы, чтение, рассказы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ктически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ыполнение движений, повторение упражнений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ультура здоровья 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тот уровень культуры, без освоения которого вообще невозможно говорить о нормах отношения ребенка к себе и окружающим. К этому уровню можно отнести, например, гигиенические навыки, навыки самообслуживания, навыки общен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елательный уровен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этому уровню целесообразно отнести навыки и умения, на приобретение которых детьми направлены все разделы работы, осуществляемой в дошкольном учреждении в рамках образовательной программы: музыкальная культура, художественная культура, физическая культура, экологическая культур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ариативный уровен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этому уровню относятся виды индивидуального культурного предпочтения, которые, как правило, реализуются через систему дополнительного образования: музыкальных, художественных, спортивных школах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изическое воспитани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едагогическая система, направленна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форм и функций организма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двигательных умений, навыков,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физических кач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ивычек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7720" y="274680"/>
            <a:ext cx="807732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Федеральный государственный образовательный стандарт дошкольного образования обозначает целевые ориенти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у ребенка развита крупная и мелкая моторика. Он может контролировать свои движения и управлять ими, обладает развитой потребностью бегать, прыгать…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владение элементарными нормами и правилами здорового образа жизни (в питании, двигательном режиме, закаливании, при формировании полезных привычек и др.)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обретение опыта в следующих видах деятельности: двигательной, в том числе в основных движениях (ходьбе, беге, прыжках, лазанье и др.), а также при катании на самокате, санках, велосипеде, ходьбе на лыжах, в спортивных играх»; «Ребенок может следовать … правилам безопасного поведения и личной гигие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711080" y="304920"/>
            <a:ext cx="68374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3.bp.blogspot.com/-HLWe1DGWD3Y/Ux7ffdi0VRI/AAAAAAAABXs/inMOIhWgMfE/s1600/1.png"/>
          <p:cNvPicPr/>
          <p:nvPr/>
        </p:nvPicPr>
        <p:blipFill>
          <a:blip r:embed="rId1"/>
          <a:stretch/>
        </p:blipFill>
        <p:spPr>
          <a:xfrm>
            <a:off x="685800" y="1600200"/>
            <a:ext cx="7745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Факторы , способствующие физическому развитию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2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362800" cy="50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ошкольный возрас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— один из наиболее ответственных периодов в жизни каждого человека. Именно в этом возрастном периоде закладываются основы здоровья, правильного физического развития, происходит становление двигательных способностей, формируется интерес к физической культуре и спорту, воспитываются личностные, морально-волевые и поведенческие качества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363852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6665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ЗДОРОВЬ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a00"/>
                </a:solidFill>
                <a:latin typeface="Arial"/>
              </a:rPr>
              <a:t>это состояние полного физического, психического и социального благополучия, а не просто отсутствие болезней или физических деф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мирная организация здравоохра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209680" y="0"/>
            <a:ext cx="3384720" cy="27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ФГОС дошкольног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«Стандарт решает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охраны и укрепления физического и психического здоровья детей; создание среды, которая гарантирует охрану и укрепление физического и психического здоровья воспитан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ю физического воспита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вляется формирование у детей основ здорового образа жизни. Организованная физкультурная деятельность (как в детских садах, так и семье), свободная двигательная деятельность, когда ребенок во время прогулок играет, прыгает, бегает и т.п., улучшают деятельность сердечно-сосудистой, дыхательной и нервной систем, укрепляют опорно-двигательный аппарат, улучшают обмен веществ; повышают устойчивость ребенка к заболеваниям, мобилизуют защитные силы орган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2405160" y="4572000"/>
            <a:ext cx="4333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и физического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здоро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рана и укрепление здоровья, улучшение физического развития, совершенствование и повышение работоспособности организма ребёнка, зака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med59.ru/uploads/vr12.jpg"/>
          <p:cNvPicPr/>
          <p:nvPr/>
        </p:nvPicPr>
        <p:blipFill>
          <a:blip r:embed="rId1"/>
          <a:stretch/>
        </p:blipFill>
        <p:spPr>
          <a:xfrm>
            <a:off x="755640" y="2637000"/>
            <a:ext cx="748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зо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основным движениям(ходьба, прыжки, плавание, лазание, метание предме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двигательных качеств(ловкость, выносливости, силы, координации движе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знаний о пользе физических упражнений, о здоровом образе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у ребёнка осознанного отношения к своему здор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интереса к двигательной деятельности; элементам спорта; достижениям спортсменов в разных видах спор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самоконтроля при выполнении физических упражнений и использовании оборудования, тренажеров, пособий по развитию 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523880" y="228600"/>
            <a:ext cx="7467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равственно-волевых качеств, объективной самооценки, доброжелательных взаимоотношений, выработка полезных привычек(к опрятности, чистоте, ежедневной физкульту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807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Макс</cp:lastModifiedBy>
  <cp:lastPrinted>2016-11-10T16:23:26Z</cp:lastPrinted>
  <dcterms:modified xsi:type="dcterms:W3CDTF">2016-11-10T16:24:53Z</dcterms:modified>
  <cp:revision>3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