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371-EEE7-496A-A12F-AF9BAC11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0EC-1CD5-4DF5-819E-CC16D01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B07-C3C3-45DB-8DD9-64E09332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463-85D8-4FD2-84B1-4F202AC1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5B4-4229-4682-BC36-F47B364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CC5-1F8B-49B9-8537-717BE89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C84-39DD-44B5-93BB-B9AEACB6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F68-1441-4667-8DCD-D5593F7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692-71B3-4E26-B660-2AC9CFE9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639-57E2-44B3-A4E8-9FDA0CB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4AC-74DB-4AEF-93E4-4BA2346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C37-AA1A-4FCF-BF17-2FBA80F3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F4BC-706E-4227-8E3D-8B9AB710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Неорганическая химия 8 класс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5800" y="21384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000" spc="-1" strike="noStrike">
                <a:solidFill>
                  <a:srgbClr val="99284c"/>
                </a:solidFill>
                <a:latin typeface="Arial"/>
              </a:rPr>
              <a:t>Подведение итогов. Оценивание</a:t>
            </a:r>
            <a:endParaRPr b="1" i="1" lang="en-US" sz="3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За письменную работу в классе ученики набрали: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Максимум 9 баллов-«5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7-8 баллов - оценка «4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6-4 баллов  – оценка «3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3-0 баллов  – оценка «2»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Рефлексия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910880"/>
            <a:ext cx="828036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Ученики выбирают свой вариант  ответа  в мини-анкете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1. На уроке я работал          активно / пассивно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2. Своей работой на уроке доволен / не доволен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3. Урок для меня показался коротким / длинным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4. За урок я не устал / устал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5. Мое настроение стало лучше / стало хуж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6. Материал урока мне был понятен / не понятен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7. Домашнее задание мне кажется интересным / неинтересным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19640" y="197928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Домашнее задание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а «5». : с. 261   №  1, 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а «4»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Cu  →   CuO  →  Cu (OH)2 → Cu Cl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Ca   →  Ca (OH)2 →  Ca Cl2 → Ca SO4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9280" y="3780000"/>
            <a:ext cx="48592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7800" y="720720"/>
            <a:ext cx="712332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ние №1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Из приведенных формул веществ: Al(OH)3, CO2,  Mn2O7,  HNO3, H2SiO3, NaОH, V2O5, Mg(OH)2, CaCO3, RbOH, CuO, Fe(OH)3,  HBr,  FeO, CuOHCl, H2SO3, K2NaPO4, CuOH Al(OH)2NO3, NaHCO3, SO2, H2B4O7, KClO3, H2Se – выпишите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1 вариант – формулы оксидов и подчеркните кислотные оксиды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2 вариант – формулы кислот и подчеркните двухосновные кислоты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3 вариант – формулы оснований и подчеркните щелочи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4 вариант – формулы солей и подчеркните основные соли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После выполнения осуществляется взаимопроверка: 1 ↔ 2; 3 ↔ 4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Выставляются набранные баллы: от 1до 6 за каждый правильный ответ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ние №2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Химический эксперимент.  Работа в группах. Различите между собой соляную кислоту, гидроксид натрия и воду при помощи лакмуса и фенолфталеин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59280" y="1979640"/>
            <a:ext cx="438300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Тема урока: Генетическая связь между классами неорганической химии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de-DE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333333"/>
                </a:solidFill>
                <a:latin typeface="Arial"/>
              </a:rPr>
              <a:t>Генетической называют связь между веществами разных классов, основанную на их взаимопревращениях и отражающую единство их происхождения, т. е. генезис веществ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00720" y="1800360"/>
            <a:ext cx="37386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3000" spc="-1" strike="noStrike">
                <a:solidFill>
                  <a:srgbClr val="000080"/>
                </a:solidFill>
                <a:latin typeface="Arial"/>
              </a:rPr>
              <a:t>Генетический ряд неметаллов отражает взаимосвязь веществ разных классов, в основу которой положен один неметалл.</a:t>
            </a: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Генетический ряд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5400" y="2138400"/>
            <a:ext cx="41068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503280" indent="-432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3000" spc="-1" strike="noStrike">
                <a:solidFill>
                  <a:srgbClr val="008000"/>
                </a:solidFill>
                <a:latin typeface="Arial"/>
              </a:rPr>
              <a:t>Генетический ряд металлов отражает взаимосвязь веществ разных классов, в основу которой положен один и тот же метал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Признаки генетического ряда 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1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се вещества генетического ряда должны быть образованы одним химическим элементо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ещества, образованные одним и тем же химическим элементом, должны принадлежать к разным классам (т.е. отражать разные формы существования химического элемента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ещества, образующие генетический ряд одного химического элемента, должны быть связаны взаимопревращениям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99284c"/>
                </a:solidFill>
                <a:latin typeface="Arial"/>
              </a:rPr>
              <a:t>Cвязь между классами неорганических веществ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енетический  ряд   метал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Mg  →            MgO  →        Mg (OH)2    →    Mg3( PO4)2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талл→оксид металла→ основание→сол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60720" y="3959280"/>
            <a:ext cx="50403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99284c"/>
                </a:solidFill>
                <a:latin typeface="Arial"/>
              </a:rPr>
              <a:t>Cвязь между классами неорганических веществ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енетический ряд неметал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P            →      P2O5 →        H3 PO4    →      Мg3 (PO4)2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еметалл →оксид неметалла→кислота → сол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60720" y="4140360"/>
            <a:ext cx="360036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Задание №3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Из приведенного перечня веществ: K, H2SO3, P2O5, AlCl3, S, Ba, H3PO4, N2, BaO,  Na3PO4, Ba(OH)2, MgO, SO2, P, KOH, BaCl2, K2SO3, K2O – выпишите формулы веществ, составляющих генетический ряд: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1 вариант – Ва, 2 вариант – S,  3 вариант – K, 4 вариант – P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После выполнения осуществляется взаимопроверка. Выставляются баллы максимум- 3 балл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Александр Жуков</cp:lastModifiedBy>
  <dcterms:modified xsi:type="dcterms:W3CDTF">2015-04-19T07:56:33Z</dcterms:modified>
  <cp:revision>14</cp:revision>
  <dc:subject/>
  <dc:title/>
</cp:coreProperties>
</file>