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56E-4DB9-4DA0-9644-E6050270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48E-C80A-459B-BE40-D64E5467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226-B036-49C6-9558-2EE9455D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9B2-CDFA-4E2F-B87E-A1EC8A01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DB27-D2CE-4E0E-9ABF-252133E8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71C5-B749-4F2C-B97E-95391218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95E0-1C18-4970-AD59-3061D8C2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2224-60D5-4B8E-ADAE-5D3914C9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77E4-B211-4B84-85AC-EE383F9B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4977-48B3-45C9-8944-AE7532C5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C66F-1180-447B-8137-B12E681C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E80-35BD-482D-98C3-0A32CADB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4B3A-D817-465B-868D-44C03971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C9CE-D077-465D-8600-22F57BB3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A6AB-2143-42BC-A99F-89D8BD95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A821-B7AA-4EAF-816C-95BB7D6B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713B-D0C7-4768-8FD0-93A82567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0C3-A1E2-4B37-B737-06380761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887-CA81-48FA-B0BF-C7D7EACD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619-D4B9-4D2D-BE53-A4ECF1F4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AE0-D3FE-4B5E-A8A1-D858132E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6FB-83F9-451B-A492-8D45CF6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96E-6336-49B2-9EF0-695048A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1D9-46CC-4F1B-9E4C-85F7CD67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C6D9-57C6-4537-B813-6ADF5EA5B9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75B7-647F-43FC-BFEC-598D6C93D4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3429000"/>
            <a:ext cx="84596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 Narrow"/>
              </a:rPr>
              <a:t>«Экстремизм в молодежной среде»: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ffffcc"/>
                </a:solidFill>
                <a:latin typeface="Arial Narrow"/>
              </a:rPr>
              <a:t>поговорим о толерантности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920" y="5960880"/>
            <a:ext cx="345600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ffffcc"/>
              </a:solidFill>
              <a:latin typeface="Palatino Linotype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826920" y="475200"/>
            <a:ext cx="61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юдей неинтересных в мире не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х судьбы – как история плане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каждой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все особое, своё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нет планет, похожих на неё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 Е. Евтушенк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2144520" cy="21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468360" y="38880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lonna MT"/>
              </a:rPr>
              <a:t>Интолерантный путь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– представление человека о сво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исключительности, низкий уровень воспитанности, чув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дискомфортности, существования в окружающей е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действительности, желание власти, неприятие противоположных взглядов, традиций, обычае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81560" y="4724280"/>
            <a:ext cx="81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lonna MT"/>
              </a:rPr>
              <a:t>Толерантный путь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– путь человека, хорошо знающего себ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комфортно чувствующего себя в окружающей сред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понимающегодругих людей, и готового всегда прийти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помощь, человека с доброжелательным отношением 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иным культурам, взглядам, традиция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3132000" y="1998720"/>
            <a:ext cx="2743200" cy="27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2050920" y="260280"/>
            <a:ext cx="47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83440" y="94932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00"/>
                </a:solidFill>
                <a:uFillTx/>
                <a:latin typeface="Arial"/>
              </a:rPr>
              <a:t>Толерант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988880" y="94932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Интолерант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4284720" y="1125360"/>
            <a:ext cx="0" cy="460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80000" y="2157480"/>
            <a:ext cx="4217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Уважение мнения друг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Доброжела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Желание что-либо дел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Понимание и принят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Чуткость, любознатель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Снисходи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Доверие, гуман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430520" y="2133720"/>
            <a:ext cx="457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поним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нор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Эго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терпим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Выражение пренебре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Раздражи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Равнодуш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Цин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мотивированная агрес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2843280" y="2637000"/>
            <a:ext cx="32414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3203640" y="2924280"/>
            <a:ext cx="2724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олерант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4500720" y="1125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4500720" y="3860640"/>
            <a:ext cx="0" cy="1368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6227640" y="321300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6156360" y="1341360"/>
            <a:ext cx="1079640" cy="1727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156360" y="3429000"/>
            <a:ext cx="1008000" cy="1368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050920" y="314172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H="1" flipV="1">
            <a:off x="1331640" y="1267920"/>
            <a:ext cx="1439640" cy="17290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1834920" y="3357720"/>
            <a:ext cx="936360" cy="1511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780000" y="5493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635280" y="530064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947280" y="40464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 пра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уг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791400" y="2852640"/>
            <a:ext cx="23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рудничеств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партнёр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6300720" y="479736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ин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303120" y="28479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463320" y="4941720"/>
            <a:ext cx="27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ятие друг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им, какой он е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174960" y="189000"/>
            <a:ext cx="30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рпимость к чужи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ениям, верования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д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Толерантност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значает уважение, принятие и правильное понимание богатого многообразия культур нашего мира, форм самовыражения и способов проявлений человеческой индивидуальности (переводится как «терпимость»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обровольчество (волонтерство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бровольный благотворительный труд людей на благо нуждающихся в помощи, сознательная деятельность по преобразованию социальной действительности при условии вовлечения граждан в эту деятельность на добровольной осно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987640" y="5338800"/>
            <a:ext cx="2160720" cy="124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берите, с кем из этих людей вы меньше всего хотели бы оказаться в одном купе поезда: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цыганка           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гомосексуалист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илиционе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олодой человек, больной СПИДо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неаккуратно одетая женщина с маленьким ребёнко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кавказец (таджик, узбек) - мусульманин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человек из деревни с большим мешко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грязный, дурно пахнущий БОМЖ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 подросток, похожий на наркома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 бывший заключённы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инвалид со складной коляск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. китаец, который ест странно пахнущую ед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3. человек, говорящий на непонятном язы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. пожилой человек явно неадекватного повед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. кришнаит</a:t>
            </a:r>
            <a:br>
              <a:rPr sz="2400"/>
            </a:b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3640" y="5949720"/>
            <a:ext cx="671400" cy="14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7583400" cy="29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Arial Narrow"/>
              </a:rPr>
              <a:t>Что такое экстремизм?</a:t>
            </a:r>
            <a:endParaRPr b="1" lang="en-US" sz="8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19160" y="198108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Основные нормативные правовые акты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Понятие «экстремизм» определено и упоминается в нормативных правовых актах, в числе которых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1. Конституция Российской Федерации. Экстремизм во всех своих проявлениях в разной степени, но всегда посягает именно на то, что закрепляет Конституция РФ: основы конституционного строя, права и свободы человека и гражданина, порядок и принципы государственного устройства и местного самоуправления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2. Федеральный закон от 25 июля 2002 года № 114-ФЗ «О противодействии экстремистской деятельност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3. Федеральный закон от 05 июля 2002 года № 112-ФЗ «О внесении изменений и дополнений в законодательные акты Российской Федерации в связи с принятием Федерального закона «О противодействии экстремистской деятельност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4. Федеральный закон от 6 октября 2003 года № 131-ФЗ «Об общих принципах организации местного самоуправления в Российской Федераци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5. Федеральный закон от 24 июля 2007 года № 211-ФЗ «О внесении изменений в отдельные законодательные акты Российской Федерации в связи с совершенствованием государственного управления в области противодействия экстремизму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6. Указ Президента Российской Федерации от 23 марта 1995 года № 310 (в редакции от 03.11.2004) «О мерах по обеспечению согласованных действий органов государственной власти в борьбе с проявлениями фашизма и иных форм политического экстремизма в Российской Федераци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7. Постановление Правительства Российской Федерации о 18.01.2003 г. № 27 (в редакции от 08.12.2008) «Об утверждении Положения о порядке определения перечня организаций и физических лиц, в отношении которых имеются сведения об их участии в экстремистской деятельности, и доведения этого перечня до сведения организаций, осуществляющих операции с денежными средствами или иным имуществом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7786800" y="5229360"/>
            <a:ext cx="1357200" cy="187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1 0.12538 L -0.92569 -0.89891 E">
                                      <p:cBhvr>
                                        <p:cTn id="70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4273560" cy="109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экстремизм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39640" y="1484280"/>
            <a:ext cx="655308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ой толковый словарь дает следующее определение экстремизму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экстремизм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приверженность крайним взглядам и мер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ы насилия  относятся к категории экстремистских, есл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они не только используются в качестве прямого способа достижения политических, идеологических и социальных целей, но и являются инструментом публичности и устраш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они направлены на то, чтобы  причинить вред не непосредственному противнику, а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2149560" cy="177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3612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Экстремистская деятельность (экстремизм) – это</a:t>
            </a: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03600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насильственное изменение основ конституционного строя и нарушение целостности Российской Федерации; · публичное оправдание терроризма и иная террористическая деятельность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возбуждение социальной, расовой, национальной или религиозной роз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пропаганда исключительности, превосходства либо неполноценности человека по признаку его социальной, расовой, национальной, религиозной или языковой принадлежности или отношения к религи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совершение преступлений по мотивам политической, идеологической, расовой, национальной или религиозной ненависти или вражды либо по мотивам ненависти или вражды в отношении какой-либо социальной групп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; · 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 · организация и подготовка указанных деяний, а также подстрекательство к их осуществлению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финансирование указанных деяний либо иное содействие в их организации, подготовке и осуществлении, в том числе путём предоставления учебной, полиграфической и материально-технической базы, телефонной и иных видов связи или оказания информационных услу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8185320" y="5942160"/>
            <a:ext cx="958680" cy="91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21 -0.034 L -0.94757 -0.93245 E">
                                      <p:cBhvr>
                                        <p:cTn id="8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108000" y="2492280"/>
            <a:ext cx="2232000" cy="1666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120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Экстремальное поведение -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280" y="764640"/>
            <a:ext cx="716436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крайние способы достижения социальной справедливости, каких-то благ, привилегий, как для себя, так и депривированных социальных групп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еррор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крайнее проявление экстремизма явление, связанное с насилием, угрожающее жизни и здоровью гражд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ционал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форма общественного единства, основанная на идее национального превосходства и национальной исключитель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Рас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совокупность концепций, основу которых составляют положения о физической и психической неравноценности человеческих расс и о решающем влиянии расовых различий на историю и культуру человеческого обще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Фаш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о идеология и практика, утверждающие превосходство и исключительность определенной нации или расы и направленные на разжигание национальной нетерпимости, дискриминацию, применение насилия и терроризма, установления культа вожд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3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Предлагаю всем сосредоточиться на следующих вопросах: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32720" cy="48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помните, как вы в детстве переживали обид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-за чего вы огорчали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акое терпение? Что такое толерантнос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чем их схожес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ы понимаете выражение «толерантность в общении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ли терпим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границы терпим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088480" cy="15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Игра «Дополни»: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«Быть толерантным - это значит...»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эмблема толерантности картинки"/>
          <p:cNvPicPr/>
          <p:nvPr/>
        </p:nvPicPr>
        <p:blipFill>
          <a:blip r:embed="rId1"/>
          <a:stretch/>
        </p:blipFill>
        <p:spPr>
          <a:xfrm>
            <a:off x="1332000" y="1882800"/>
            <a:ext cx="6591240" cy="4759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451640" y="2852280"/>
            <a:ext cx="146376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956360" y="5229000"/>
            <a:ext cx="958680" cy="86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7-03-21T04:44:26Z</dcterms:modified>
  <cp:revision>52</cp:revision>
  <dc:subject/>
  <dc:title>PowerPoint Presentation</dc:title>
</cp:coreProperties>
</file>