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0F7-FC51-49EA-901A-DFE74D98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8BB-D242-47B3-A3FA-ABA6993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3FD-CAD8-47C3-ABEB-AA48E7B8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617-5610-416B-93BB-131FA66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3B88-09BB-4199-9102-C68E7158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082D-BB47-47DD-AD43-D80A1E9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F5D0-816C-47DC-B196-1627D09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8B0-1187-4602-8B2B-F22CD57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DAA6-5341-4B4C-8C97-4D760ADC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1D31-0AC5-4DB2-A4D5-1448946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F62-F0DB-4246-A11A-B903B7D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B09-CA93-448A-BB31-EEE2963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26AB-2145-42EB-A053-D44B9BC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73B-1ACD-48A1-AE6F-2530E6F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16E-DF84-4EE4-B819-8CE9B212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2B25-C821-406A-8D0C-2C3068B3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AAD0-0B7B-4D96-98B7-C31C4CB4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CB6-C545-4FB7-9F01-3A005B30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CE0-9E76-45C6-8FFB-DB300C3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851-DAFF-43CD-AF8E-431F8F5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5E2-00B3-412C-9B69-57E4477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D4C-E493-49DE-A98E-C5CB402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8DD-BD3B-4E55-AE44-3B0105B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283-F764-4337-B30A-789D560A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2A5-2D8F-493C-B9DB-5AA80AACB4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8CC-A05C-4D44-BBF8-7A3DD20747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84596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Narrow"/>
              </a:rPr>
              <a:t>«Экстремизм в молодежной среде»: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Arial Narrow"/>
              </a:rPr>
              <a:t>поговорим о толерантности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960880"/>
            <a:ext cx="34560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cc"/>
              </a:solidFill>
              <a:latin typeface="Palatino Linotype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26920" y="475200"/>
            <a:ext cx="61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дей неинтересных в мире не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х судьбы – как история план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каждой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се особое, сво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т планет, похожих на не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 Е. Евтушен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4452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68360" y="38880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сключительности, низкий уровень воспитанности, чув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искомфортности, существования в окружающей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ействительности, желание власти, неприятие противоположных взглядов, традиций, обыча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81560" y="4724280"/>
            <a:ext cx="81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уть человека, хорошо знающего с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комфортно чувствующего себя в окружающей сре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нимающегодругих людей, и готового всегда прийт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мощь, человека с доброжелательным отношением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ным культурам, взглядам, традици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132000" y="1998720"/>
            <a:ext cx="2743200" cy="27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ерант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чает уважение, принятие и правильное понимание богатого многообразия культур нашего мира, форм самовыражения и способов проявлений человеческой индивидуальности (переводится как «терпимость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обровольчество (волонтерство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бровольный благотворительный труд людей на благо нуждающихся в помощи, сознательная деятельность по преобразованию социальной действительности при условии вовлечения граждан в эту деятельность на добровольной осно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987640" y="5338800"/>
            <a:ext cx="216072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берите, с кем из этих людей вы меньше всего хотели бы оказаться в одном купе поезда: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цыганка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омосексуалист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лиционе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олодой человек, больной СПИД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еаккуратно одетая женщина с маленьким ребёнк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кавказец (таджик, узбек) - мусульмани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человек из деревни с большим мешк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грязный, дурно пахнущий БОМЖ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подросток, похожий на наркома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бывший заключённ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инвалид со складной коляск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 китаец, который ест странно пахнущую е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3. человек, говорящий на непонятном язы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. пожилой человек явно неадекватного пове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. кришнаит</a:t>
            </a: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3640" y="5949720"/>
            <a:ext cx="671400" cy="14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83400" cy="29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Arial Narrow"/>
              </a:rPr>
              <a:t>Что такое экстремизм?</a:t>
            </a:r>
            <a:endParaRPr b="1" lang="en-US" sz="8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160" y="198108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сновные нормативные правовые ак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Понятие «экстремизм» определено и упоминается в нормативных правовых актах, в числе которы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1. Конституция Российской Федерации. Экстремизм во всех своих проявлениях в разной степени, но всегда посягает именно на то, что закрепляет Конституция РФ: основы конституционного строя, права и свободы человека и гражданина, порядок и принципы государственного устройства и местного самоуправ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2. Федеральный закон от 25 июля 2002 года № 114-ФЗ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3. Федеральный закон от 05 июля 2002 года № 112-ФЗ «О внесении изменений и дополнений в законодательные акты Российской Федерации в связи с принятием Федерального закона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4. Федеральный закон от 6 октября 2003 года № 131-ФЗ «Об общих принципах организации местного самоуправления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5. Федеральный закон от 24 июля 2007 года № 211-ФЗ «О внесении изменений в отдельные законодательные акты Российской Федерации в связи с совершенствованием государственного управления в области противодействия экстремизму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6. Указ Президента Российской Федерации от 23 марта 1995 года № 310 (в редакции от 03.11.2004) «О мерах по обеспечению согласованных действий органов государственной власти в борьбе с проявлениями фашизма и иных форм политического экстремизма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7. Постановление Правительства Российской Федерации о 18.01.2003 г. № 27 (в редакции от 08.12.2008) «Об утверждении Положения о порядке определения перечня организаций и физических лиц, в отношении которых имеются сведения об их участии в экстремистской деятельности, и доведения этого перечня до сведения организаций, осуществляющих операции с денежными средствами или иным имуществом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7786800" y="522936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1 0.12538 L -0.92569 -0.89891 E">
                                      <p:cBhvr>
                                        <p:cTn id="7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4273560" cy="109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из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39640" y="1484280"/>
            <a:ext cx="655308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ой толковый словарь дает следующее определение экстремизму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кстремизм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приверженность крайним взглядам и мер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ы насилия  относятся к категории экстремистских, ес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они направлены на то, чтобы  причинить вред не непосредственному противнику, а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149560" cy="17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361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Экстремистская деятельность (экстремизм) – это</a:t>
            </a: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0360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насильственное изменение основ конституционного строя и нарушение целостности Российской Федерации; · публичное оправдание терроризма и иная террористическая деятельность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збуждение социальной, расовой, национальной или религиозной роз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сключительности, превосходства либо неполноценности человека по признаку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совершение преступлений по мотивам политической, идеологической, расовой, национальной или религиозной ненависти или вражды либо по мотивам ненависти или вражды в отношении какой-либо социальной групп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; · 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 · организация и подготовка указанных деяний, а также подстрекательство к их осуществлени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финансирование указанных деяний либо иное содействие в их организации, подготовке и осуществлении, в том числе путём предоставления учебной, полиграфической и материально-технической базы, телефонной и иных видов связи или оказания информационных услу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185320" y="5942160"/>
            <a:ext cx="95868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21 -0.034 L -0.94757 -0.93245 E">
                                      <p:cBhvr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2232000" cy="1666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альное поведение -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764640"/>
            <a:ext cx="716436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крайние способы достижения социальной справедливости, каких-то благ, привилегий, как для себя, так и депривированных социальных групп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ррор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крайнее проявление экстремизма явление, связанное с насилием, угрожающее жизни и здоровью гражд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ционал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форма общественного единства, основанная на идее национального превосходства и национальной исключи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с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совокупность концепций, основу которых составляют положения о физической и психической неравноценности человеческих расс и о решающем влиянии расовых различий на историю и культуру человеческого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аш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идеология и практика, утверждающие превосходство и исключительность определенной нации или расы и направленные на разжигание национальной нетерпимости, дискриминацию, применение насилия и терроризма, установления культа вожд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3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Предлагаю всем сосредоточиться на следующих вопросах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8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помните, как вы в детстве переживали оби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-за чего вы огорчали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терпение? Что такое толерантно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ем их схож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понимаете выражение «толерантность в общени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и терпим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границы терпим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08848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Игра «Дополни»: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«Быть толерантным - это значит...»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эмблема толерантности картинки"/>
          <p:cNvPicPr/>
          <p:nvPr/>
        </p:nvPicPr>
        <p:blipFill>
          <a:blip r:embed="rId1"/>
          <a:stretch/>
        </p:blipFill>
        <p:spPr>
          <a:xfrm>
            <a:off x="1332000" y="1882800"/>
            <a:ext cx="6591240" cy="475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451640" y="2852280"/>
            <a:ext cx="146376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56360" y="5229000"/>
            <a:ext cx="958680" cy="86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7-03-21T04:44:26Z</dcterms:modified>
  <cp:revision>52</cp:revision>
  <dc:subject/>
  <dc:title>PowerPoint Presentation</dc:title>
</cp:coreProperties>
</file>