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D14-8D43-46B8-9E4B-ABB45965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8A2-8A5F-4EE6-83A1-C6F2ADCC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F10-E88D-4E94-98D5-5052ABDE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BCB-1DF9-4526-A022-70B8C3E5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4C2-E0C0-4486-980F-B38603C5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711-E305-4427-8E3A-BD7C1BA9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86A-6610-47AF-AC3A-76FA756C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02C-DB50-4B7E-9959-613F1D17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B09-17D5-4F0E-A18B-E2BFB222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FA0-07F1-4E70-91B9-F9621EEF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EBC-005E-44AE-B000-CEAA7A0D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F81-84EB-4617-B035-6CAAB92D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3197-7937-4C38-A97E-3A8DE873D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5584_html_cfd9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708360" y="566100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: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ШИБАНОВА Юлия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43280" y="256536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e14"/>
                </a:solidFill>
                <a:latin typeface="Times New Roman"/>
              </a:rPr>
              <a:t>1 СЕНТЯБ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4000" y="1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2484"/>
                </a:solidFill>
                <a:latin typeface="MS Gothic"/>
              </a:rPr>
              <a:t>ПРАЗДНИК</a:t>
            </a:r>
            <a:r>
              <a:rPr b="1" i="1" lang="ru-RU" sz="4000" spc="-1" strike="noStrike">
                <a:solidFill>
                  <a:srgbClr val="e42484"/>
                </a:solidFill>
                <a:latin typeface="MS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2484"/>
                </a:solidFill>
                <a:latin typeface="MS Gothic"/>
              </a:rPr>
              <a:t>«ДЕНЬ ЗНАНИ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АЗИЯ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4941720"/>
            <a:ext cx="878544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давляющем большинстве азиатских стран начало занятий приходится, как и у нас, на первое сентября, например, 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Китае, Гонконге, Лаосе, Тайв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Монгол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в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 Мьянм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ы начинают работать во вторую среду сентября. Впрочем, во многих странах Азии начало учебного года приходится и на вес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upercoolpics_04_19112012000512"/>
          <p:cNvPicPr/>
          <p:nvPr/>
        </p:nvPicPr>
        <p:blipFill>
          <a:blip r:embed="rId1"/>
          <a:stretch/>
        </p:blipFill>
        <p:spPr>
          <a:xfrm>
            <a:off x="1476360" y="620640"/>
            <a:ext cx="64771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Япон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бные заведения начинают работу с первого апреля, 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Таилан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в мае, после празднования тайского нового года (его дата определяется каждый раз индивидуально, но обычно он приходится на середину апреля), а на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Филиппина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ьники отправляются за знаниями в первых числах ию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hildren-attend-a-ceremony-on-their-first-day-of-school-at-Shimizu"/>
          <p:cNvPicPr/>
          <p:nvPr/>
        </p:nvPicPr>
        <p:blipFill>
          <a:blip r:embed="rId1"/>
          <a:stretch/>
        </p:blipFill>
        <p:spPr>
          <a:xfrm>
            <a:off x="1116000" y="189000"/>
            <a:ext cx="7059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0e14"/>
                </a:solidFill>
                <a:latin typeface="Times New Roman"/>
              </a:rPr>
              <a:t>БЛИЖНИЙ ВОСТО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 flipV="1" rot="10800000">
            <a:off x="250920" y="4573440"/>
            <a:ext cx="878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Израил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ало занятий в школах, как правило, приходится на 1-ое сентября, правда, иногда дата начала учебного года переносится в зависимости от выходных дней. В соседних арабских странах занятия в школах тоже начинаются в сентябре: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Иран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22 или 23 сентября, что соответствует началу осени по персидскому календарю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Катар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Объединенных Арабских Эмират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 сентября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Егип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с 15-го по 24-ое сентября, а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Ома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Саудовской Арав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, там тоже есть школы) учебный год начинается в первую неделю сентя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школа в Египте"/>
          <p:cNvPicPr/>
          <p:nvPr/>
        </p:nvPicPr>
        <p:blipFill>
          <a:blip r:embed="rId1"/>
          <a:stretch/>
        </p:blipFill>
        <p:spPr>
          <a:xfrm>
            <a:off x="1116000" y="476280"/>
            <a:ext cx="69483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0e14"/>
                </a:solidFill>
                <a:latin typeface="Times New Roman"/>
              </a:rPr>
              <a:t>АФРИКА</a:t>
            </a:r>
            <a:r>
              <a:rPr b="0" lang="ru-RU" sz="1600" spc="-1" strike="noStrike">
                <a:solidFill>
                  <a:srgbClr val="fa0e14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9280" y="435888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многих странах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 Афр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ти тоже начинают ходить в школу первого сентября, например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Эфиоп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Ниге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Сома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Алжир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нь Знаний традиционно отмечается в первое воскресенье сентяб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которых областях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К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ало школьных занятий тоже приходится на первое сентября, в других же регионах страны учебный год начинается в январе, сразу после празднования Нового года.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ЮА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Танз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чало учебного года приходится на середину января, а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Южном Суда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нятия в школах начинаются 20 м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школа в Нигерии"/>
          <p:cNvPicPr/>
          <p:nvPr/>
        </p:nvPicPr>
        <p:blipFill>
          <a:blip r:embed="rId1"/>
          <a:stretch/>
        </p:blipFill>
        <p:spPr>
          <a:xfrm>
            <a:off x="1908000" y="476280"/>
            <a:ext cx="543564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АВСТРАЛИЯ И НОВАЯ ЗЕЛАНД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08000" y="4067280"/>
            <a:ext cx="90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Австрал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чебный год начинается после празднования Дня Австралии — главного национального праздника страны, который отмечается ежегодно 26 января. Впрочем, если 27 января выпадает на вторую половину недели, то школы сдвигают расписание начала занятий в сторону ближайшего понедельника. 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Новой Зеланд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этом плане от Австралии не слишком отличается, тут занятия в школах начинаются 27 января, правда, иногда в частных школах по просьбе родителей начало учебного года может быть передвинуто на первые числа февра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222716kpkip2abfpkfaf20"/>
          <p:cNvPicPr/>
          <p:nvPr/>
        </p:nvPicPr>
        <p:blipFill>
          <a:blip r:embed="rId1"/>
          <a:stretch/>
        </p:blipFill>
        <p:spPr>
          <a:xfrm>
            <a:off x="755640" y="692280"/>
            <a:ext cx="79930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DenZnaniyPrintPrew"/>
          <p:cNvPicPr/>
          <p:nvPr/>
        </p:nvPicPr>
        <p:blipFill>
          <a:blip r:embed="rId1"/>
          <a:stretch/>
        </p:blipFill>
        <p:spPr>
          <a:xfrm>
            <a:off x="0" y="0"/>
            <a:ext cx="9144000" cy="6723000"/>
          </a:xfrm>
          <a:prstGeom prst="rect">
            <a:avLst/>
          </a:prstGeom>
          <a:ln w="0">
            <a:noFill/>
          </a:ln>
        </p:spPr>
      </p:pic>
      <p:sp>
        <p:nvSpPr>
          <p:cNvPr id="82" name="Содержимое 2"/>
          <p:cNvSpPr/>
          <p:nvPr/>
        </p:nvSpPr>
        <p:spPr>
          <a:xfrm>
            <a:off x="3059280" y="4581360"/>
            <a:ext cx="5653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0" y="3933720"/>
            <a:ext cx="5796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2195640" y="5877000"/>
            <a:ext cx="4643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4284720" y="5805360"/>
            <a:ext cx="3995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0" y="3141720"/>
            <a:ext cx="9468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2"/>
          <p:cNvSpPr/>
          <p:nvPr/>
        </p:nvSpPr>
        <p:spPr>
          <a:xfrm>
            <a:off x="5364000" y="3357720"/>
            <a:ext cx="331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0" y="44388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a0e14"/>
                </a:solidFill>
                <a:latin typeface="Times New Roman"/>
              </a:rPr>
              <a:t>Праздник знаний</a:t>
            </a:r>
            <a:r>
              <a:rPr b="1" lang="ru-RU" sz="3200" spc="-1" strike="noStrike">
                <a:solidFill>
                  <a:srgbClr val="fa0e14"/>
                </a:solidFill>
                <a:latin typeface="Times New Roman"/>
              </a:rPr>
              <a:t> встретил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вел в любимый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за парты сели дру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на свете знать нам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теперь хотим уч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нам нельзя ле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мы писать, счи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опросы отв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книжки и тетр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ь весь год в поряд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ем много заним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е будем отвлек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коле знанья получ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 знанья закреп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время всегда и в с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делать мы у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3" descr="i?id=77422276caffe5b81847de89d8ad2c04&amp;n=33&amp;h=215&amp;w=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Содержимое 2"/>
          <p:cNvSpPr/>
          <p:nvPr/>
        </p:nvSpPr>
        <p:spPr>
          <a:xfrm>
            <a:off x="3059280" y="4581360"/>
            <a:ext cx="5653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одержимое 2"/>
          <p:cNvSpPr/>
          <p:nvPr/>
        </p:nvSpPr>
        <p:spPr>
          <a:xfrm>
            <a:off x="0" y="3933720"/>
            <a:ext cx="5796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2195640" y="5877000"/>
            <a:ext cx="4643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4284720" y="5805360"/>
            <a:ext cx="3995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0" y="3141720"/>
            <a:ext cx="9468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5364000" y="3357720"/>
            <a:ext cx="331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08000" y="1558080"/>
            <a:ext cx="90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стью школы дорожить! 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Да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жливым и аккуратным быть!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Да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ть всегда в порядк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нижки, прописи, тетрадки!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Да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чить уроки не слегк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как положено - наверняка!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Да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79280" y="189000"/>
            <a:ext cx="8425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e14"/>
                </a:solidFill>
                <a:latin typeface="Times New Roman"/>
              </a:rPr>
              <a:t>Торжественное обещ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Мы, ученики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 ____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класса, обещае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28684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47654925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547640" y="6237360"/>
            <a:ext cx="592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900000" y="6093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 добрый путь, выпускни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neskolko_tsvetov_uchitelyu"/>
          <p:cNvPicPr/>
          <p:nvPr/>
        </p:nvPicPr>
        <p:blipFill>
          <a:blip r:embed="rId1"/>
          <a:stretch/>
        </p:blipFill>
        <p:spPr>
          <a:xfrm>
            <a:off x="3564000" y="3068640"/>
            <a:ext cx="5076720" cy="340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956166498%5b1%5d"/>
          <p:cNvPicPr/>
          <p:nvPr/>
        </p:nvPicPr>
        <p:blipFill>
          <a:blip r:embed="rId2"/>
          <a:stretch/>
        </p:blipFill>
        <p:spPr>
          <a:xfrm>
            <a:off x="324000" y="189000"/>
            <a:ext cx="4319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i?id=a2b35474b1d244435291374ab0936121&amp;n=33&amp;h=215&amp;w=151"/>
          <p:cNvPicPr/>
          <p:nvPr/>
        </p:nvPicPr>
        <p:blipFill>
          <a:blip r:embed="rId3"/>
          <a:stretch/>
        </p:blipFill>
        <p:spPr>
          <a:xfrm>
            <a:off x="179280" y="2997360"/>
            <a:ext cx="2578320" cy="36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sm_full"/>
          <p:cNvPicPr/>
          <p:nvPr/>
        </p:nvPicPr>
        <p:blipFill>
          <a:blip r:embed="rId4"/>
          <a:stretch/>
        </p:blipFill>
        <p:spPr>
          <a:xfrm>
            <a:off x="5003640" y="18900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post-7668-1409578603"/>
          <p:cNvPicPr/>
          <p:nvPr/>
        </p:nvPicPr>
        <p:blipFill>
          <a:blip r:embed="rId5"/>
          <a:stretch/>
        </p:blipFill>
        <p:spPr>
          <a:xfrm>
            <a:off x="0" y="0"/>
            <a:ext cx="914400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3715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стантин Вели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имский император, сделавший христианство господствующей религией (первый христианский император), созвал первый Вселенский собор, на котором, помимо прочего, было решено начинать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вый год с 1 сентяб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 век нашей эры 32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onstantine-york1"/>
          <p:cNvPicPr/>
          <p:nvPr/>
        </p:nvPicPr>
        <p:blipFill>
          <a:blip r:embed="rId1"/>
          <a:stretch/>
        </p:blipFill>
        <p:spPr>
          <a:xfrm>
            <a:off x="2340000" y="0"/>
            <a:ext cx="48830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747600"/>
            <a:ext cx="8640720" cy="31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5 ве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славная Русь начала отмечать начало нового год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вого сентяб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годом, начавшимся на Руси с 1 сентября, бы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92-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 случилось это по указу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оанна III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еликий (Первый российский государ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smotret-online-tv-ivan-tretij_dwJV2bw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860640"/>
            <a:ext cx="8891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1800" spc="-1" strike="noStrike">
                <a:solidFill>
                  <a:srgbClr val="fa0e14"/>
                </a:solidFill>
                <a:latin typeface="Times New Roman"/>
              </a:rPr>
              <a:t>1699 году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Петр Перв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дал указ о переносе Нового года на 1 января, чтобы не отличаться от Евро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получилось, что 1699 год длился всего 4 месяца – с 1 сентябр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1 января, когда начался новый 1700 год. Традицию начинать учебный год по старинке 1 сентября оставили нетронутой.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т почему именно 1 сентября дети идут в школу – потому что раньше этот день был первым днем не только учебного, но и календарного года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?id=a05af287a5635765819e15e84929d783&amp;n=33&amp;h=215&amp;w=287"/>
          <p:cNvPicPr/>
          <p:nvPr/>
        </p:nvPicPr>
        <p:blipFill>
          <a:blip r:embed="rId1"/>
          <a:stretch/>
        </p:blipFill>
        <p:spPr>
          <a:xfrm>
            <a:off x="2484360" y="0"/>
            <a:ext cx="49690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00640"/>
            <a:ext cx="90360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84 году Верховный Совет СССР учредил новый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аздник– День Знани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ой же праздника стал самый любимый день всех первоклашек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рвое сентябр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i?id=cb4db5d5084562f3ef714737cc6b4a86&amp;n=33&amp;h=215&amp;w=275"/>
          <p:cNvPicPr/>
          <p:nvPr/>
        </p:nvPicPr>
        <p:blipFill>
          <a:blip r:embed="rId1"/>
          <a:stretch/>
        </p:blipFill>
        <p:spPr>
          <a:xfrm>
            <a:off x="1403280" y="189000"/>
            <a:ext cx="6408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14936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ЕВРОПА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е брать самых близких соседей, то 1-го сентября учебный год традиционно начинается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Бельг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транах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Прибал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Венг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Македо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Ирландии, Польш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Слов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вот у школьников 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Финляндии, Дании, Герма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Шотланд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чебный год начинается уже в августе.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Герма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 зависит от школы: иногда немецкие дети идут в школу в последнюю неделю августа, а иногда (в зависимости от расписания учебного заведения) и в начале сентяб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924360" y="3645000"/>
            <a:ext cx="52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042920" y="189000"/>
            <a:ext cx="75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0e14"/>
                </a:solidFill>
                <a:latin typeface="Times New Roman"/>
              </a:rPr>
              <a:t>Начало учебного года в других стра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Content-AP-Germany1%20%281%29"/>
          <p:cNvPicPr/>
          <p:nvPr/>
        </p:nvPicPr>
        <p:blipFill>
          <a:blip r:embed="rId1"/>
          <a:stretch/>
        </p:blipFill>
        <p:spPr>
          <a:xfrm>
            <a:off x="1258920" y="692280"/>
            <a:ext cx="676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472428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вающее расписание начала занятий практикуется и в </a:t>
            </a:r>
            <a:r>
              <a:rPr b="1" lang="ru-RU" sz="2400" spc="-1" strike="noStrike">
                <a:solidFill>
                  <a:srgbClr val="fa0e14"/>
                </a:solidFill>
                <a:latin typeface="Times New Roman"/>
              </a:rPr>
              <a:t>Италии</a:t>
            </a:r>
            <a:r>
              <a:rPr b="0" lang="ru-RU" sz="2400" spc="-1" strike="noStrike">
                <a:solidFill>
                  <a:srgbClr val="fa0e14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ут все зависит от региона, и каждый год дата начала занятий в школах сообщается отдельно. В Италии считается, что лето не заканчивается 1-го сентября, а длится до 22-го сентября, так что, логично, что дети в самый разгар лета в школу не 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040511znakomstvo"/>
          <p:cNvPicPr/>
          <p:nvPr/>
        </p:nvPicPr>
        <p:blipFill>
          <a:blip r:embed="rId1"/>
          <a:stretch/>
        </p:blipFill>
        <p:spPr>
          <a:xfrm>
            <a:off x="1476360" y="189000"/>
            <a:ext cx="61927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395280" y="4319640"/>
            <a:ext cx="87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ольшинстве школ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Амер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Кана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ало школьных занятий также приходится на первый понедельник сентября. Однако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Латинской Амери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има начинается как раз тогда, когда у нас начинается лето, а осень наступает в марте, что, само собой, прямым образом отражается на расписании школьных занятий. Итак, начало занятий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Аргенти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Коста-Р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Бразил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ходится на первую неделю февраля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Ч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школы распахивают двери для учеников первого марта, а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Уругва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в первый понедельник ма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x_d76c93f7"/>
          <p:cNvPicPr/>
          <p:nvPr/>
        </p:nvPicPr>
        <p:blipFill>
          <a:blip r:embed="rId1"/>
          <a:stretch/>
        </p:blipFill>
        <p:spPr>
          <a:xfrm>
            <a:off x="1908000" y="260280"/>
            <a:ext cx="6291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6T17:37:43Z</dcterms:created>
  <dc:creator>User</dc:creator>
  <dc:description/>
  <dc:language>en-US</dc:language>
  <cp:lastModifiedBy>Полина Шибанова</cp:lastModifiedBy>
  <dcterms:modified xsi:type="dcterms:W3CDTF">2017-08-23T14:54:57Z</dcterms:modified>
  <cp:revision>30</cp:revision>
  <dc:subject/>
  <dc:title>Слайд 1</dc:title>
</cp:coreProperties>
</file>