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A00-844F-42DE-85DB-641AF8BA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36E-7B35-45CE-AD3B-75D3DC8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791-A9E1-4627-91D6-55866A83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B2E-7BFF-4840-BA23-626D25FA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ACD-066D-430C-A580-6353EF73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ECB-F9BF-4087-B5CC-4BE241F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455-C953-45A2-9EAF-CD06A24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A3F-DA7D-4E0E-8C3C-6E4BF21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2B6-5AA4-45EA-A74E-C647FE7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041-D4F6-4560-AC24-3FA4DAA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338-A775-47F4-BA69-C293BB9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1C0-3FA3-4476-ACB0-3BAC8D6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A4A9-14DE-4764-B336-37F5BB236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584_html_cfd9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5661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ИБАНОВА Юлия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2565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1 СЕНТЯБ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1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2484"/>
                </a:solidFill>
                <a:latin typeface="MS Gothic"/>
              </a:rPr>
              <a:t>ПРАЗДНИК</a:t>
            </a: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«ДЕНЬ ЗНАНИ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ЗИЯ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давляющем большинстве азиатских стран начало занятий приходится, как и у нас, на первое сентября, например,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Китае, Гонконге, Лаосе, Тайв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Монгол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 Мьянм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ы начинают работать во вторую среду сентября. Впрочем, во многих странах Азии начало учебного года приходится и на вес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upercoolpics_04_19112012000512"/>
          <p:cNvPicPr/>
          <p:nvPr/>
        </p:nvPicPr>
        <p:blipFill>
          <a:blip r:embed="rId1"/>
          <a:stretch/>
        </p:blipFill>
        <p:spPr>
          <a:xfrm>
            <a:off x="1476360" y="620640"/>
            <a:ext cx="64771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Япо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ые заведения начинают работу с первого апреля,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Таилан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в мае, после празднования тайского нового года (его дата определяется каждый раз индивидуально, но обычно он приходится на середину апреля), а на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Филиппин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ики отправляются за знаниями в первых числах ию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hildren-attend-a-ceremony-on-their-first-day-of-school-at-Shimizu"/>
          <p:cNvPicPr/>
          <p:nvPr/>
        </p:nvPicPr>
        <p:blipFill>
          <a:blip r:embed="rId1"/>
          <a:stretch/>
        </p:blipFill>
        <p:spPr>
          <a:xfrm>
            <a:off x="1116000" y="189000"/>
            <a:ext cx="705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e14"/>
                </a:solidFill>
                <a:latin typeface="Times New Roman"/>
              </a:rPr>
              <a:t>БЛИЖНИЙ ВОСТ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 flipV="1" rot="10800000">
            <a:off x="250920" y="4573440"/>
            <a:ext cx="878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зраи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занятий в школах, как правило, приходится на 1-ое сентября, правда, иногда дата начала учебного года переносится в зависимости от выходных дней. В соседних арабских странах занятия в школах тоже начинаются в сентябре: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ра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22 или 23 сентября, что соответствует началу осени по персидскому календарю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атар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Объединенных Арабских Эмират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 сентября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Егип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с 15-го по 24-ое сентября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Ом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аудовской Арав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, там тоже есть школы) учебный год начинается в первую неделю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школа в Египте"/>
          <p:cNvPicPr/>
          <p:nvPr/>
        </p:nvPicPr>
        <p:blipFill>
          <a:blip r:embed="rId1"/>
          <a:stretch/>
        </p:blipFill>
        <p:spPr>
          <a:xfrm>
            <a:off x="1116000" y="476280"/>
            <a:ext cx="69483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e14"/>
                </a:solidFill>
                <a:latin typeface="Times New Roman"/>
              </a:rPr>
              <a:t>АФРИКА</a:t>
            </a:r>
            <a:r>
              <a:rPr b="0" lang="ru-RU" sz="1600" spc="-1" strike="noStrike">
                <a:solidFill>
                  <a:srgbClr val="fa0e1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435888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многих странах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 Аф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и тоже начинают ходить в школу первого сентября, например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Эфиоп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Ниге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ом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лжир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нь Знаний традиционно отмечается в первое воскресенье сент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которых областях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школьных занятий тоже приходится на первое сентября, в других же регионах страны учебный год начинается в январе, сразу после празднования Нового года.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ЮА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Танз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чало учебного года приходится на середину января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Южном Суд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нятия в школах начинаются 20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школа в Нигерии"/>
          <p:cNvPicPr/>
          <p:nvPr/>
        </p:nvPicPr>
        <p:blipFill>
          <a:blip r:embed="rId1"/>
          <a:stretch/>
        </p:blipFill>
        <p:spPr>
          <a:xfrm>
            <a:off x="1908000" y="476280"/>
            <a:ext cx="543564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АВСТРАЛИЯ И НОВАЯ ЗЕЛАНД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08000" y="4067280"/>
            <a:ext cx="90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Австрал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ебный год начинается после празднования Дня Австралии — главного национального праздника страны, который отмечается ежегодно 26 января. Впрочем, если 27 января выпадает на вторую половину недели, то школы сдвигают расписание начала занятий в сторону ближайшего понедельника. В </a:t>
            </a: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Новой Зеланд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плане от Австралии не слишком отличается, тут занятия в школах начинаются 27 января, правда, иногда в частных школах по просьбе родителей начало учебного года может быть передвинуто на первые числа февра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22716kpkip2abfpkfaf20"/>
          <p:cNvPicPr/>
          <p:nvPr/>
        </p:nvPicPr>
        <p:blipFill>
          <a:blip r:embed="rId1"/>
          <a:stretch/>
        </p:blipFill>
        <p:spPr>
          <a:xfrm>
            <a:off x="755640" y="692280"/>
            <a:ext cx="7993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DenZnaniyPrintPrew"/>
          <p:cNvPicPr/>
          <p:nvPr/>
        </p:nvPicPr>
        <p:blipFill>
          <a:blip r:embed="rId1"/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82" name="Содержимое 2"/>
          <p:cNvSpPr/>
          <p:nvPr/>
        </p:nvSpPr>
        <p:spPr>
          <a:xfrm>
            <a:off x="3059280" y="4581360"/>
            <a:ext cx="5653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0" y="3933720"/>
            <a:ext cx="5796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2195640" y="5877000"/>
            <a:ext cx="464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4284720" y="5805360"/>
            <a:ext cx="399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0" y="3141720"/>
            <a:ext cx="946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5364000" y="3357720"/>
            <a:ext cx="331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44388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a0e14"/>
                </a:solidFill>
                <a:latin typeface="Times New Roman"/>
              </a:rPr>
              <a:t>Праздник знаний</a:t>
            </a:r>
            <a:r>
              <a:rPr b="1" lang="ru-RU" sz="3200" spc="-1" strike="noStrike">
                <a:solidFill>
                  <a:srgbClr val="fa0e14"/>
                </a:solidFill>
                <a:latin typeface="Times New Roman"/>
              </a:rPr>
              <a:t> встретил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вел в любимый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за парты сели дру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на свете знать нам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теперь хотим уч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нам нельзя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мы писать, сч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опросы отв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книжки и тетр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ь весь год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ем много заним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будем отвлек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е знанья получ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 знанья закреп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время всегда и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делать мы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i?id=77422276caffe5b81847de89d8ad2c04&amp;n=33&amp;h=215&amp;w=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Содержимое 2"/>
          <p:cNvSpPr/>
          <p:nvPr/>
        </p:nvSpPr>
        <p:spPr>
          <a:xfrm>
            <a:off x="3059280" y="4581360"/>
            <a:ext cx="5653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0" y="3933720"/>
            <a:ext cx="5796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2195640" y="5877000"/>
            <a:ext cx="464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284720" y="5805360"/>
            <a:ext cx="399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0" y="3141720"/>
            <a:ext cx="946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5364000" y="3357720"/>
            <a:ext cx="331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8000" y="1558080"/>
            <a:ext cx="90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стью школы дорожить! 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жливым и аккуратным быть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ть всегда в поряд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нижки, прописи, тетрадки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ить уроки не слегк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как положено - наверняка!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Д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79280" y="189000"/>
            <a:ext cx="842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Торжественное обещ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Мы, ученики </a:t>
            </a:r>
            <a:r>
              <a:rPr b="1" lang="ru-RU" sz="3600" spc="-1" strike="noStrike">
                <a:solidFill>
                  <a:srgbClr val="fa0e14"/>
                </a:solidFill>
                <a:latin typeface="Times New Roman"/>
              </a:rPr>
              <a:t> ____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класса, обещае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286848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7654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547640" y="6237360"/>
            <a:ext cx="592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00000" y="609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 добрый путь, выпуск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neskolko_tsvetov_uchitelyu"/>
          <p:cNvPicPr/>
          <p:nvPr/>
        </p:nvPicPr>
        <p:blipFill>
          <a:blip r:embed="rId1"/>
          <a:stretch/>
        </p:blipFill>
        <p:spPr>
          <a:xfrm>
            <a:off x="3564000" y="3068640"/>
            <a:ext cx="507672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956166498%5b1%5d"/>
          <p:cNvPicPr/>
          <p:nvPr/>
        </p:nvPicPr>
        <p:blipFill>
          <a:blip r:embed="rId2"/>
          <a:stretch/>
        </p:blipFill>
        <p:spPr>
          <a:xfrm>
            <a:off x="324000" y="189000"/>
            <a:ext cx="4319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i?id=a2b35474b1d244435291374ab0936121&amp;n=33&amp;h=215&amp;w=151"/>
          <p:cNvPicPr/>
          <p:nvPr/>
        </p:nvPicPr>
        <p:blipFill>
          <a:blip r:embed="rId3"/>
          <a:stretch/>
        </p:blipFill>
        <p:spPr>
          <a:xfrm>
            <a:off x="179280" y="2997360"/>
            <a:ext cx="2578320" cy="36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sm_full"/>
          <p:cNvPicPr/>
          <p:nvPr/>
        </p:nvPicPr>
        <p:blipFill>
          <a:blip r:embed="rId4"/>
          <a:stretch/>
        </p:blipFill>
        <p:spPr>
          <a:xfrm>
            <a:off x="5003640" y="18900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post-7668-1409578603"/>
          <p:cNvPicPr/>
          <p:nvPr/>
        </p:nvPicPr>
        <p:blipFill>
          <a:blip r:embed="rId5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3715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стантин Вели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мский император, сделавший христианство господствующей религией (первый христианский император), созвал первый Вселенский собор, на котором, помимо прочего, было решено начинат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й год с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 век нашей эры 32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onstantine-york1"/>
          <p:cNvPicPr/>
          <p:nvPr/>
        </p:nvPicPr>
        <p:blipFill>
          <a:blip r:embed="rId1"/>
          <a:stretch/>
        </p:blipFill>
        <p:spPr>
          <a:xfrm>
            <a:off x="2340000" y="0"/>
            <a:ext cx="48830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747600"/>
            <a:ext cx="8640720" cy="31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5 ве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славная Русь начала отмечать начало нового год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ого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годом, начавшимся на Руси с 1 сентября, бы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92-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 случилось это по указ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оанна III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ликий (Первый российский государ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smotret-online-tv-ivan-tretij_dwJV2bw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60640"/>
            <a:ext cx="8891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800" spc="-1" strike="noStrike">
                <a:solidFill>
                  <a:srgbClr val="fa0e14"/>
                </a:solidFill>
                <a:latin typeface="Times New Roman"/>
              </a:rPr>
              <a:t>1699 году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етр Перв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 указ о переносе Нового года на 1 января, чтобы не отличаться от Евро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получилось, что 1699 год длился всего 4 месяца – с 1 сентябр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января, когда начался новый 1700 год. Традицию начинать учебный год по старинке 1 сентября оставили нетронутой.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т почему именно 1 сентября дети идут в школу – потому что раньше этот день был первым днем не только учебного, но и календарного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?id=a05af287a5635765819e15e84929d783&amp;n=33&amp;h=215&amp;w=287"/>
          <p:cNvPicPr/>
          <p:nvPr/>
        </p:nvPicPr>
        <p:blipFill>
          <a:blip r:embed="rId1"/>
          <a:stretch/>
        </p:blipFill>
        <p:spPr>
          <a:xfrm>
            <a:off x="2484360" y="0"/>
            <a:ext cx="4969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90360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4 году Верховный Совет СССР учредил новый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аздник– День Знан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ой же праздника стал самый любимый день всех первоклашек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ое сентябр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?id=cb4db5d5084562f3ef714737cc6b4a86&amp;n=33&amp;h=215&amp;w=275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0e14"/>
                </a:solidFill>
                <a:latin typeface="Times New Roman"/>
              </a:rPr>
              <a:t>ЕВРОПА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е брать самых близких соседей, то 1-го сентября учебный год традиционно начинается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Бельг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транах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рибал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Венг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Македо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Ирландии, Поль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Слов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вот у школьников 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Финляндии, Дании, Герм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Шотланд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ебный год начинается уже в августе.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Герм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 зависит от школы: иногда немецкие дети идут в школу в последнюю неделю августа, а иногда (в зависимости от расписания учебного заведения) и в начале сент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924360" y="364500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042920" y="189000"/>
            <a:ext cx="75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0e14"/>
                </a:solidFill>
                <a:latin typeface="Times New Roman"/>
              </a:rPr>
              <a:t>Начало учебного года в других стра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Content-AP-Germany1%20%281%29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724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вающее расписание начала занятий практикуется и в </a:t>
            </a:r>
            <a:r>
              <a:rPr b="1" lang="ru-RU" sz="2400" spc="-1" strike="noStrike">
                <a:solidFill>
                  <a:srgbClr val="fa0e14"/>
                </a:solidFill>
                <a:latin typeface="Times New Roman"/>
              </a:rPr>
              <a:t>Италии</a:t>
            </a:r>
            <a:r>
              <a:rPr b="0" lang="ru-RU" sz="2400" spc="-1" strike="noStrike">
                <a:solidFill>
                  <a:srgbClr val="fa0e14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все зависит от региона, и каждый год дата начала занятий в школах сообщается отдельно. В Италии считается, что лето не заканчивается 1-го сентября, а длится до 22-го сентября, так что, логично, что дети в самый разгар лета в школу не 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040511znakomstvo"/>
          <p:cNvPicPr/>
          <p:nvPr/>
        </p:nvPicPr>
        <p:blipFill>
          <a:blip r:embed="rId1"/>
          <a:stretch/>
        </p:blipFill>
        <p:spPr>
          <a:xfrm>
            <a:off x="1476360" y="189000"/>
            <a:ext cx="61927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395280" y="4319640"/>
            <a:ext cx="87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ольшинстве школ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ме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ана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ало школьных занятий также приходится на первый понедельник сентября. Однако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Латинской Амер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има начинается как раз тогда, когда у нас начинается лето, а осень наступает в марте, что, само собой, прямым образом отражается на расписании школьных занятий. Итак, начало занятий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Аргенти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Коста-Р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Бразил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ходится на первую неделю февраля,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Ч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школы распахивают двери для учеников первого марта, а в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Уругва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в первый понедельник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x_d76c93f7"/>
          <p:cNvPicPr/>
          <p:nvPr/>
        </p:nvPicPr>
        <p:blipFill>
          <a:blip r:embed="rId1"/>
          <a:stretch/>
        </p:blipFill>
        <p:spPr>
          <a:xfrm>
            <a:off x="1908000" y="260280"/>
            <a:ext cx="6291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17:37:43Z</dcterms:created>
  <dc:creator>User</dc:creator>
  <dc:description/>
  <dc:language>en-US</dc:language>
  <cp:lastModifiedBy>Полина Шибанова</cp:lastModifiedBy>
  <dcterms:modified xsi:type="dcterms:W3CDTF">2017-08-23T14:54:57Z</dcterms:modified>
  <cp:revision>30</cp:revision>
  <dc:subject/>
  <dc:title>Слайд 1</dc:title>
</cp:coreProperties>
</file>