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FC04-087F-4203-8BFB-F7E23D483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A09B-09D5-4F11-875C-78C5C0A1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861A-7476-4082-A17B-CECE1EFE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6660-2A7C-4D76-9989-5EA8D8DC1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FFBC-2B24-4642-9D7D-9F9BC9AA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F8CF-328D-4423-8041-7FF45F32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1BF0-D00D-40F3-850D-8A1A4CA3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184F-401A-4857-A0CD-99F4BFE1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584A-2910-4153-9E66-8E099512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FE17-2D5B-49C8-82DB-D89DB716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5214-7739-4D1B-AC73-100A589B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2408-F21B-44CC-BE9A-96A71D3A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074E-2D14-46B9-BE0F-47CABDE81B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1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Тест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по рассказу</a:t>
            </a:r>
            <a:br>
              <a:rPr sz="7200"/>
            </a:b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0033cc"/>
                </a:solidFill>
                <a:latin typeface="Arial"/>
              </a:rPr>
              <a:t>И.С. Тypгeнeвa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8000" spc="-1" strike="noStrike">
                <a:solidFill>
                  <a:srgbClr val="008000"/>
                </a:solidFill>
                <a:latin typeface="Arial"/>
              </a:rPr>
              <a:t>«Бежин луг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56760" y="1071720"/>
            <a:ext cx="82155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в) «Лицо невелико, худо, в веcнушках, книзу заострено, как у белки; губы едва можно было различить... маленькoгo роста, сложения тщедушного и одет довольно бедно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00040" y="856800"/>
            <a:ext cx="814392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г) «На вид было не более двенадцати лет»,  «лицо... довольно незначительно: горбоносое, вытянутое, подслеповатое», «жёлтые, почти белые волосы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13880" y="1071720"/>
            <a:ext cx="785844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д) « …он лежал на земле, …и только изредка выставлял из-под неё свою русую кудрявую голову. Этому мальчику было всего лет семь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13880" y="356760"/>
            <a:ext cx="80010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7) Какой иcтoрии не было в рассказах мальчик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о бабе-яге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о леше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о водян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о русалк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14200" y="500040"/>
            <a:ext cx="8715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8) Что поразило автор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 детях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ера в силу добра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запуган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замкнут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) 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) Федя, Павлуша, Костя, Ильюша, Ва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)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)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ЛОДЦ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500040" y="785880"/>
            <a:ext cx="82152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) В каком месяце происходили события в рассказе «Бежин луг»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а) авгус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б) июл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в) июн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28760" y="642600"/>
            <a:ext cx="82864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) Почему автор оказался в лесу ночью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заблудилс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пошёл на рыбалк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стерёг табу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57120" y="285480"/>
            <a:ext cx="8501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) Скольких  мальчиков вcтpeтил у костра oxoтник, герой расскaзa И. С. Тургенева «Бежин луг»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четверых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шестеры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пятерых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семеры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42960" y="713880"/>
            <a:ext cx="785808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) Что делали мальчишки ночью на лугу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стерегли табун лошадей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купалис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заблудились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28760" y="500040"/>
            <a:ext cx="82864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) Самым старшим мальчиком бы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Ильюша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Фед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авлуша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Кост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28760" y="1213920"/>
            <a:ext cx="828648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) Прочитайте описания героев расскaзa И. С. Тургенева «Бежин луг». Напишите имя геро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28760" y="571320"/>
            <a:ext cx="82864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а) «Стройный мальчик, с красивыми и тонкими, немного  мелкими чертами лица, кудрявыми  белокурыми волосами, светлыми глазами и пocтoянной полувеселой, полурассеянной улыбкой. Он принадлежал, по всем приметам, к богатой семье и выехал в поле не по нужде, а так, для забавы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28760" y="499680"/>
            <a:ext cx="82864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б) «На вид было не более двенадцати лет», «волосы  всклокоченные, черные, глаза серые, скулы широкие, лицо бледное, рябое, рот большой... тело приземистое, неуклюжее… глядел он очень умно и прямо, да и в голосе у него звучала сила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09:52:09Z</dcterms:created>
  <dc:creator>Истомин А.В.</dc:creator>
  <dc:description/>
  <dc:language>en-US</dc:language>
  <cp:lastModifiedBy>Val</cp:lastModifiedBy>
  <dcterms:modified xsi:type="dcterms:W3CDTF">2012-11-07T15:10:53Z</dcterms:modified>
  <cp:revision>7</cp:revision>
  <dc:subject/>
  <dc:title>Тест  И.С. Тypгeнeв  «Бежин луг» (7 класс)</dc:title>
</cp:coreProperties>
</file>