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F9E-3D3C-4588-B297-C39F19B6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1D4-4A69-4F99-9D2E-BBF98D0B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03A-2EE5-4950-B3B0-D2FA220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044-3422-4835-B9A8-49F41F56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06C-2D46-4925-B8E2-C11C9AF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EBBB-B0F5-4C07-82B7-55391F2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8F69-0C39-4DA9-9C94-99C77E2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2ABC-2498-4EEC-A45C-5B6CC0A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DD6-60A9-4F6E-9DD7-4311284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38CE-A813-467E-A1D9-AEBCCF23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3D80-7114-48F9-9D04-A8FD5BD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C06-4ECF-4DF6-BB92-E10B0676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CDD8-5736-40A6-898B-AA2BBA3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FF0D-3548-4C62-9596-8A2257C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C25-37F4-4F7C-A630-EDEA3BF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3380-178F-4E4D-9C64-6195531A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986E-6F00-4975-8B12-080132B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4A3-AFBE-41CF-80A6-BF88A2C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95A-40C6-4055-A2C9-FD71C5E3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21D-7ECF-4DD0-B7BD-6985C78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3AD-93FC-4A8D-B50E-D6050F2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4B4-9677-4F29-BD8F-40D2E77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22-CFC8-4A99-9396-766EB32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729-26A7-4343-AF55-9F0652D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E12-2B19-4C5D-A56A-400D42B41E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4B7-F2A2-4AA9-8AEF-2F1AE81ED11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2"/>
          <p:cNvSpPr/>
          <p:nvPr/>
        </p:nvSpPr>
        <p:spPr>
          <a:xfrm rot="21405600">
            <a:off x="4421160" y="5945040"/>
            <a:ext cx="3105000" cy="497160"/>
          </a:xfrm>
          <a:prstGeom prst="cloudCallout">
            <a:avLst>
              <a:gd name="adj1" fmla="val -143513"/>
              <a:gd name="adj2" fmla="val 182439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332000" y="333360"/>
            <a:ext cx="5545080" cy="1727280"/>
          </a:xfrm>
          <a:prstGeom prst="cloudCallout">
            <a:avLst>
              <a:gd name="adj1" fmla="val -21226"/>
              <a:gd name="adj2" fmla="val 3850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916360" y="198900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3635280" y="1989000"/>
            <a:ext cx="14472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4572000" y="126828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 flipH="1" rot="20368800">
            <a:off x="6010920" y="1628640"/>
            <a:ext cx="144720" cy="4316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6" descr="kalendula_kopija"/>
          <p:cNvPicPr/>
          <p:nvPr/>
        </p:nvPicPr>
        <p:blipFill>
          <a:blip r:embed="rId1"/>
          <a:srcRect l="12992" t="0" r="11695" b="0"/>
          <a:stretch/>
        </p:blipFill>
        <p:spPr>
          <a:xfrm>
            <a:off x="2411280" y="5048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kalendula_kopija"/>
          <p:cNvPicPr/>
          <p:nvPr/>
        </p:nvPicPr>
        <p:blipFill>
          <a:blip r:embed="rId2"/>
          <a:srcRect l="13005" t="0" r="11675" b="0"/>
          <a:stretch/>
        </p:blipFill>
        <p:spPr>
          <a:xfrm>
            <a:off x="500364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kalendula_kopija"/>
          <p:cNvPicPr/>
          <p:nvPr/>
        </p:nvPicPr>
        <p:blipFill>
          <a:blip r:embed="rId3"/>
          <a:srcRect l="12992" t="0" r="11695" b="0"/>
          <a:stretch/>
        </p:blipFill>
        <p:spPr>
          <a:xfrm>
            <a:off x="7020000" y="49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kalendula_kopija"/>
          <p:cNvPicPr/>
          <p:nvPr/>
        </p:nvPicPr>
        <p:blipFill>
          <a:blip r:embed="rId4"/>
          <a:srcRect l="12991" t="0" r="11692" b="0"/>
          <a:stretch/>
        </p:blipFill>
        <p:spPr>
          <a:xfrm>
            <a:off x="755640" y="4437000"/>
            <a:ext cx="938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Oval 24"/>
          <p:cNvSpPr/>
          <p:nvPr/>
        </p:nvSpPr>
        <p:spPr>
          <a:xfrm>
            <a:off x="5292720" y="1197000"/>
            <a:ext cx="792000" cy="792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 rot="1009200">
            <a:off x="5360760" y="200952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 rot="2878800">
            <a:off x="4836960" y="168084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 rot="5400000">
            <a:off x="4570920" y="97992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 rot="7475400">
            <a:off x="4818600" y="390960"/>
            <a:ext cx="14436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 rot="10800000">
            <a:off x="5508360" y="-36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 rot="12761400">
            <a:off x="6095160" y="7596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 rot="14269200">
            <a:off x="6550560" y="48600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2"/>
          <p:cNvSpPr/>
          <p:nvPr/>
        </p:nvSpPr>
        <p:spPr>
          <a:xfrm rot="16200000">
            <a:off x="6732360" y="105192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4"/>
          <p:cNvSpPr/>
          <p:nvPr/>
        </p:nvSpPr>
        <p:spPr>
          <a:xfrm rot="19141800">
            <a:off x="6497640" y="1725120"/>
            <a:ext cx="142920" cy="1152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5"/>
          <p:cNvSpPr/>
          <p:nvPr/>
        </p:nvSpPr>
        <p:spPr>
          <a:xfrm rot="20882400">
            <a:off x="5938920" y="204480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002179.wav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7" descr="rose125"/>
          <p:cNvPicPr/>
          <p:nvPr/>
        </p:nvPicPr>
        <p:blipFill>
          <a:blip r:embed="rId6">
            <a:lum bright="6000"/>
          </a:blip>
          <a:srcRect l="0" t="0" r="46607" b="41938"/>
          <a:stretch/>
        </p:blipFill>
        <p:spPr>
          <a:xfrm rot="9148200">
            <a:off x="4858560" y="4220640"/>
            <a:ext cx="111924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8" descr="rose125"/>
          <p:cNvPicPr/>
          <p:nvPr/>
        </p:nvPicPr>
        <p:blipFill>
          <a:blip r:embed="rId7">
            <a:lum bright="6000"/>
          </a:blip>
          <a:srcRect l="0" t="0" r="46607" b="41938"/>
          <a:stretch/>
        </p:blipFill>
        <p:spPr>
          <a:xfrm rot="15785400">
            <a:off x="931320" y="4188960"/>
            <a:ext cx="11192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12605 0.43056 E">
                                      <p:cBhvr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06285 0.51435 E">
                                      <p:cBhvr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L 0.09462 0.49375 E">
                                      <p:cBhvr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6545 0.55648 E">
                                      <p:cBhvr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1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3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0.21094 0.12848 E">
                                      <p:cBhvr>
                                        <p:cTn id="153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24601 0.14491 E">
                                      <p:cBhvr>
                                        <p:cTn id="15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4:24:47Z</dcterms:created>
  <dc:creator>User</dc:creator>
  <dc:description/>
  <dc:language>en-US</dc:language>
  <cp:lastModifiedBy>ПК</cp:lastModifiedBy>
  <dcterms:modified xsi:type="dcterms:W3CDTF">2017-05-16T08:02:09Z</dcterms:modified>
  <cp:revision>22</cp:revision>
  <dc:subject/>
  <dc:title>Слайд 1</dc:title>
</cp:coreProperties>
</file>