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png" ContentType="image/png"/>
  <Override PartName="/ppt/media/image13.jpeg" ContentType="image/jpeg"/>
  <Override PartName="/ppt/media/image8.jpeg" ContentType="image/jpeg"/>
  <Override PartName="/ppt/media/image29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10.png" ContentType="image/pn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82DA1-DBF5-4171-88FB-D19567411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7FE83-9C92-4E9F-BC5E-353EE2B0F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B4544-3EBC-49B3-BCE3-AC4E5FC1B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AFA6C-3859-4D20-B35E-ED46B32C7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4BFB6-DDFC-45D3-883E-3F9C7EC1C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2411E-2E3D-47A3-A155-255BA4FF1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FE43D-59AC-4ABE-B52D-55A152692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625DE-270B-45F8-815E-9533A2550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DA1EE-AC08-4BBE-8ACC-48CA44972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AC51F-0D11-46DE-BC88-A3B25D128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927D3-2028-4C7B-B0FF-8B624B622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4E071-0380-4E71-8E5F-7645539EA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F67F0-7656-4521-B4CC-F5DBF5B70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06D20-A113-4434-B0A0-8244D5C58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B75C0-2A20-47EA-B63A-560DD6FE9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CF628-904E-4893-B434-C157A89E6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560F8-5281-400A-AACC-120273C00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ED01470-38AE-43EE-88E9-1EEF28B68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0F6591C-3824-4722-93AA-9D47325F3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25D4057-57E2-44B2-95A9-1FA644E0D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1023AE1-5251-4439-BB97-7E6B4C632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FA1B741-58B3-4CC9-8DF4-5EAF1740F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B10E7-8D69-4027-982C-863B84252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03C4BD8-34B1-4830-A198-74D0FCAD3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8E64E3-34E3-4A2E-937C-336906588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8C4F858-F9C3-46F5-B71E-929137945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68A202F-612D-4E97-BA60-B0A50AE19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2BFEC0F-19B0-4B96-B256-E28CAE90E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3A34935-420D-42F8-86FB-44AA88DD4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CED1A92-1207-4C5F-A110-C8B70771C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958AED-5D01-40D6-8240-A56091FD0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13F002-9FA6-4BEC-BC82-DA55AA2D0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315DED-23F5-4DF7-8B1D-D158C05B2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7AA75-3613-4A76-9A7E-3AE4A8D49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900CE1-237B-4BBB-99E7-78810EE5A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C67A54-31A2-4528-A27A-9858FB635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96179F-8579-4AC3-A7EA-A1891248D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9A7FD2-CB3D-4EEB-99DD-DF185F0DD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D7ECD4-FF9F-48F9-9CCA-051D1AB47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DA6F32-5515-48BE-82EC-0AA9582FF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9955BE-14E6-409B-BC20-84A87C731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3F3770-5602-45F5-A533-E1D0258E6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4D8886-0DAC-478C-9876-46E92A067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F1B5A77-F96E-4F7F-B6B8-5B9281314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0A2CF-1860-4E43-BE96-09FD465F0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646A635-8428-4801-B0CA-8BFDE7BCB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AB41979-D0A7-4F07-ADBE-19D23B7F1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23EFD6E-166E-401A-9C6A-55071F742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31DB780-4426-4063-A700-B76F02593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73CB87E-0280-4663-91B5-4ADCE851F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3D6DEC1-708B-45A1-B8F7-9E30F8741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7C89C30-5931-46AF-B0D2-EBCD065BF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E22BB08-31F0-49C0-9609-506E36910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E2ACECB-EF07-4D12-8803-BA0581825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50AB8AC-67EE-44A3-9464-817C38444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0DAD2-B8B7-4027-8C11-77CD814BF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09FC8DF-9F2E-4CAF-B191-27B6859D8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8E550EF-7778-49B1-9CEE-5C61AAE04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B789441-97E7-4D63-9430-CDCA939DD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0BDF83D-DCF2-4085-8E65-66BB242D5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5A01F47-4AA1-4682-9D74-70EF1AAA6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B618EF1-CB83-4DD5-B8D8-78251A7D8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EE48784-6680-4C30-B800-9DFB10D6B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0D4141F-7444-4EF9-B2C9-99825DFB9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A5E43B3-E250-4CE0-8428-BCAE6ABEC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8D391E3-A839-498B-B934-8CEF70BF7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31EBC-132B-4FF6-8541-E9D686B90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F54F7D2-195E-4A35-A335-618BC6FB3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C53E779-EC01-4B89-845B-E6E8266A9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C79947E-8508-4921-B17E-84CFD8258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A2A8B8F-D412-42DD-A547-4EBA070BB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4BC3894-BE16-4CF1-9808-E474A0FF5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50E836A-6831-48CC-91FF-9AAAF7203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3EF6259-9207-4A5B-B6DD-332572354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949B361-9464-4336-BE3F-FE35EBD5B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23842CC-709F-4394-A760-8719AE1DC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CC90946-9F7C-4E16-9CD6-E52132AE2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36535-46D2-40B5-BB3C-6872D3885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6CDBC7D-8B57-498D-B5DA-2D6A8AAD8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79B69E0-21E2-4191-8087-A678144ED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9E01CA0-E2BF-4B80-842C-F80DB9D17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8DFB1FB-5FB0-4AF1-A0F5-AB54962CE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063CA74-4DA1-4225-A85B-7C7A8803E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3867C-DEBD-4C88-ACEB-DFA011172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dcedc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64646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2da2b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2da2b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268ea8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adcedc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eaabac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adce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dcedc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59F46-9B66-4219-BD01-BECF3490EC40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adcedc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Прямоугольник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cde0e8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Прямоугольник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cde0e8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Прямоугольник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8f0f4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Прямая соединительная линия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adcedc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Прямая соединительная линия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8f0f4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Прямая соединительная линия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adce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Прямая соединительная линия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adcedc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Прямая соединительная линия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adce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Прямая соединительная линия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adce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Прямоугольник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adcedc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Овал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Овал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Овал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Овал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Овал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64646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2da2b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2da2b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268ea8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adcedc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eaabac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C75D9-B47F-4A1B-9B59-538F6E9A444A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dcedc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adce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dcedc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64646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2da2b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2da2b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268ea8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adcedc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eaabac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6E1AD-20A1-4EE4-B4C5-FE00650E0698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adcedc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Прямоугольник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cde0e8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Прямоугольник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cde0e8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Прямоугольник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8f0f4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Прямая соединительная линия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adcedc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Прямая соединительная линия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8f0f4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Прямая соединительная линия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adce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Прямая соединительная линия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adcedc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Прямая соединительная линия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adce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adcedc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Овал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Овал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Овал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Прямая соединительная линия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adce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64646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2da2b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2da2b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268ea8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adcedc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eaabac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868EC-103E-49DA-8DA2-A4855C32EDBD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dcedc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adce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dcedc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64646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2da2b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2da2b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268ea8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adcedc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eaabac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4D38C-8DFA-40D0-9AFC-9DFBC23FA0EF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dcedc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" name="Прямая соединительная линия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adce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" name="Прямая соединительная линия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" name="Прямая соединительная линия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9" name="Прямоугольник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dcedc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" name="Прямая соединительная линия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1" name="Овал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64646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2da2b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2da2b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268ea8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adcedc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eaabac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1954D-5D9C-49ED-BFF1-53B60FD0A9DF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dce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Овал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6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d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Прямая соединительная линия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adce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Прямая соединительная линия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64646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2da2b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2da2b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268ea8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adcedc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eaabac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6E4BB-E23E-43AC-B459-B4A729AF7F39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ru/f/fe/&#1052;&#1072;&#1103;&#1082;.jpg" TargetMode="Externa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antonowleo.narod.ru/g_3.jpg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1/11/Plakat_mayakowski_gross.jpg" TargetMode="Externa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v-mayakovsky.com/photo/photo-16big.jpg" TargetMode="Externa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s55.radikal.ru/i149/0910/63/ee0f9e63325b.jpg" TargetMode="External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img1.liveinternet.ru/images/attach/b/0/39/39963_15t.jpg" TargetMode="External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image" Target="../media/image27.jpeg"/><Relationship Id="rId7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ayak.cheb.ru/images/mayakovskiy/image018.jpg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Picture 12" descr="index"/>
          <p:cNvPicPr/>
          <p:nvPr/>
        </p:nvPicPr>
        <p:blipFill>
          <a:blip r:embed="rId1"/>
          <a:srcRect l="1754" t="0" r="0" b="0"/>
          <a:stretch/>
        </p:blipFill>
        <p:spPr>
          <a:xfrm>
            <a:off x="349200" y="304920"/>
            <a:ext cx="4375080" cy="6172200"/>
          </a:xfrm>
          <a:prstGeom prst="rect">
            <a:avLst/>
          </a:prstGeom>
          <a:ln w="0">
            <a:noFill/>
          </a:ln>
        </p:spPr>
      </p:pic>
      <p:sp>
        <p:nvSpPr>
          <p:cNvPr id="352" name="WordArt 4"/>
          <p:cNvSpPr txBox="1"/>
          <p:nvPr/>
        </p:nvSpPr>
        <p:spPr>
          <a:xfrm>
            <a:off x="4114800" y="1143000"/>
            <a:ext cx="449568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Владимир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Владимирович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Маяковски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1893-1930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 spd="slow"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 txBox="1"/>
          <p:nvPr/>
        </p:nvSpPr>
        <p:spPr>
          <a:xfrm>
            <a:off x="304560" y="228600"/>
            <a:ext cx="838188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8119"/>
                </a:solidFill>
                <a:latin typeface="Arial"/>
              </a:rPr>
              <a:t>Первое опубликованное стихотворение называлось «Ночь»,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8119"/>
                </a:solidFill>
                <a:latin typeface="Arial"/>
              </a:rPr>
              <a:t>оно вошло в футуристический сборник «Пощёчина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8119"/>
                </a:solidFill>
                <a:latin typeface="Arial"/>
              </a:rPr>
              <a:t>общественному вкусу». А в 1913 году вышел первый сборник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8119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8119"/>
                </a:solidFill>
                <a:latin typeface="Arial"/>
              </a:rPr>
              <a:t>Маяковского «Я» (цикл из четырёх стихотворений). Он был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8119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8119"/>
                </a:solidFill>
                <a:latin typeface="Arial"/>
              </a:rPr>
              <a:t>написан от руки, снабжён рисунками Василия Чекрыгина и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8119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8119"/>
                </a:solidFill>
                <a:latin typeface="Arial"/>
              </a:rPr>
              <a:t>Льва Жегина и размножен литографическим способом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8119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8119"/>
                </a:solidFill>
                <a:latin typeface="Arial"/>
              </a:rPr>
              <a:t>в количестве 300 экземпляров. В качестве первого раздела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8119"/>
                </a:solidFill>
                <a:latin typeface="Arial"/>
              </a:rPr>
              <a:t>этот сборник вошёл в книгу стихов поэта «Простое как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8119"/>
                </a:solidFill>
                <a:latin typeface="Arial"/>
              </a:rPr>
              <a:t>мычание» (1916).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4" name="Picture 5" descr="Untitled-5 Копировать"/>
          <p:cNvPicPr/>
          <p:nvPr/>
        </p:nvPicPr>
        <p:blipFill>
          <a:blip r:embed="rId1"/>
          <a:stretch/>
        </p:blipFill>
        <p:spPr>
          <a:xfrm>
            <a:off x="1523880" y="3124080"/>
            <a:ext cx="5715000" cy="341640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 txBox="1"/>
          <p:nvPr/>
        </p:nvSpPr>
        <p:spPr>
          <a:xfrm>
            <a:off x="4190760" y="304920"/>
            <a:ext cx="472428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8119"/>
                </a:solidFill>
                <a:latin typeface="Arial"/>
              </a:rPr>
              <a:t>В этом же году поэт обратился к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8119"/>
                </a:solidFill>
                <a:latin typeface="Arial"/>
              </a:rPr>
              <a:t>драматургии. Была написана и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8119"/>
                </a:solidFill>
                <a:latin typeface="Arial"/>
              </a:rPr>
              <a:t>поставлена программная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8119"/>
                </a:solidFill>
                <a:latin typeface="Arial"/>
              </a:rPr>
              <a:t>трагедия «Владимир Маяковс-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8119"/>
                </a:solidFill>
                <a:latin typeface="Arial"/>
              </a:rPr>
              <a:t>кий». Сам автор выступил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8119"/>
                </a:solidFill>
                <a:latin typeface="Arial"/>
              </a:rPr>
              <a:t>режиссёром и исполнителем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8119"/>
                </a:solidFill>
                <a:latin typeface="Arial"/>
              </a:rPr>
              <a:t>главной роли. В феврале 1914 года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8119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8119"/>
                </a:solidFill>
                <a:latin typeface="Arial"/>
              </a:rPr>
              <a:t>Маяковский был исключен из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8119"/>
                </a:solidFill>
                <a:latin typeface="Arial"/>
              </a:rPr>
              <a:t>училища за публичные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8119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8119"/>
                </a:solidFill>
                <a:latin typeface="Arial"/>
              </a:rPr>
              <a:t>выступления. В  1914—1915 годах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8119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8119"/>
                </a:solidFill>
                <a:latin typeface="Arial"/>
              </a:rPr>
              <a:t>Маяковский работал над поэмой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8119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8119"/>
                </a:solidFill>
                <a:latin typeface="Arial"/>
              </a:rPr>
              <a:t>«Облако в  штанах». После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8119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8119"/>
                </a:solidFill>
                <a:latin typeface="Arial"/>
              </a:rPr>
              <a:t>начала Первой мировой войны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8119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8119"/>
                </a:solidFill>
                <a:latin typeface="Arial"/>
              </a:rPr>
              <a:t>вышло стихотворение «Война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8119"/>
                </a:solidFill>
                <a:latin typeface="Arial"/>
              </a:rPr>
              <a:t>объявлена». В августе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8119"/>
                </a:solidFill>
                <a:latin typeface="Arial"/>
              </a:rPr>
              <a:t>Маяковский решил записаться в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8119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8119"/>
                </a:solidFill>
                <a:latin typeface="Arial"/>
              </a:rPr>
              <a:t>добровольцы, но ему не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8119"/>
                </a:solidFill>
                <a:latin typeface="Arial"/>
              </a:rPr>
              <a:t>позволили, объяснив это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8119"/>
                </a:solidFill>
                <a:latin typeface="Arial"/>
              </a:rPr>
              <a:t>политической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8119"/>
                </a:solidFill>
                <a:latin typeface="Arial"/>
              </a:rPr>
              <a:t>неблагонадёжностью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6" name="Picture 5" descr="Файл:Маяк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80880" y="762120"/>
            <a:ext cx="3621240" cy="510516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 txBox="1"/>
          <p:nvPr/>
        </p:nvSpPr>
        <p:spPr>
          <a:xfrm>
            <a:off x="4495680" y="533160"/>
            <a:ext cx="426744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8119"/>
                </a:solidFill>
                <a:latin typeface="Arial"/>
              </a:rPr>
              <a:t>В 1915—1917 годах Маяковский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8119"/>
                </a:solidFill>
                <a:latin typeface="Arial"/>
              </a:rPr>
              <a:t>проходил военную службу в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8119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8119"/>
                </a:solidFill>
                <a:latin typeface="Arial"/>
              </a:rPr>
              <a:t>Петрограде в автошколе.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8119"/>
                </a:solidFill>
                <a:latin typeface="Arial"/>
              </a:rPr>
              <a:t>Солдатам печататься не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8119"/>
                </a:solidFill>
                <a:latin typeface="Arial"/>
              </a:rPr>
              <a:t>разрешали, но его спас Осип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8119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8119"/>
                </a:solidFill>
                <a:latin typeface="Arial"/>
              </a:rPr>
              <a:t>Брик, который выкупил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8119"/>
                </a:solidFill>
                <a:latin typeface="Arial"/>
              </a:rPr>
              <a:t>поэмы «Флейта-позвоночник»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8119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8119"/>
                </a:solidFill>
                <a:latin typeface="Arial"/>
              </a:rPr>
              <a:t>и «Облако в штанах» по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8119"/>
                </a:solidFill>
                <a:latin typeface="Arial"/>
              </a:rPr>
              <a:t>50 копеек за строку и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8119"/>
                </a:solidFill>
                <a:latin typeface="Arial"/>
              </a:rPr>
              <a:t>напечатал. Также Маяковский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8119"/>
                </a:solidFill>
                <a:latin typeface="Arial"/>
              </a:rPr>
              <a:t>снимался в фильмах по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8119"/>
                </a:solidFill>
                <a:latin typeface="Arial"/>
              </a:rPr>
              <a:t>собственным сценариям. В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8119"/>
                </a:solidFill>
                <a:latin typeface="Arial"/>
              </a:rPr>
              <a:t>августе 1917 года задумал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8119"/>
                </a:solidFill>
                <a:latin typeface="Arial"/>
              </a:rPr>
              <a:t>написать «Мистерию Буфф»,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8119"/>
                </a:solidFill>
                <a:latin typeface="Arial"/>
              </a:rPr>
              <a:t>которая была закончена 25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8119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8119"/>
                </a:solidFill>
                <a:latin typeface="Arial"/>
              </a:rPr>
              <a:t>октября 1918 года и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8119"/>
                </a:solidFill>
                <a:latin typeface="Arial"/>
              </a:rPr>
              <a:t>поставлена к годовщине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8119"/>
                </a:solidFill>
                <a:latin typeface="Arial"/>
              </a:rPr>
              <a:t>революции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8" name="Picture 4" descr="Картинка 76 из 2990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80880" y="609480"/>
            <a:ext cx="3934080" cy="533412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4"/>
          <p:cNvSpPr/>
          <p:nvPr/>
        </p:nvSpPr>
        <p:spPr>
          <a:xfrm>
            <a:off x="380880" y="304920"/>
            <a:ext cx="43434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8119"/>
                </a:solidFill>
                <a:latin typeface="Arial"/>
              </a:rPr>
              <a:t>17 декабря 1918 года поэт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8119"/>
                </a:solidFill>
                <a:latin typeface="Arial"/>
              </a:rPr>
              <a:t>впервые прочёл со сцены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8119"/>
                </a:solidFill>
                <a:latin typeface="Arial"/>
              </a:rPr>
              <a:t>Матросского театра стихи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8119"/>
                </a:solidFill>
                <a:latin typeface="Arial"/>
              </a:rPr>
              <a:t>«Левый марш». В марте 1919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8119"/>
                </a:solidFill>
                <a:latin typeface="Arial"/>
              </a:rPr>
              <a:t>года он  переезжает в Москву,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8119"/>
                </a:solidFill>
                <a:latin typeface="Arial"/>
              </a:rPr>
              <a:t>начинает активно сотрудничат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8119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8119"/>
                </a:solidFill>
                <a:latin typeface="Arial"/>
              </a:rPr>
              <a:t>в РОСТА, оформляет (как поэт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8119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8119"/>
                </a:solidFill>
                <a:latin typeface="Arial"/>
              </a:rPr>
              <a:t>и как художник) для РОСТА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8119"/>
                </a:solidFill>
                <a:latin typeface="Arial"/>
              </a:rPr>
              <a:t>агитационно-сатирические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8119"/>
                </a:solidFill>
                <a:latin typeface="Arial"/>
              </a:rPr>
              <a:t>плакаты («Окна РОСТА»). В 1919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8119"/>
                </a:solidFill>
                <a:latin typeface="Arial"/>
              </a:rPr>
              <a:t>году вышло первое собрание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8119"/>
                </a:solidFill>
                <a:latin typeface="Arial"/>
              </a:rPr>
              <a:t>сочинений поэта — «Всё,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8119"/>
                </a:solidFill>
                <a:latin typeface="Arial"/>
              </a:rPr>
              <a:t>сочинённое Владимиром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8119"/>
                </a:solidFill>
                <a:latin typeface="Arial"/>
              </a:rPr>
              <a:t>Маяковским. 1909—1919». В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8119"/>
                </a:solidFill>
                <a:latin typeface="Arial"/>
              </a:rPr>
              <a:t>1918—1919 годах выступает в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8119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8119"/>
                </a:solidFill>
                <a:latin typeface="Arial"/>
              </a:rPr>
              <a:t>газете «Искусство коммуны»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8119"/>
                </a:solidFill>
                <a:latin typeface="Arial"/>
              </a:rPr>
              <a:t>В 1920 году закончил писат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8119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8119"/>
                </a:solidFill>
                <a:latin typeface="Arial"/>
              </a:rPr>
              <a:t>поэму «150 000 000», в которой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8119"/>
                </a:solidFill>
                <a:latin typeface="Arial"/>
              </a:rPr>
              <a:t>отражена тема мировой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8119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8119"/>
                </a:solidFill>
                <a:latin typeface="Arial"/>
              </a:rPr>
              <a:t>революции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80" name="Picture 6" descr="Файл:Plakat mayakowski gross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876920" y="762120"/>
            <a:ext cx="3809880" cy="523872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4572000" y="762120"/>
            <a:ext cx="4191120" cy="52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8119"/>
                </a:solidFill>
                <a:latin typeface="Arial"/>
              </a:rPr>
              <a:t>В 1918 году Маяковский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8119"/>
                </a:solidFill>
                <a:latin typeface="Arial"/>
              </a:rPr>
              <a:t>организовал группу «Комфут»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8119"/>
                </a:solidFill>
                <a:latin typeface="Arial"/>
              </a:rPr>
              <a:t>(коммунистический футуризм),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8119"/>
                </a:solidFill>
                <a:latin typeface="Arial"/>
              </a:rPr>
              <a:t>в 1922 году — издательство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8119"/>
                </a:solidFill>
                <a:latin typeface="Arial"/>
              </a:rPr>
              <a:t>МАФ (Московская ассоциация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8119"/>
                </a:solidFill>
                <a:latin typeface="Arial"/>
              </a:rPr>
              <a:t>футуристов), в котором вышло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8119"/>
                </a:solidFill>
                <a:latin typeface="Arial"/>
              </a:rPr>
              <a:t>несколько его книг. В 1923 году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8119"/>
                </a:solidFill>
                <a:latin typeface="Arial"/>
              </a:rPr>
              <a:t>организовал группу ЛЕФ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8119"/>
                </a:solidFill>
                <a:latin typeface="Arial"/>
              </a:rPr>
              <a:t>(Левый фронт искусств),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8119"/>
                </a:solidFill>
                <a:latin typeface="Arial"/>
              </a:rPr>
              <a:t>толстый журнал «ЛЕФ» (в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8119"/>
                </a:solidFill>
                <a:latin typeface="Arial"/>
              </a:rPr>
              <a:t>1923—1925 годах вышло семь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8119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8119"/>
                </a:solidFill>
                <a:latin typeface="Arial"/>
              </a:rPr>
              <a:t>номеров). Пропагандировал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8119"/>
                </a:solidFill>
                <a:latin typeface="Arial"/>
              </a:rPr>
              <a:t>Лефовские теории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8119"/>
                </a:solidFill>
                <a:latin typeface="Arial"/>
              </a:rPr>
              <a:t>производственного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8119"/>
                </a:solidFill>
                <a:latin typeface="Arial"/>
              </a:rPr>
              <a:t>искусства, социального заказа,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8119"/>
                </a:solidFill>
                <a:latin typeface="Arial"/>
              </a:rPr>
              <a:t>литературы факта.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2" name="Picture 4" descr="Картинка 10 из 2990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" y="762120"/>
            <a:ext cx="3809880" cy="502920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Picture 4" descr=""/>
          <p:cNvPicPr/>
          <p:nvPr/>
        </p:nvPicPr>
        <p:blipFill>
          <a:blip r:embed="rId1"/>
          <a:srcRect l="732" t="703" r="1134" b="0"/>
          <a:stretch/>
        </p:blipFill>
        <p:spPr>
          <a:xfrm>
            <a:off x="1066680" y="304920"/>
            <a:ext cx="7086600" cy="63118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151920" y="457200"/>
            <a:ext cx="44960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8119"/>
                </a:solidFill>
                <a:latin typeface="Arial"/>
              </a:rPr>
              <a:t>В 1922—1924 годах Маяковский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8119"/>
                </a:solidFill>
                <a:latin typeface="Arial"/>
              </a:rPr>
              <a:t>совершил несколько поездок за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8119"/>
                </a:solidFill>
                <a:latin typeface="Arial"/>
              </a:rPr>
              <a:t>границу — Латвия, Франция,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8119"/>
                </a:solidFill>
                <a:latin typeface="Arial"/>
              </a:rPr>
              <a:t>Германия; писал очерки и стихи о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8119"/>
                </a:solidFill>
                <a:latin typeface="Arial"/>
              </a:rPr>
              <a:t>европейских впечатлениях. В 1925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8119"/>
                </a:solidFill>
                <a:latin typeface="Arial"/>
              </a:rPr>
              <a:t>году состоялось самое длительное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8119"/>
                </a:solidFill>
                <a:latin typeface="Arial"/>
              </a:rPr>
              <a:t>его путешествие: поездка по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8119"/>
                </a:solidFill>
                <a:latin typeface="Arial"/>
              </a:rPr>
              <a:t>Америке. Маяковский посетил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8119"/>
                </a:solidFill>
                <a:latin typeface="Arial"/>
              </a:rPr>
              <a:t>Гавану, Мехико и в течение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8119"/>
                </a:solidFill>
                <a:latin typeface="Arial"/>
              </a:rPr>
              <a:t>трёх месяцев выступал в различных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8119"/>
                </a:solidFill>
                <a:latin typeface="Arial"/>
              </a:rPr>
              <a:t>городах США с чтением стихов и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8119"/>
                </a:solidFill>
                <a:latin typeface="Arial"/>
              </a:rPr>
              <a:t>докладов. Позже были написаны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811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8119"/>
                </a:solidFill>
                <a:latin typeface="Arial"/>
              </a:rPr>
              <a:t>стихи и очерк «Моё открытие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8119"/>
                </a:solidFill>
                <a:latin typeface="Arial"/>
              </a:rPr>
              <a:t>Америки». В 1925—1928 годах он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8119"/>
                </a:solidFill>
                <a:latin typeface="Arial"/>
              </a:rPr>
              <a:t>много ездил по Советскому Союзу,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8119"/>
                </a:solidFill>
                <a:latin typeface="Arial"/>
              </a:rPr>
              <a:t>выступал в самых разных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8119"/>
                </a:solidFill>
                <a:latin typeface="Arial"/>
              </a:rPr>
              <a:t>аудиториях. В эти годы поэт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8119"/>
                </a:solidFill>
                <a:latin typeface="Arial"/>
              </a:rPr>
              <a:t>опубликовал такие произведения,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8119"/>
                </a:solidFill>
                <a:latin typeface="Arial"/>
              </a:rPr>
              <a:t>как «По городам Союза» (1927);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8119"/>
                </a:solidFill>
                <a:latin typeface="Arial"/>
              </a:rPr>
              <a:t>«Рассказ литейщика Ивана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8119"/>
                </a:solidFill>
                <a:latin typeface="Arial"/>
              </a:rPr>
              <a:t>Козырева…» (1928) и др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5" name="Picture 4" descr=""/>
          <p:cNvPicPr/>
          <p:nvPr/>
        </p:nvPicPr>
        <p:blipFill>
          <a:blip r:embed="rId1"/>
          <a:srcRect l="0" t="0" r="605" b="0"/>
          <a:stretch/>
        </p:blipFill>
        <p:spPr>
          <a:xfrm>
            <a:off x="4724280" y="369720"/>
            <a:ext cx="4035600" cy="595476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4190760" y="345600"/>
            <a:ext cx="4647960" cy="613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8119"/>
                </a:solidFill>
                <a:latin typeface="Arial"/>
              </a:rPr>
              <a:t>В 1922—1926 годах активно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8119"/>
                </a:solidFill>
                <a:latin typeface="Arial"/>
              </a:rPr>
              <a:t>сотрудничал в «Известиях», в 1926—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8119"/>
                </a:solidFill>
                <a:latin typeface="Arial"/>
              </a:rPr>
              <a:t>1929 годах — в «Комсомольской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8119"/>
                </a:solidFill>
                <a:latin typeface="Arial"/>
              </a:rPr>
              <a:t>правде». Печатался в журналах: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8119"/>
                </a:solidFill>
                <a:latin typeface="Arial"/>
              </a:rPr>
              <a:t>«Новый мир», «Молодая гвардия»,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8119"/>
                </a:solidFill>
                <a:latin typeface="Arial"/>
              </a:rPr>
              <a:t>«Огонёк», «Крокодил»,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8119"/>
                </a:solidFill>
                <a:latin typeface="Arial"/>
              </a:rPr>
              <a:t>«Красная нива» и др. Работал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8119"/>
                </a:solidFill>
                <a:latin typeface="Arial"/>
              </a:rPr>
              <a:t>в агитке и рекламе, за что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8119"/>
                </a:solidFill>
                <a:latin typeface="Arial"/>
              </a:rPr>
              <a:t>подвергался критике. В 1927 году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8119"/>
                </a:solidFill>
                <a:latin typeface="Arial"/>
              </a:rPr>
              <a:t>восстановил журнал ЛЕФ под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8119"/>
                </a:solidFill>
                <a:latin typeface="Arial"/>
              </a:rPr>
              <a:t>названием «Новый ЛЕФ».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8119"/>
                </a:solidFill>
                <a:latin typeface="Arial"/>
              </a:rPr>
              <a:t>Всего вышло 24 номера. Летом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8119"/>
                </a:solidFill>
                <a:latin typeface="Arial"/>
              </a:rPr>
              <a:t>1928 года Маяковский разочаровался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8119"/>
                </a:solidFill>
                <a:latin typeface="Arial"/>
              </a:rPr>
              <a:t>в ЛЕФе и ушёл из организации и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8119"/>
                </a:solidFill>
                <a:latin typeface="Arial"/>
              </a:rPr>
              <a:t>журнала. В этом же году он начал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811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8119"/>
                </a:solidFill>
                <a:latin typeface="Arial"/>
              </a:rPr>
              <a:t>писать свою личную биографию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811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8119"/>
                </a:solidFill>
                <a:latin typeface="Arial"/>
              </a:rPr>
              <a:t>«Я сам». С 8 октября по 8 декабря —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8119"/>
                </a:solidFill>
                <a:latin typeface="Arial"/>
              </a:rPr>
              <a:t>поездка за границу, по маршруту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8119"/>
                </a:solidFill>
                <a:latin typeface="Arial"/>
              </a:rPr>
              <a:t>Берлин — Париж. В 1929 году поэт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8119"/>
                </a:solidFill>
                <a:latin typeface="Arial"/>
              </a:rPr>
              <a:t>организовал группу «РЕФ», но уже в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8119"/>
                </a:solidFill>
                <a:latin typeface="Arial"/>
              </a:rPr>
              <a:t>феврале 1930 года ушёл из неё,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8119"/>
                </a:solidFill>
                <a:latin typeface="Arial"/>
              </a:rPr>
              <a:t>вступив в РАПП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7" name="Picture 5" descr="2110186"/>
          <p:cNvPicPr/>
          <p:nvPr/>
        </p:nvPicPr>
        <p:blipFill>
          <a:blip r:embed="rId1"/>
          <a:srcRect l="12996" t="0" r="14620" b="0"/>
          <a:stretch/>
        </p:blipFill>
        <p:spPr>
          <a:xfrm>
            <a:off x="581040" y="304920"/>
            <a:ext cx="3397320" cy="617220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380880" y="3581280"/>
            <a:ext cx="82296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8119"/>
                </a:solidFill>
                <a:latin typeface="Arial"/>
              </a:rPr>
              <a:t>В своих произведениях Маяковский был бескомпромис-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8119"/>
                </a:solidFill>
                <a:latin typeface="Arial"/>
              </a:rPr>
              <a:t>сен, поэтому и неудобен. В произведениях, написанных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8119"/>
                </a:solidFill>
                <a:latin typeface="Arial"/>
              </a:rPr>
              <a:t>им в конце 1920-х годов, стали возникать трагические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8119"/>
                </a:solidFill>
                <a:latin typeface="Arial"/>
              </a:rPr>
              <a:t>мотивы. Критики называли его лишь «попутчиком», а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8119"/>
                </a:solidFill>
                <a:latin typeface="Arial"/>
              </a:rPr>
              <a:t>не «пролетарским писателем», каким он себя хотел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8119"/>
                </a:solidFill>
                <a:latin typeface="Arial"/>
              </a:rPr>
              <a:t>видеть. В 1929 году он пытался провести выставку,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8119"/>
                </a:solidFill>
                <a:latin typeface="Arial"/>
              </a:rPr>
              <a:t>посвящённую 20-летию творчества, но ему всячески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8119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ff8119"/>
                </a:solidFill>
                <a:latin typeface="Arial"/>
              </a:rPr>
              <a:t>мешали. Личная жизнь поэта тоже обострилась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9" name="Picture 4" descr=""/>
          <p:cNvPicPr/>
          <p:nvPr/>
        </p:nvPicPr>
        <p:blipFill>
          <a:blip r:embed="rId1"/>
          <a:srcRect l="1644" t="3120" r="569" b="2265"/>
          <a:stretch/>
        </p:blipFill>
        <p:spPr>
          <a:xfrm>
            <a:off x="2133720" y="152280"/>
            <a:ext cx="4647960" cy="333540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 txBox="1"/>
          <p:nvPr/>
        </p:nvSpPr>
        <p:spPr>
          <a:xfrm>
            <a:off x="152280" y="228240"/>
            <a:ext cx="883944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8119"/>
                </a:solidFill>
                <a:latin typeface="Arial"/>
              </a:rPr>
              <a:t>Именно эти причины могли привести к тому, что 14 апреля 1930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8119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8119"/>
                </a:solidFill>
                <a:latin typeface="Arial"/>
              </a:rPr>
              <a:t>года в 10:15 утра Маяковский покончил с собой выстрелом в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8119"/>
                </a:solidFill>
                <a:latin typeface="Arial"/>
              </a:rPr>
              <a:t>сердце из револьвера. Это произошло в Москве, в доме № 3 по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8119"/>
                </a:solidFill>
                <a:latin typeface="Arial"/>
              </a:rPr>
              <a:t>Лубянскому проезду, кв. № 12. С 15 по 17 апреля через зал Клуба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8119"/>
                </a:solidFill>
                <a:latin typeface="Arial"/>
              </a:rPr>
              <a:t>писателей, где был выставлен гроб с телом поэта, прошло сто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8119"/>
                </a:solidFill>
                <a:latin typeface="Arial"/>
              </a:rPr>
              <a:t>пятьдесят тысяч человек. 17 апреля состоялся траурный митинг и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8119"/>
                </a:solidFill>
                <a:latin typeface="Arial"/>
              </a:rPr>
              <a:t>похороны.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91" name="Picture 5" descr="Картинка 8 из 2698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52480" y="2668680"/>
            <a:ext cx="5867640" cy="373212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09880" y="457200"/>
            <a:ext cx="5029200" cy="574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8119"/>
                </a:solidFill>
                <a:latin typeface="Arial"/>
              </a:rPr>
              <a:t>Владимир Маяковский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811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8119"/>
                </a:solidFill>
                <a:latin typeface="Arial"/>
              </a:rPr>
              <a:t>родился в селе Багдади в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8119"/>
                </a:solidFill>
                <a:latin typeface="Arial"/>
              </a:rPr>
              <a:t>Грузии (Российская империя) в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811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8119"/>
                </a:solidFill>
                <a:latin typeface="Arial"/>
              </a:rPr>
              <a:t>семье </a:t>
            </a:r>
            <a:r>
              <a:rPr b="1" i="1" lang="ru-RU" sz="2400" spc="-1" strike="noStrike">
                <a:solidFill>
                  <a:srgbClr val="ff8119"/>
                </a:solidFill>
                <a:latin typeface="Arial"/>
              </a:rPr>
              <a:t>Владимира Константи-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8119"/>
                </a:solidFill>
                <a:latin typeface="Arial"/>
              </a:rPr>
              <a:t>новича Маяковского</a:t>
            </a:r>
            <a:r>
              <a:rPr b="1" lang="ru-RU" sz="2400" spc="-1" strike="noStrike">
                <a:solidFill>
                  <a:srgbClr val="ff8119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811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8119"/>
                </a:solidFill>
                <a:latin typeface="Arial"/>
              </a:rPr>
              <a:t>служившего лесничим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8119"/>
                </a:solidFill>
                <a:latin typeface="Arial"/>
              </a:rPr>
              <a:t>третьего разряда в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8119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ff8119"/>
                </a:solidFill>
                <a:latin typeface="Arial"/>
              </a:rPr>
              <a:t>Эриванской губернии. Мать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811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8119"/>
                </a:solidFill>
                <a:latin typeface="Arial"/>
              </a:rPr>
              <a:t>поэта, </a:t>
            </a:r>
            <a:r>
              <a:rPr b="1" i="1" lang="ru-RU" sz="2400" spc="-1" strike="noStrike">
                <a:solidFill>
                  <a:srgbClr val="ff8119"/>
                </a:solidFill>
                <a:latin typeface="Arial"/>
              </a:rPr>
              <a:t>Александра Алексеевна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8119"/>
                </a:solidFill>
                <a:latin typeface="Arial"/>
              </a:rPr>
              <a:t>Павленко</a:t>
            </a:r>
            <a:r>
              <a:rPr b="1" lang="ru-RU" sz="2400" spc="-1" strike="noStrike">
                <a:solidFill>
                  <a:srgbClr val="ff8119"/>
                </a:solidFill>
                <a:latin typeface="Arial"/>
              </a:rPr>
              <a:t>, из рода кубанских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8119"/>
                </a:solidFill>
                <a:latin typeface="Arial"/>
              </a:rPr>
              <a:t>казаков, родилась на Кубани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8119"/>
                </a:solidFill>
                <a:latin typeface="Arial"/>
              </a:rPr>
              <a:t>Также у него было две  сестры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811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8119"/>
                </a:solidFill>
                <a:latin typeface="Arial"/>
              </a:rPr>
              <a:t>Людмила и Ольга и брат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8119"/>
                </a:solidFill>
                <a:latin typeface="Arial"/>
              </a:rPr>
              <a:t>Константин, который умер в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8119"/>
                </a:solidFill>
                <a:latin typeface="Arial"/>
              </a:rPr>
              <a:t>трёхлетнем возрасте от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8119"/>
                </a:solidFill>
                <a:latin typeface="Arial"/>
              </a:rPr>
              <a:t>скарлатины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4" name="Picture 5" descr="04_01_09"/>
          <p:cNvPicPr/>
          <p:nvPr/>
        </p:nvPicPr>
        <p:blipFill>
          <a:blip r:embed="rId1"/>
          <a:stretch/>
        </p:blipFill>
        <p:spPr>
          <a:xfrm>
            <a:off x="419040" y="304920"/>
            <a:ext cx="3162240" cy="5410080"/>
          </a:xfrm>
          <a:prstGeom prst="rect">
            <a:avLst/>
          </a:prstGeom>
          <a:ln w="0">
            <a:noFill/>
          </a:ln>
        </p:spPr>
      </p:pic>
      <p:sp>
        <p:nvSpPr>
          <p:cNvPr id="355" name="Rectangle 6"/>
          <p:cNvSpPr/>
          <p:nvPr/>
        </p:nvSpPr>
        <p:spPr>
          <a:xfrm>
            <a:off x="491760" y="5790240"/>
            <a:ext cx="3093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4b9e8"/>
                </a:solidFill>
                <a:latin typeface="Arial"/>
              </a:rPr>
              <a:t>Володя Маяковский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4b9e8"/>
                </a:solidFill>
                <a:latin typeface="Arial"/>
              </a:rPr>
              <a:t>с сестрой Олей. 1896 г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wedg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409720" y="685800"/>
            <a:ext cx="2971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8119"/>
                </a:solidFill>
                <a:latin typeface="Century Schoolbook"/>
              </a:rPr>
              <a:t>МОГИЛА МАЯКОВС-</a:t>
            </a:r>
            <a:br>
              <a:rPr sz="3000"/>
            </a:br>
            <a:r>
              <a:rPr b="0" lang="ru-RU" sz="3000" spc="-1" strike="noStrike">
                <a:solidFill>
                  <a:srgbClr val="ff8119"/>
                </a:solidFill>
                <a:latin typeface="Century Schoolbook"/>
              </a:rPr>
              <a:t>КОГО В МОСКВЕ НА НОВОДЕ-</a:t>
            </a:r>
            <a:br>
              <a:rPr sz="3000"/>
            </a:br>
            <a:r>
              <a:rPr b="0" lang="ru-RU" sz="3000" spc="-1" strike="noStrike">
                <a:solidFill>
                  <a:srgbClr val="ff8119"/>
                </a:solidFill>
                <a:latin typeface="Century Schoolbook"/>
              </a:rPr>
              <a:t>ВИЧЬЕМ КЛАДБИЩЕ</a:t>
            </a: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pic>
        <p:nvPicPr>
          <p:cNvPr id="393" name="Picture 4" descr="39963_15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" y="304920"/>
            <a:ext cx="4572000" cy="60958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Picture 5" descr="Картинка 6 из 671"/>
          <p:cNvPicPr/>
          <p:nvPr/>
        </p:nvPicPr>
        <p:blipFill>
          <a:blip r:embed="rId1"/>
          <a:stretch/>
        </p:blipFill>
        <p:spPr>
          <a:xfrm>
            <a:off x="6477120" y="304920"/>
            <a:ext cx="2228760" cy="297180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7" descr="Картинка 8 из 671"/>
          <p:cNvPicPr/>
          <p:nvPr/>
        </p:nvPicPr>
        <p:blipFill>
          <a:blip r:embed="rId2"/>
          <a:stretch/>
        </p:blipFill>
        <p:spPr>
          <a:xfrm>
            <a:off x="304920" y="380880"/>
            <a:ext cx="3200400" cy="240048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8" descr="Картинка 29 из 29906"/>
          <p:cNvPicPr/>
          <p:nvPr/>
        </p:nvPicPr>
        <p:blipFill>
          <a:blip r:embed="rId3"/>
          <a:stretch/>
        </p:blipFill>
        <p:spPr>
          <a:xfrm>
            <a:off x="685800" y="2514600"/>
            <a:ext cx="2819520" cy="2819520"/>
          </a:xfrm>
          <a:prstGeom prst="rect">
            <a:avLst/>
          </a:prstGeom>
          <a:ln w="0">
            <a:noFill/>
          </a:ln>
        </p:spPr>
      </p:pic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762120" y="5257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8119"/>
                </a:solidFill>
                <a:latin typeface="Century Schoolbook"/>
              </a:rPr>
              <a:t>ПАМЯТНИКИ МАЯКОВСКОМУ</a:t>
            </a: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pic>
        <p:nvPicPr>
          <p:cNvPr id="398" name="Picture 12" descr="Картинка 10 из 671"/>
          <p:cNvPicPr/>
          <p:nvPr/>
        </p:nvPicPr>
        <p:blipFill>
          <a:blip r:embed="rId4"/>
          <a:stretch/>
        </p:blipFill>
        <p:spPr>
          <a:xfrm>
            <a:off x="3505320" y="609480"/>
            <a:ext cx="2995560" cy="202896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14" descr="Картинка 22 из 671"/>
          <p:cNvPicPr/>
          <p:nvPr/>
        </p:nvPicPr>
        <p:blipFill>
          <a:blip r:embed="rId5"/>
          <a:stretch/>
        </p:blipFill>
        <p:spPr>
          <a:xfrm>
            <a:off x="6153120" y="2743200"/>
            <a:ext cx="2000160" cy="266688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15" descr="Картинка 147 из 26987"/>
          <p:cNvPicPr/>
          <p:nvPr/>
        </p:nvPicPr>
        <p:blipFill>
          <a:blip r:embed="rId6"/>
          <a:stretch/>
        </p:blipFill>
        <p:spPr>
          <a:xfrm>
            <a:off x="3048120" y="2754360"/>
            <a:ext cx="3047760" cy="225576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4"/>
          <p:cNvSpPr/>
          <p:nvPr/>
        </p:nvSpPr>
        <p:spPr>
          <a:xfrm>
            <a:off x="5340960" y="2286360"/>
            <a:ext cx="3327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119"/>
                </a:solidFill>
                <a:latin typeface="Arial"/>
              </a:rPr>
              <a:t>Дочь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119"/>
                </a:solidFill>
                <a:latin typeface="Arial"/>
              </a:rPr>
              <a:t>Маяковского -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8119"/>
                </a:solidFill>
                <a:latin typeface="Arial"/>
              </a:rPr>
              <a:t>Патриция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8119"/>
                </a:solidFill>
                <a:latin typeface="Arial"/>
              </a:rPr>
              <a:t>Томпсон</a:t>
            </a:r>
            <a:r>
              <a:rPr b="0" i="1" lang="ru-RU" sz="1800" spc="-1" strike="noStrike">
                <a:solidFill>
                  <a:srgbClr val="ff8119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Picture 8" descr="04_01_03"/>
          <p:cNvPicPr/>
          <p:nvPr/>
        </p:nvPicPr>
        <p:blipFill>
          <a:blip r:embed="rId1"/>
          <a:stretch/>
        </p:blipFill>
        <p:spPr>
          <a:xfrm>
            <a:off x="609480" y="685800"/>
            <a:ext cx="4284720" cy="533412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49525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8119"/>
                </a:solidFill>
                <a:latin typeface="Arial"/>
              </a:rPr>
              <a:t>МОНЕТА С ИЗОБРАЖЕНИЕМ В.В.МАЯКОВСКОГО</a:t>
            </a:r>
            <a:endParaRPr b="0" lang="en-US" sz="3400" spc="-1" strike="noStrike">
              <a:solidFill>
                <a:srgbClr val="464646"/>
              </a:solidFill>
              <a:latin typeface="Century Schoolbook"/>
            </a:endParaRPr>
          </a:p>
        </p:txBody>
      </p:sp>
      <p:pic>
        <p:nvPicPr>
          <p:cNvPr id="404" name="Picture 4" descr="Картинка 42 из 29906"/>
          <p:cNvPicPr/>
          <p:nvPr/>
        </p:nvPicPr>
        <p:blipFill>
          <a:blip r:embed="rId1"/>
          <a:stretch/>
        </p:blipFill>
        <p:spPr>
          <a:xfrm>
            <a:off x="914400" y="641520"/>
            <a:ext cx="7391520" cy="385416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WordArt 4"/>
          <p:cNvSpPr txBox="1"/>
          <p:nvPr/>
        </p:nvSpPr>
        <p:spPr>
          <a:xfrm>
            <a:off x="609480" y="1752480"/>
            <a:ext cx="7239240" cy="2855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9488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Конец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 spd="slow"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Picture 5" descr="photo-01big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5205240" y="914400"/>
            <a:ext cx="3100680" cy="472428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7" descr="photo-25big"/>
          <p:cNvPicPr/>
          <p:nvPr/>
        </p:nvPicPr>
        <p:blipFill>
          <a:blip r:embed="rId2">
            <a:lum contrast="30000"/>
          </a:blip>
          <a:stretch/>
        </p:blipFill>
        <p:spPr>
          <a:xfrm>
            <a:off x="888840" y="914400"/>
            <a:ext cx="3111840" cy="4724280"/>
          </a:xfrm>
          <a:prstGeom prst="rect">
            <a:avLst/>
          </a:prstGeom>
          <a:ln w="0">
            <a:noFill/>
          </a:ln>
        </p:spPr>
      </p:pic>
      <p:sp>
        <p:nvSpPr>
          <p:cNvPr id="358" name="Rectangle 8"/>
          <p:cNvSpPr/>
          <p:nvPr/>
        </p:nvSpPr>
        <p:spPr>
          <a:xfrm>
            <a:off x="246960" y="5713560"/>
            <a:ext cx="440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8119"/>
                </a:solidFill>
                <a:latin typeface="Arial"/>
              </a:rPr>
              <a:t>Владимир Константинович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8119"/>
                </a:solidFill>
                <a:latin typeface="Arial"/>
              </a:rPr>
              <a:t>Маяковский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9" name="Rectangle 9"/>
          <p:cNvSpPr/>
          <p:nvPr/>
        </p:nvSpPr>
        <p:spPr>
          <a:xfrm>
            <a:off x="4804920" y="5729400"/>
            <a:ext cx="3940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8119"/>
                </a:solidFill>
                <a:latin typeface="Arial"/>
              </a:rPr>
              <a:t>Александра Алексеевна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8119"/>
                </a:solidFill>
                <a:latin typeface="Arial"/>
              </a:rPr>
              <a:t>Павленко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44b9e8"/>
                </a:solidFill>
                <a:latin typeface="Century Schoolbook"/>
              </a:rPr>
              <a:t>РОДИТЕЛИ МАЯКОВСКОГО</a:t>
            </a: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</p:spTree>
  </p:cSld>
  <p:transition spd="slow"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Picture 4" descr=""/>
          <p:cNvPicPr/>
          <p:nvPr/>
        </p:nvPicPr>
        <p:blipFill>
          <a:blip r:embed="rId1"/>
          <a:srcRect l="673" t="733" r="673" b="997"/>
          <a:stretch/>
        </p:blipFill>
        <p:spPr>
          <a:xfrm>
            <a:off x="762120" y="409680"/>
            <a:ext cx="7696080" cy="5457600"/>
          </a:xfrm>
          <a:prstGeom prst="rect">
            <a:avLst/>
          </a:prstGeom>
          <a:ln w="0">
            <a:noFill/>
          </a:ln>
        </p:spPr>
      </p:pic>
      <p:sp>
        <p:nvSpPr>
          <p:cNvPr id="362" name="Text Box 5"/>
          <p:cNvSpPr/>
          <p:nvPr/>
        </p:nvSpPr>
        <p:spPr>
          <a:xfrm>
            <a:off x="762120" y="595800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8119"/>
                </a:solidFill>
                <a:latin typeface="Arial"/>
              </a:rPr>
              <a:t>Село Багдади – родина В. В. Маяковского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4" descr=""/>
          <p:cNvPicPr/>
          <p:nvPr/>
        </p:nvPicPr>
        <p:blipFill>
          <a:blip r:embed="rId1"/>
          <a:srcRect l="4391" t="736" r="1653" b="998"/>
          <a:stretch/>
        </p:blipFill>
        <p:spPr>
          <a:xfrm>
            <a:off x="914400" y="304920"/>
            <a:ext cx="7391520" cy="5597280"/>
          </a:xfrm>
          <a:prstGeom prst="rect">
            <a:avLst/>
          </a:prstGeom>
          <a:ln w="0">
            <a:noFill/>
          </a:ln>
        </p:spPr>
      </p:pic>
      <p:sp>
        <p:nvSpPr>
          <p:cNvPr id="364" name="Text Box 5"/>
          <p:cNvSpPr/>
          <p:nvPr/>
        </p:nvSpPr>
        <p:spPr>
          <a:xfrm>
            <a:off x="1376280" y="5958000"/>
            <a:ext cx="66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8119"/>
                </a:solidFill>
                <a:latin typeface="Arial"/>
              </a:rPr>
              <a:t>Дом, где родился В. В. Маяковский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4267080" y="762120"/>
            <a:ext cx="472464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8119"/>
                </a:solidFill>
                <a:latin typeface="Arial"/>
              </a:rPr>
              <a:t>В 1902 году Маяковский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8119"/>
                </a:solidFill>
                <a:latin typeface="Arial"/>
              </a:rPr>
              <a:t>поступил в гимназию в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8119"/>
                </a:solidFill>
                <a:latin typeface="Arial"/>
              </a:rPr>
              <a:t>Кутаиси. В июле 1906 года от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8119"/>
                </a:solidFill>
                <a:latin typeface="Arial"/>
              </a:rPr>
              <a:t>заражения крови умер его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8119"/>
                </a:solidFill>
                <a:latin typeface="Arial"/>
              </a:rPr>
              <a:t>отец. После похорон отца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8119"/>
                </a:solidFill>
                <a:latin typeface="Arial"/>
              </a:rPr>
              <a:t>Маяковский вместе с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8119"/>
                </a:solidFill>
                <a:latin typeface="Arial"/>
              </a:rPr>
              <a:t>матерью и сёстрами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811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8119"/>
                </a:solidFill>
                <a:latin typeface="Arial"/>
              </a:rPr>
              <a:t>переехал в Москву, где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8119"/>
                </a:solidFill>
                <a:latin typeface="Arial"/>
              </a:rPr>
              <a:t>поступил в IV класс 5-ой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8119"/>
                </a:solidFill>
                <a:latin typeface="Arial"/>
              </a:rPr>
              <a:t>классической гимназии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8119"/>
                </a:solidFill>
                <a:latin typeface="Arial"/>
              </a:rPr>
              <a:t>(ныне московская школ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8119"/>
                </a:solidFill>
                <a:latin typeface="Arial"/>
              </a:rPr>
              <a:t>№ </a:t>
            </a:r>
            <a:r>
              <a:rPr b="1" lang="ru-RU" sz="2400" spc="-1" strike="noStrike">
                <a:solidFill>
                  <a:srgbClr val="ff8119"/>
                </a:solidFill>
                <a:latin typeface="Arial"/>
              </a:rPr>
              <a:t>91). В марте 1908 года был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811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8119"/>
                </a:solidFill>
                <a:latin typeface="Arial"/>
              </a:rPr>
              <a:t>исключён из V  класса за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8119"/>
                </a:solidFill>
                <a:latin typeface="Arial"/>
              </a:rPr>
              <a:t>неуплату за обучение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6" name="Picture 6" descr="Картинка 43 из 2990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4920" y="533520"/>
            <a:ext cx="3990960" cy="548640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7" name="Picture 4" descr=""/>
          <p:cNvPicPr/>
          <p:nvPr/>
        </p:nvPicPr>
        <p:blipFill>
          <a:blip r:embed="rId1"/>
          <a:stretch/>
        </p:blipFill>
        <p:spPr>
          <a:xfrm>
            <a:off x="685800" y="380880"/>
            <a:ext cx="7848720" cy="5518440"/>
          </a:xfrm>
          <a:prstGeom prst="rect">
            <a:avLst/>
          </a:prstGeom>
          <a:ln w="0">
            <a:noFill/>
          </a:ln>
        </p:spPr>
      </p:pic>
      <p:sp>
        <p:nvSpPr>
          <p:cNvPr id="368" name="Text Box 5"/>
          <p:cNvSpPr/>
          <p:nvPr/>
        </p:nvSpPr>
        <p:spPr>
          <a:xfrm>
            <a:off x="2182680" y="6021360"/>
            <a:ext cx="475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8119"/>
                </a:solidFill>
                <a:latin typeface="Arial"/>
              </a:rPr>
              <a:t>Кутаисская</a:t>
            </a: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8119"/>
                </a:solidFill>
                <a:latin typeface="Arial"/>
              </a:rPr>
              <a:t>гимнази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 txBox="1"/>
          <p:nvPr/>
        </p:nvSpPr>
        <p:spPr>
          <a:xfrm>
            <a:off x="4343400" y="380520"/>
            <a:ext cx="449568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8119"/>
                </a:solidFill>
                <a:latin typeface="Arial"/>
              </a:rPr>
              <a:t>В Москве Маяковский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8119"/>
                </a:solidFill>
                <a:latin typeface="Arial"/>
              </a:rPr>
              <a:t>познакомился с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8119"/>
                </a:solidFill>
                <a:latin typeface="Arial"/>
              </a:rPr>
              <a:t>революционно настроенными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8119"/>
                </a:solidFill>
                <a:latin typeface="Arial"/>
              </a:rPr>
              <a:t>студентами, начал увлекаться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8119"/>
                </a:solidFill>
                <a:latin typeface="Arial"/>
              </a:rPr>
              <a:t>марксистской литературой, в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8119"/>
                </a:solidFill>
                <a:latin typeface="Arial"/>
              </a:rPr>
              <a:t>1908году вступил в РСДРП.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8119"/>
                </a:solidFill>
                <a:latin typeface="Arial"/>
              </a:rPr>
              <a:t>Был пропагандистом в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8119"/>
                </a:solidFill>
                <a:latin typeface="Arial"/>
              </a:rPr>
              <a:t>торгово-промышленном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8119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ff8119"/>
                </a:solidFill>
                <a:latin typeface="Arial"/>
              </a:rPr>
              <a:t>подрайоне, в 1908-9 годах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8119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ff8119"/>
                </a:solidFill>
                <a:latin typeface="Arial"/>
              </a:rPr>
              <a:t>трижды арестовывался. В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8119"/>
                </a:solidFill>
                <a:latin typeface="Arial"/>
              </a:rPr>
              <a:t>тюрьме  Маяковский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8119"/>
                </a:solidFill>
                <a:latin typeface="Arial"/>
              </a:rPr>
              <a:t>«скандалил»,  поэтому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8119"/>
                </a:solidFill>
                <a:latin typeface="Arial"/>
              </a:rPr>
              <a:t>его часто переводили из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8119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ff8119"/>
                </a:solidFill>
                <a:latin typeface="Arial"/>
              </a:rPr>
              <a:t>части в часть: Басманная,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8119"/>
                </a:solidFill>
                <a:latin typeface="Arial"/>
              </a:rPr>
              <a:t>Мещанская, Мясницкая и,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8119"/>
                </a:solidFill>
                <a:latin typeface="Arial"/>
              </a:rPr>
              <a:t>наконец, Бутырская тюрьма,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8119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ff8119"/>
                </a:solidFill>
                <a:latin typeface="Arial"/>
              </a:rPr>
              <a:t>где он  провёл 11 месяцев в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8119"/>
                </a:solidFill>
                <a:latin typeface="Arial"/>
              </a:rPr>
              <a:t>одиночной камере № 103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0" name="Picture 3" descr=""/>
          <p:cNvPicPr/>
          <p:nvPr/>
        </p:nvPicPr>
        <p:blipFill>
          <a:blip r:embed="rId1"/>
          <a:srcRect l="4318" t="2969" r="6303" b="2227"/>
          <a:stretch/>
        </p:blipFill>
        <p:spPr>
          <a:xfrm>
            <a:off x="352440" y="1447920"/>
            <a:ext cx="3838680" cy="396216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Picture 2" descr=""/>
          <p:cNvPicPr/>
          <p:nvPr/>
        </p:nvPicPr>
        <p:blipFill>
          <a:blip r:embed="rId1"/>
          <a:srcRect l="1120" t="1872" r="1333" b="2690"/>
          <a:stretch/>
        </p:blipFill>
        <p:spPr>
          <a:xfrm>
            <a:off x="1295280" y="228600"/>
            <a:ext cx="6400800" cy="3753000"/>
          </a:xfrm>
          <a:prstGeom prst="rect">
            <a:avLst/>
          </a:prstGeom>
          <a:ln w="0">
            <a:noFill/>
          </a:ln>
        </p:spPr>
      </p:pic>
      <p:sp>
        <p:nvSpPr>
          <p:cNvPr id="372" name="Rectangle 5"/>
          <p:cNvSpPr/>
          <p:nvPr/>
        </p:nvSpPr>
        <p:spPr>
          <a:xfrm>
            <a:off x="228600" y="4022640"/>
            <a:ext cx="87631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8119"/>
                </a:solidFill>
                <a:latin typeface="Arial"/>
              </a:rPr>
              <a:t>Из тюрьмы после третьего ареста он был освобожден в январе 1910 года. Начал обучение в подготовительном классе Строгановского училища, в студиях художников С. Ю. Жуковского и П. И. Келина.В 1911 году поступил в </a:t>
            </a:r>
            <a:r>
              <a:rPr b="1" i="1" lang="ru-RU" sz="2000" spc="-1" strike="noStrike">
                <a:solidFill>
                  <a:srgbClr val="ff8119"/>
                </a:solidFill>
                <a:latin typeface="Arial"/>
              </a:rPr>
              <a:t>Московское училище живописи, ваяния и зодчества</a:t>
            </a:r>
            <a:r>
              <a:rPr b="1" lang="ru-RU" sz="2000" spc="-1" strike="noStrike">
                <a:solidFill>
                  <a:srgbClr val="ff8119"/>
                </a:solidFill>
                <a:latin typeface="Arial"/>
              </a:rPr>
              <a:t> — единственное место, куда приняли без свидетельства о благонадёжности. Познакомившись с Давидом Бурлюком, основателем футуристической группы «Гилея», вошёл в поэтический круг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орпг</cp:lastModifiedBy>
  <dcterms:modified xsi:type="dcterms:W3CDTF">2017-08-22T22:18:05Z</dcterms:modified>
  <cp:revision>6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