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DF6-FB14-4C7D-B065-287FD0D9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F4B-64BD-43FD-BE07-D61618D2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FC3-BCAC-497E-B23D-3A0D65E1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EB3-8687-440B-ADA4-9766479F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BE5A-C7AE-478F-9BFD-6C278ED1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89F6-A629-44C1-A136-231112BC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826D-E574-4EB7-BB79-99449340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749F-DBA1-4FAA-B637-D4C7BADB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D2E7-85AF-48D3-9E92-4FA75EB6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D26D-CEF8-40BA-912D-B38BB1ED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B968-F20B-45CA-95A2-14FA37A2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EC0-6D47-44E5-8770-6BDF05E7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F894-E3B6-4A47-A96C-57DB1678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6CD7-E6BD-4C7A-A98F-33EBBEED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38D1-2644-43CA-B9B9-660137C6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68AD-65EE-48C2-B900-3153149B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CD28-6F57-4BD6-ACCC-7EEB9845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3C333-4D7C-44B3-ADE4-6F37F5EC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4393E-5DAF-4908-8BAA-32631B03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0B807-086F-4E8A-9D69-AABCE094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299C3-385B-4AF6-B9F0-1EB66F26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FEC29-CB50-4B96-A36C-25F0690A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F6D-1223-4930-8E93-24640A24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AB398-ADB6-4E96-9380-E3C6605F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225F2-9C78-4CAC-B437-F03A236D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2BD13-BCEE-4B87-8166-BCF87FEE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C2840-E127-4F6B-9661-119A9CB6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85D61-1063-43DB-92E2-A1C0B89C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F8DCD-E8A6-440A-A3ED-805E933E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97922-5685-4B77-A412-130FEA54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B2468-1758-4EE8-B27F-C930CF57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3246E-77B6-4755-B17D-27626A31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AA133-0657-4ADA-B242-0B005A02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7B0-348C-42CF-9976-449436F5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30999-AA49-484D-B252-EA040CDB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49C72-43D7-4309-9EBA-CF4ED417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E0FD4-8DD0-4DE9-9B93-A0F73832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6738E-EC84-4703-83A9-3433D173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C7CF6-741C-4C32-977D-341B749D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334D1-234E-42DD-9DBA-4C0C4BE6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B4407-A084-4862-81EB-8850CAFD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7AEF5-9CE7-4524-A941-DF091858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12201-A1DE-440E-B3A0-944BE934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00D70-365A-49DF-B773-5710A4B8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E05-5F4C-44A9-A7E9-E3283184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5D0660-18A7-4632-96B3-51C00FA1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E2820-9574-4D64-B98C-50FBA0C1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EFCE5-5914-4B3A-B90E-F2C3DD4E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D9BA3-62AD-4FB2-903B-79587AF7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0E6C6-8450-4124-8B83-FAB66796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846B7-EA3B-4C3E-A669-AA0A5849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A0746-C974-48FF-95CA-4E1AE546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1F1392-CFAF-4A4B-B222-7C4F1F95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0F7B7-F971-481E-A472-A82F2EF2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C59A34-5FCE-4AD2-B7D7-42960902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F6E-B1CE-402B-AF94-A68535B4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F04E5-2777-434A-AF78-DA2D8301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CE5DC6-BF1D-4873-8C1F-C2EF9E2E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F428A3-D4BE-430B-A783-FCA95E99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B37B6-7644-49E3-BA73-848B627D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E2750-D005-4D7C-B12B-4553F9E6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A8839-A3F3-42DB-A1C3-84EF60DF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CF570E-2B26-465D-A330-DF91529A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2FD66-A8C5-493E-AE57-96F13F27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D2ABC-8043-42B3-98C1-84E9D4C5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7C3BA-F14F-4AA8-9963-2EEED850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11A-47C1-4932-AA24-4C45EC74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70545B-7E20-4346-9E69-6D5CD449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46A17-C60E-41CF-9423-B954411C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F0AC07-0204-4BF3-B702-FADBEA56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2DF54C-865E-4E26-A882-56E68F02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3F3100-E7AD-458D-A2F9-00C14465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A969C-243A-4D5B-A0C6-A02A086F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AA2089-59A6-4EE4-BE9D-37583CDF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F6552A-EE46-419A-A6D0-7D071A03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372D71-5FCF-4AF6-B2B8-8F82DE58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96DB72-6DC3-45ED-8A2B-0829325F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A51-2495-4B5D-8D13-FA7D1FB7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C64B7D-F517-4481-BEC1-56DC837A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9C30BB-081A-4906-B04E-07DA5952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3D8B7A-1E7E-48F7-9B9B-E9D24549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91795-8577-4985-BDB2-68B484B0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9196B9-D6CD-405C-BD0E-F9E84612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572-E9ED-4174-9014-128C112F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414C-C776-496C-9823-C5394603604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FDE0-4912-4A19-A259-6C3ECE75404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AC3F-980A-4321-8C0F-D5323FBFE8C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B79E-66E6-419A-836D-0AF75E7C71C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91C8-EFEC-4F61-9CD4-6A63A209AC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9711-9E50-4601-9215-0A1D0F60A87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8473-5C42-4A98-9E72-0B4224699FF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f/fe/&#1052;&#1072;&#1103;&#1082;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ntonowleo.narod.ru/g_3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1/Plakat_mayakowski_gros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v-mayakovsky.com/photo/photo-16big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55.radikal.ru/i149/0910/63/ee0f9e63325b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0/39/39963_15t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yak.cheb.ru/images/mayakovskiy/image018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2" descr="index"/>
          <p:cNvPicPr/>
          <p:nvPr/>
        </p:nvPicPr>
        <p:blipFill>
          <a:blip r:embed="rId1"/>
          <a:srcRect l="1754" t="0" r="0" b="0"/>
          <a:stretch/>
        </p:blipFill>
        <p:spPr>
          <a:xfrm>
            <a:off x="349200" y="304920"/>
            <a:ext cx="4375080" cy="6172200"/>
          </a:xfrm>
          <a:prstGeom prst="rect">
            <a:avLst/>
          </a:prstGeom>
          <a:ln w="0">
            <a:noFill/>
          </a:ln>
        </p:spPr>
      </p:pic>
      <p:sp>
        <p:nvSpPr>
          <p:cNvPr id="352" name="WordArt 4"/>
          <p:cNvSpPr txBox="1"/>
          <p:nvPr/>
        </p:nvSpPr>
        <p:spPr>
          <a:xfrm>
            <a:off x="4114800" y="1143000"/>
            <a:ext cx="44956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лади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ладимир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яков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93-19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04560" y="2286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ервое опубликованное стихотворение называлось «Ночь»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оно вошло в футуристический сборник «Пощёчин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общественному вкусу». А в 1913 году вышел первый сборник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Маяковского «Я» (цикл из четырёх стихотворений). Он бы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написан от руки, снабжён рисунками Василия Чекрыгина 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Льва Жегина и размножен литографическим способо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 количестве 300 экземпляров. В качестве первого раздел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этот сборник вошёл в книгу стихов поэта «Простое как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мычание» (1916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5" descr="Untitled-5 Копировать"/>
          <p:cNvPicPr/>
          <p:nvPr/>
        </p:nvPicPr>
        <p:blipFill>
          <a:blip r:embed="rId1"/>
          <a:stretch/>
        </p:blipFill>
        <p:spPr>
          <a:xfrm>
            <a:off x="1523880" y="3124080"/>
            <a:ext cx="5715000" cy="3416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190760" y="304920"/>
            <a:ext cx="4724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 этом же году поэт обратился к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драматургии. Была написана 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оставлена программная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трагедия «Владимир Маяковс-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кий». Сам автор выступил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режиссёром и исполнителем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главной роли. В феврале 1914 год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Маяковский был исключен из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училища за публичны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ыступления. В  1914—1915 года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Маяковский работал над поэмо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«Облако в  штанах». Посл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начала Первой мировой войн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ышло стихотворение «Войн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объявлена». В август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Маяковский решил записаться 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добровольцы, но ему н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озволили, объяснив эт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олитической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неблагонадёжность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5" descr="Файл:Маяк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762120"/>
            <a:ext cx="36212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495680" y="533160"/>
            <a:ext cx="42674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 1915—1917 годах Маяковский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роходил военную службу 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етрограде в автошколе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Солдатам печататься н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разрешали, но его спас Осип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Брик, который выкупил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оэмы «Флейта-позвоночник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и «Облако в штанах» п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50 копеек за строку 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напечатал. Также Маяковский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снимался в фильмах п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собственным сценариям. В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августе 1917 года задумал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написать «Мистерию Буфф»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которая была закончена 2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октября 1918 года 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оставлена к годовщин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революц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4" descr="Картинка 76 из 299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609480"/>
            <a:ext cx="393408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380880" y="304920"/>
            <a:ext cx="4343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17 декабря 1918 года поэ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первые прочёл со сцен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Матросского театра стих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«Левый марш». В марте 191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года он  переезжает в Москву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начинает активно сотруднич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 РОСТА, оформляет (как поэ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и как художник) для РОСТ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агитационно-сатирическ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лакаты («Окна РОСТА»). В 191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году вышло первое собра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сочинений поэта — «Всё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сочинённое Владимиро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Маяковским. 1909—1919». В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1918—1919 годах выступает 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газете «Искусство коммуны»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 1920 году закончил пис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оэму «150 000 000», в которо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отражена тема миров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револю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6" descr="Файл:Plakat mayakowski gros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762120"/>
            <a:ext cx="3809880" cy="5238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0" y="762120"/>
            <a:ext cx="41911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 1918 году Маяковский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организовал группу «Комфут»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(коммунистический футуризм)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 1922 году — издательств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МАФ (Московская ассоциация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футуристов), в котором вышл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несколько его книг. В 1923 году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организовал группу ЛЕФ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(Левый фронт искусств)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толстый журнал «ЛЕФ» (в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1923—1925 годах вышло сем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номеров). Пропагандировал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Лефовские теори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роизводственног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искусства, социального заказа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литературы факт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4" descr="Картинка 10 из 299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762120"/>
            <a:ext cx="380988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"/>
          <p:cNvPicPr/>
          <p:nvPr/>
        </p:nvPicPr>
        <p:blipFill>
          <a:blip r:embed="rId1"/>
          <a:srcRect l="732" t="703" r="1134" b="0"/>
          <a:stretch/>
        </p:blipFill>
        <p:spPr>
          <a:xfrm>
            <a:off x="1066680" y="304920"/>
            <a:ext cx="7086600" cy="6311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51920" y="457200"/>
            <a:ext cx="44960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В 1922—1924 годах Маяковский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совершил несколько поездок з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границу — Латвия, Франция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Германия; писал очерки и стихи о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европейских впечатлениях. В 1925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году состоялось самое длительное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его путешествие: поездка по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Америке. Маяковский посети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Гавану, Мехико и в течение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трёх месяцев выступал в различных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городах США с чтением стихов 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докладов. Позже были написан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стихи и очерк «Моё открыти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Америки». В 1925—1928 годах он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много ездил по Советскому Союзу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выступал в самых разных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аудиториях. В эти годы поэт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опубликовал такие произведения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как «По городам Союза» (1927)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«Рассказ литейщика Иван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Козырева…» (1928) и др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rcRect l="0" t="0" r="605" b="0"/>
          <a:stretch/>
        </p:blipFill>
        <p:spPr>
          <a:xfrm>
            <a:off x="4724280" y="369720"/>
            <a:ext cx="4035600" cy="5954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190760" y="345600"/>
            <a:ext cx="464796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В 1922—1926 годах активно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сотрудничал в «Известиях», в 1926—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1929 годах — в «Комсомольской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правде». Печатался в журналах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«Новый мир», «Молодая гвардия»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«Огонёк», «Крокодил»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«Красная нива» и др. Работа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в агитке и рекламе, за что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подвергался критике. В 1927 году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восстановил журнал ЛЕФ под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названием «Новый ЛЕФ»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Всего вышло 24 номера. Лето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1928 года Маяковский разочаровался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в ЛЕФе и ушёл из организации 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журнала. В этом же году он нача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писать свою личную биографию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«Я сам». С 8 октября по 8 декабря —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поездка за границу, по маршруту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Берлин — Париж. В 1929 году поэт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организовал группу «РЕФ», но уже в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феврале 1930 года ушёл из неё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вступив в РАПП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5" descr="2110186"/>
          <p:cNvPicPr/>
          <p:nvPr/>
        </p:nvPicPr>
        <p:blipFill>
          <a:blip r:embed="rId1"/>
          <a:srcRect l="12996" t="0" r="14620" b="0"/>
          <a:stretch/>
        </p:blipFill>
        <p:spPr>
          <a:xfrm>
            <a:off x="581040" y="304920"/>
            <a:ext cx="339732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088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В своих произведениях Маяковский был бескомпромис-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сен, поэтому и неудобен. В произведениях, написанных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им в конце 1920-х годов, стали возникать трагические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мотивы. Критики называли его лишь «попутчиком», а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не «пролетарским писателем», каким он себя хотел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видеть. В 1929 году он пытался провести выставку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посвящённую 20-летию творчества, но ему всяческ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мешали. Личная жизнь поэта тоже обострилась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rcRect l="1644" t="3120" r="569" b="2265"/>
          <a:stretch/>
        </p:blipFill>
        <p:spPr>
          <a:xfrm>
            <a:off x="2133720" y="152280"/>
            <a:ext cx="4647960" cy="3335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52280" y="228240"/>
            <a:ext cx="8839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Именно эти причины могли привести к тому, что 14 апреля 193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года в 10:15 утра Маяковский покончил с собой выстрелом в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сердце из револьвера. Это произошло в Москве, в доме № 3 п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Лубянскому проезду, кв. № 12. С 15 по 17 апреля через зал Клуб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исателей, где был выставлен гроб с телом поэта, прошло ст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ятьдесят тысяч человек. 17 апреля состоялся траурный митинг 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охорон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5" descr="Картинка 8 из 269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668680"/>
            <a:ext cx="5867640" cy="3732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09880" y="457200"/>
            <a:ext cx="50292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Владимир Маяковск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родился в селе Багдади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Грузии (Российская империя) 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семье </a:t>
            </a:r>
            <a:r>
              <a:rPr b="1" i="1" lang="ru-RU" sz="2400" spc="-1" strike="noStrike">
                <a:solidFill>
                  <a:srgbClr val="ff8119"/>
                </a:solidFill>
                <a:latin typeface="Arial"/>
              </a:rPr>
              <a:t>Владимира Константи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8119"/>
                </a:solidFill>
                <a:latin typeface="Arial"/>
              </a:rPr>
              <a:t>новича Маяковского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служившего лесничим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третьего разряда 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Эриванской губернии. Ма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поэта, </a:t>
            </a:r>
            <a:r>
              <a:rPr b="1" i="1" lang="ru-RU" sz="2400" spc="-1" strike="noStrike">
                <a:solidFill>
                  <a:srgbClr val="ff8119"/>
                </a:solidFill>
                <a:latin typeface="Arial"/>
              </a:rPr>
              <a:t>Александра Алексеевн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8119"/>
                </a:solidFill>
                <a:latin typeface="Arial"/>
              </a:rPr>
              <a:t>Павленко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, из рода кубанских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казаков, родилась на Кубан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Также у него было две  сестр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Людмила и Ольга и бра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Константин, который умер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трёхлетнем возрасте о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скарлати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5" descr="04_01_09"/>
          <p:cNvPicPr/>
          <p:nvPr/>
        </p:nvPicPr>
        <p:blipFill>
          <a:blip r:embed="rId1"/>
          <a:stretch/>
        </p:blipFill>
        <p:spPr>
          <a:xfrm>
            <a:off x="419040" y="304920"/>
            <a:ext cx="3162240" cy="54100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491760" y="5790240"/>
            <a:ext cx="309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b9e8"/>
                </a:solidFill>
                <a:latin typeface="Arial"/>
              </a:rPr>
              <a:t>Володя Маяковски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b9e8"/>
                </a:solidFill>
                <a:latin typeface="Arial"/>
              </a:rPr>
              <a:t>с сестрой Олей. 1896 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409720" y="685800"/>
            <a:ext cx="2971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8119"/>
                </a:solidFill>
                <a:latin typeface="Century Schoolbook"/>
              </a:rPr>
              <a:t>МОГИЛА МАЯКОВС-</a:t>
            </a:r>
            <a:br>
              <a:rPr sz="3000"/>
            </a:br>
            <a:r>
              <a:rPr b="0" lang="ru-RU" sz="3000" spc="-1" strike="noStrike">
                <a:solidFill>
                  <a:srgbClr val="ff8119"/>
                </a:solidFill>
                <a:latin typeface="Century Schoolbook"/>
              </a:rPr>
              <a:t>КОГО В МОСКВЕ НА НОВОДЕ-</a:t>
            </a:r>
            <a:br>
              <a:rPr sz="3000"/>
            </a:br>
            <a:r>
              <a:rPr b="0" lang="ru-RU" sz="3000" spc="-1" strike="noStrike">
                <a:solidFill>
                  <a:srgbClr val="ff8119"/>
                </a:solidFill>
                <a:latin typeface="Century Schoolbook"/>
              </a:rPr>
              <a:t>ВИЧЬЕМ КЛАДБИЩЕ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93" name="Picture 4" descr="39963_15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5" descr="Картинка 6 из 671"/>
          <p:cNvPicPr/>
          <p:nvPr/>
        </p:nvPicPr>
        <p:blipFill>
          <a:blip r:embed="rId1"/>
          <a:stretch/>
        </p:blipFill>
        <p:spPr>
          <a:xfrm>
            <a:off x="6477120" y="304920"/>
            <a:ext cx="2228760" cy="29718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Картинка 8 из 671"/>
          <p:cNvPicPr/>
          <p:nvPr/>
        </p:nvPicPr>
        <p:blipFill>
          <a:blip r:embed="rId2"/>
          <a:stretch/>
        </p:blipFill>
        <p:spPr>
          <a:xfrm>
            <a:off x="304920" y="3808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Картинка 29 из 29906"/>
          <p:cNvPicPr/>
          <p:nvPr/>
        </p:nvPicPr>
        <p:blipFill>
          <a:blip r:embed="rId3"/>
          <a:stretch/>
        </p:blipFill>
        <p:spPr>
          <a:xfrm>
            <a:off x="685800" y="25146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8119"/>
                </a:solidFill>
                <a:latin typeface="Century Schoolbook"/>
              </a:rPr>
              <a:t>ПАМЯТНИКИ МАЯКОВСКОМУ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98" name="Picture 12" descr="Картинка 10 из 671"/>
          <p:cNvPicPr/>
          <p:nvPr/>
        </p:nvPicPr>
        <p:blipFill>
          <a:blip r:embed="rId4"/>
          <a:stretch/>
        </p:blipFill>
        <p:spPr>
          <a:xfrm>
            <a:off x="3505320" y="609480"/>
            <a:ext cx="2995560" cy="20289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4" descr="Картинка 22 из 671"/>
          <p:cNvPicPr/>
          <p:nvPr/>
        </p:nvPicPr>
        <p:blipFill>
          <a:blip r:embed="rId5"/>
          <a:stretch/>
        </p:blipFill>
        <p:spPr>
          <a:xfrm>
            <a:off x="6153120" y="274320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5" descr="Картинка 147 из 26987"/>
          <p:cNvPicPr/>
          <p:nvPr/>
        </p:nvPicPr>
        <p:blipFill>
          <a:blip r:embed="rId6"/>
          <a:stretch/>
        </p:blipFill>
        <p:spPr>
          <a:xfrm>
            <a:off x="3048120" y="2754360"/>
            <a:ext cx="304776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4"/>
          <p:cNvSpPr/>
          <p:nvPr/>
        </p:nvSpPr>
        <p:spPr>
          <a:xfrm>
            <a:off x="5340960" y="2286360"/>
            <a:ext cx="332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119"/>
                </a:solidFill>
                <a:latin typeface="Arial"/>
              </a:rPr>
              <a:t>Доч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119"/>
                </a:solidFill>
                <a:latin typeface="Arial"/>
              </a:rPr>
              <a:t>Маяковского -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119"/>
                </a:solidFill>
                <a:latin typeface="Arial"/>
              </a:rPr>
              <a:t>Патрици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119"/>
                </a:solidFill>
                <a:latin typeface="Arial"/>
              </a:rPr>
              <a:t>Томпсон</a:t>
            </a:r>
            <a:r>
              <a:rPr b="0" i="1" lang="ru-RU" sz="1800" spc="-1" strike="noStrike">
                <a:solidFill>
                  <a:srgbClr val="ff811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Picture 8" descr="04_01_03"/>
          <p:cNvPicPr/>
          <p:nvPr/>
        </p:nvPicPr>
        <p:blipFill>
          <a:blip r:embed="rId1"/>
          <a:stretch/>
        </p:blipFill>
        <p:spPr>
          <a:xfrm>
            <a:off x="609480" y="685800"/>
            <a:ext cx="428472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95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8119"/>
                </a:solidFill>
                <a:latin typeface="Arial"/>
              </a:rPr>
              <a:t>МОНЕТА С ИЗОБРАЖЕНИЕМ В.В.МАЯКОВСКОГО</a:t>
            </a:r>
            <a:endParaRPr b="0" lang="en-US" sz="3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404" name="Picture 4" descr="Картинка 42 из 29906"/>
          <p:cNvPicPr/>
          <p:nvPr/>
        </p:nvPicPr>
        <p:blipFill>
          <a:blip r:embed="rId1"/>
          <a:stretch/>
        </p:blipFill>
        <p:spPr>
          <a:xfrm>
            <a:off x="914400" y="641520"/>
            <a:ext cx="7391520" cy="3854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WordArt 4"/>
          <p:cNvSpPr txBox="1"/>
          <p:nvPr/>
        </p:nvSpPr>
        <p:spPr>
          <a:xfrm>
            <a:off x="609480" y="1752480"/>
            <a:ext cx="723924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5" descr="photo-01bi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205240" y="914400"/>
            <a:ext cx="3100680" cy="4724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photo-25bi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888840" y="914400"/>
            <a:ext cx="3111840" cy="4724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8"/>
          <p:cNvSpPr/>
          <p:nvPr/>
        </p:nvSpPr>
        <p:spPr>
          <a:xfrm>
            <a:off x="246960" y="5713560"/>
            <a:ext cx="44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Владимир Константинович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Маяковски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4804920" y="5729400"/>
            <a:ext cx="39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Александра Алексее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Павленк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4b9e8"/>
                </a:solidFill>
                <a:latin typeface="Century Schoolbook"/>
              </a:rPr>
              <a:t>РОДИТЕЛИ МАЯКОВСКОГО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rcRect l="673" t="733" r="673" b="997"/>
          <a:stretch/>
        </p:blipFill>
        <p:spPr>
          <a:xfrm>
            <a:off x="762120" y="409680"/>
            <a:ext cx="7696080" cy="54576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62120" y="5958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119"/>
                </a:solidFill>
                <a:latin typeface="Arial"/>
              </a:rPr>
              <a:t>Село Багдади – родина В. В. Маяковско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"/>
          <p:cNvPicPr/>
          <p:nvPr/>
        </p:nvPicPr>
        <p:blipFill>
          <a:blip r:embed="rId1"/>
          <a:srcRect l="4391" t="736" r="1653" b="998"/>
          <a:stretch/>
        </p:blipFill>
        <p:spPr>
          <a:xfrm>
            <a:off x="914400" y="304920"/>
            <a:ext cx="7391520" cy="5597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5"/>
          <p:cNvSpPr/>
          <p:nvPr/>
        </p:nvSpPr>
        <p:spPr>
          <a:xfrm>
            <a:off x="1376280" y="5958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119"/>
                </a:solidFill>
                <a:latin typeface="Arial"/>
              </a:rPr>
              <a:t>Дом, где родился В. В. Маяковск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267080" y="762120"/>
            <a:ext cx="47246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В 1902 году Маяковск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поступил в гимназию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Кутаиси. В июле 1906 года о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заражения крови умер его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отец. После похорон отц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Маяковский вместе с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матерью и сёстра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переехал в Москву, гд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поступил в IV класс 5-о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классической гимнази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(ныне московская шко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№ 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91). В марте 1908 года бы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исключён из V  класса з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неуплату за обуч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6" descr="Картинка 43 из 299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33520"/>
            <a:ext cx="399096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51844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5"/>
          <p:cNvSpPr/>
          <p:nvPr/>
        </p:nvSpPr>
        <p:spPr>
          <a:xfrm>
            <a:off x="2182680" y="602136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119"/>
                </a:solidFill>
                <a:latin typeface="Arial"/>
              </a:rPr>
              <a:t>Кутаисская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8119"/>
                </a:solidFill>
                <a:latin typeface="Arial"/>
              </a:rPr>
              <a:t>гимназ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343400" y="38052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В Москве Маяковский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познакомился с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революционно настроенными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студентами, начал увлекаться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марксистской литературой, в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1908году вступил в РСДРП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Был пропагандистом в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торгово-промышленном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подрайоне, в 1908-9 годах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трижды арестовывался. В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тюрьме  Маяковский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«скандалил»,  поэтому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его часто переводили из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части в часть: Басманная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Мещанская, Мясницкая и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наконец, Бутырская тюрьма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где он  провёл 11 месяцев в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одиночной камере № 103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rcRect l="4318" t="2969" r="6303" b="2227"/>
          <a:stretch/>
        </p:blipFill>
        <p:spPr>
          <a:xfrm>
            <a:off x="352440" y="1447920"/>
            <a:ext cx="3838680" cy="3962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rcRect l="1120" t="1872" r="1333" b="2690"/>
          <a:stretch/>
        </p:blipFill>
        <p:spPr>
          <a:xfrm>
            <a:off x="1295280" y="228600"/>
            <a:ext cx="6400800" cy="37530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228600" y="4022640"/>
            <a:ext cx="876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Из тюрьмы после третьего ареста он был освобожден в январе 1910 года. Начал обучение в подготовительном классе Строгановского училища, в студиях художников С. Ю. Жуковского и П. И. Келина.В 1911 году поступил в </a:t>
            </a:r>
            <a:r>
              <a:rPr b="1" i="1" lang="ru-RU" sz="2000" spc="-1" strike="noStrike">
                <a:solidFill>
                  <a:srgbClr val="ff8119"/>
                </a:solidFill>
                <a:latin typeface="Arial"/>
              </a:rPr>
              <a:t>Московское училище живописи, ваяния и зодчества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 — единственное место, куда приняли без свидетельства о благонадёжности. Познакомившись с Давидом Бурлюком, основателем футуристической группы «Гилея», вошёл в поэтический кру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рпг</cp:lastModifiedBy>
  <dcterms:modified xsi:type="dcterms:W3CDTF">2017-08-22T22:18:05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