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424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ssandra"/>
                <a:ea typeface="Arial Unicode MS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assandra"/>
                <a:ea typeface="Arial Unicode MS"/>
              </a:rPr>
              <a:t>Выставка одного экспоната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68360" y="3392640"/>
            <a:ext cx="6645600" cy="12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боту выполнил: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еник 7 класса  Кулаков Аркадий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бранская Ольга Васильевна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395360" y="216000"/>
            <a:ext cx="56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ОУ «СОШ с.Сосно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сибирской области  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2960" y="296640"/>
            <a:ext cx="848376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ssandra"/>
              </a:rPr>
              <a:t>История происхождения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692280"/>
            <a:ext cx="8518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В Интернет источниках, энциклопедиях  о происхождении данного документа «Направление во всесоюзный ордена трудового красного знамени пионерский лагерь «Артек» имени В. И. Ленина»  очень скупо написано.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«Направление  в «Артек» являлась высшей наградой пионеру за его славные дела» — об этом в 60-80-е года знал каждый школьник.  Дети должны были доказать свое право на посещение «Артека» отличной успеваемостью, дисциплиной, спортивной и общественной активностью. В 60-е годы направления в «Артек» выдавались по решению Совета пионерской дружины школы. Одно из таких направлений является экспонатом  нашей школы. 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Направление выписано на имя пионера Анашкина Павла 15 августа 1962 года. Совет школьной дружины таким способом поощрил ученика 6 класса за хорошую учебу и активное участие в пионерской жизни. 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79280" y="981000"/>
            <a:ext cx="882180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Направление в «Артек» представляет собой маленькую книжку, размером 9 на 14см, изготовленную из плотной бумаги. На лицевой стороне    направления изображен склон  Аю-Дага, морская бухта, просторная артековская набережная, восходящее утреннее солнце и пионер-горнист в  белых шортах и панаме. В центре надпись «Направление во всесоюзный ордена трудового красного знамени пионерский лагерь «Артек» имени В. И. Ленина» и пионерский зна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На  обратной стороне  бланка направления указана гендерная принадлежность пионера («Для девочки»), но из истории лагеря известно, что  смешанные отряды в «Артеке» появились ещё в 1954 году. Лицевая сторона находится в удовлетворительном состоянии. По линии  сгиба наблюдается потёртость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Внутренняя часть разделена на две части. Левая сторона – бланк «Решение совета пионерской дружины школы». Бланк заполнен чернилами синего цвета, надписи легко читаются. В нижнем левом углу – печать школы, она выгорела.  Правая сторона   содержит обращение к юному пионеру. Оно сохранилось хорошо, можно про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258920" y="260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исание экспо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ssandra"/>
              </a:rPr>
              <a:t>Перспективы и область использования экспоната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20" y="1160640"/>
            <a:ext cx="879948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 этом году нашей области  исполняется 80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лет! Я очень рад тому,  что  этот экспонат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попал в наш музей. Я выступлю с этой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работой перед  ребятами начальной школы,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также перед одноклассниками, расскажу им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об «Артеке». Приму участие в школьной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квест - игре по Новосибирской области.  Я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ышел в третий тур в Областной интернет-викторине«НСО80.РФ», буду писать эссе по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теме «След, который я хочу оставить в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                                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истории после себя»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13" name="Рисунок 5" descr=""/>
          <p:cNvPicPr/>
          <p:nvPr/>
        </p:nvPicPr>
        <p:blipFill>
          <a:blip r:embed="rId1"/>
          <a:stretch/>
        </p:blipFill>
        <p:spPr>
          <a:xfrm>
            <a:off x="7020000" y="1400040"/>
            <a:ext cx="17906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Спасибо за внимание!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438280" y="1689120"/>
            <a:ext cx="49132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6920" y="3240"/>
            <a:ext cx="8605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ssandra"/>
              </a:rPr>
              <a:t>Введение</a:t>
            </a:r>
            <a:endParaRPr b="0" lang="en-US" sz="28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12840" y="703440"/>
            <a:ext cx="864216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аздел «История пионерской дружины имени Вали Котика» представлен тем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«Маленький герой большой войны» разработаны (факельное шествие к памятнику, экскурсия в муз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История совхоза «Пионер» разрабо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(устный журн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«История страны в истории дружи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выполнена 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«Первая пионервожатая»(переписк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Кокуровской 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«Наши достижения»(папка с грамот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Благодарностями с 1957г. по 2016г.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«Выставка Одного экспоната «Карточ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почтовая»(мини-  экскур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Документальный экспонат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«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«Артек»</a:t>
            </a: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 расположен  в теме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«Истор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истории  дружин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87280" y="120600"/>
            <a:ext cx="70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</a:rPr>
              <a:t>МЕТОДИЧЕСКАЯ РАЗРАБО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</a:rPr>
              <a:t>ВОСПИТАТЕЛЬНОГО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</a:rPr>
              <a:t>«МАЛЕНЬКИЙ ГЕРОЙ БОЛЬШОЙ ВОЙ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факельное ше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Users\User\Downloads\diplom_6.jpg"/>
          <p:cNvPicPr/>
          <p:nvPr/>
        </p:nvPicPr>
        <p:blipFill>
          <a:blip r:embed="rId1"/>
          <a:stretch/>
        </p:blipFill>
        <p:spPr>
          <a:xfrm>
            <a:off x="5111640" y="920880"/>
            <a:ext cx="3727440" cy="511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19280" y="2241720"/>
            <a:ext cx="38829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7280" y="324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ssandra"/>
              </a:rPr>
              <a:t>Маленький герой большой войны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24000" y="3716280"/>
            <a:ext cx="39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Arial"/>
              </a:rPr>
              <a:t>Среди соревнующихся дружин района наша дружина заняла 3-е место, ей было присвоено имя пионера-героя Вали Котика и выдана почётная грамота.(1959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03280" y="800280"/>
            <a:ext cx="64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Документы из архива школьного музея для экскур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703680" y="61466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Arial"/>
              </a:rPr>
              <a:t>Ребята связались с мамой Вали Котика и вели активную перепи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488880" y="1279440"/>
            <a:ext cx="3121200" cy="2416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535640" y="2744640"/>
            <a:ext cx="3916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ssandra"/>
              </a:rPr>
              <a:t>«Первая пионервожатая»(переписка с Кокуровской А.)</a:t>
            </a:r>
            <a:br>
              <a:rPr sz="3600"/>
            </a:b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719280" y="4869000"/>
            <a:ext cx="81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</a:rPr>
              <a:t>«…Пионерская организация в деревне Сосновка была организована в 1924 году. Пионерскими вожаками были комсомольцы Л.Маковская  и А.Кокуровская. Было нас может человек 10-20. 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156040" cy="288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400480" y="1492200"/>
            <a:ext cx="21715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ssandra"/>
              </a:rPr>
              <a:t>«История страны в истории дружины» </a:t>
            </a:r>
            <a:br>
              <a:rPr sz="3600"/>
            </a:b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" name="TextBox 2"/>
          <p:cNvSpPr/>
          <p:nvPr/>
        </p:nvSpPr>
        <p:spPr>
          <a:xfrm flipH="1">
            <a:off x="1191600" y="954000"/>
            <a:ext cx="64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окументальные экспонаты(удостоверения участников Слёта лучш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76360" y="49417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4a452a"/>
                </a:solidFill>
                <a:latin typeface="Arial"/>
              </a:rPr>
              <a:t>Эти удостоверения выполнил директор школы Трифонов А.И. с детьми на кружке «Юный фотогра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4525920" y="1878120"/>
            <a:ext cx="3516480" cy="26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340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9520" y="297000"/>
            <a:ext cx="85568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ssandra"/>
              </a:rPr>
              <a:t>Выставка одного экспоната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368360" y="1006560"/>
            <a:ext cx="68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Направление в «Арте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358920" y="2301840"/>
            <a:ext cx="4201920" cy="293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4896000" y="2276640"/>
            <a:ext cx="39621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115560"/>
            <a:ext cx="7920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ssandra"/>
              </a:rPr>
              <a:t>История поиска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560" y="583920"/>
            <a:ext cx="882180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Я увлекаюсь историей, с интересом посещаю краеведческий кружок, участвую в конкурсах, проводимых областным Домом Молодёжи. 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На одном из занятий  кружка я получил задание: разработать экскурсию для учащихся начальной школы  «Выставка одного экспоната»  с условием, чтобы предмет  отражал историю развития Новосибирской области.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Перебирая в школьном музее папки с документами, я наткнулся на маленькую книжечку «Направление  в «Артек».  Руководитель музея Ольга Васильевна предложила участвовать в районном конкурсе.  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Направление   выписано  на Анашкина Павла,  датировано 1962 годом.  За какие заслуги наградили ученика далёкой сельской школы такой  большой наградой? Как документ  связан с юбилеем области?!  Мне стало интересно ответить на эти вопросы.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В мае 2016 года в школьную ограду вошли женщина и мужчина. Они с интересом разглядывали школьный двор, фотографировались на фоне клумб, рассматривали памятник Вале Котику. Как выяснилось позже, это были бывшие ученики школы брат и сестра Анашкины. Руководитель музея Ольга Васильевна встретила гостей, провела в музей. Павел Ильич подарил музею маленькую книжечку. Это было направление в «Артек».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142920" y="404640"/>
            <a:ext cx="88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авел Ильич с огромным удовольствием рассказал школьникам о том, что  направление в «Артек» получил  один из Сосновской школы. Это была огромная радость для него, семьи и школы. Из области в этот год 5 учеников (вместе с ним) были направлены в лагерь. Павел  Ильич вспоминает: « В Новосибирске нас встретила молодая женщина, сопровождала до «Артека». Во время поездки она  очень много рассказывала об «Артеке», о Москве, о пионерах. Как выяснилось позже, она была корреспондентом газеты «Пионерская правда». В Москве  водила на экскурсию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авел  Ильич с теплотой и интересом вспомнил школьные годы. Рассказал,  как он и его товарищи принимали участие в работе совхоза «Пионер»(был организован на базе Сосновской школы), выращивали кроликов, дежурили в крольчатнике, разделывали целину(землю около школы), собирали макулатуру, металлолом, помогали птицефабр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Чтобы ответить на вопрос «Как этот экспонат связан с  юбилеем области?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мы  беседовали  с ветераном педагогического труда Трифоновой Н.П.  Она  ответила так: история  страны отражается в истории области, а история области- в делах нашей маленькой деревенской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авел  хорошо учился, участвовал в смотрах художественной самодеятельности, был общественником, тимуровцем, спортсменом. Своими достижениями прославлял школу. Получив путёвку в Артек, он прославил и нашу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7-08-23T16:16:00Z</dcterms:modified>
  <cp:revision>188</cp:revision>
  <dc:subject/>
  <dc:title>Слайд 1</dc:title>
</cp:coreProperties>
</file>