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3EF-5205-450E-BAAE-FAC8D69F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B88-1A53-4DE1-9BD7-177B6EE9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50F-A2D8-459F-B809-5B867225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808-FEC1-4F80-9C7C-9929EDB2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492-BABE-455A-AC97-2F97F76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762-A80F-433A-B367-8CE28C5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14C-4CAF-48E3-BA78-7D8F013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E20-0051-47FB-9719-8D6576B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4C2-FDFE-4FBC-A966-29A752BE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46D-562A-487E-8A9A-96BED14B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CBD-8C12-4236-B019-D79CC147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0FC-DDD4-40A3-AB36-2789832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752-5E91-4568-9F3A-ECF7B2AD2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olfoto.ru/volgograd/mamayev_kurgan/rodina_mat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476280" y="1249200"/>
            <a:ext cx="8132760" cy="19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851280" y="357336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: ученица 2 класса «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БОУ Школа № 384 имени Д.К. Корн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анская Ка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Кутенк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s://klim-school.ru/public/photos/school/georgevskaya_lenta.png"/>
          <p:cNvPicPr/>
          <p:nvPr/>
        </p:nvPicPr>
        <p:blipFill>
          <a:blip r:embed="rId2"/>
          <a:stretch/>
        </p:blipFill>
        <p:spPr>
          <a:xfrm>
            <a:off x="0" y="4724280"/>
            <a:ext cx="896472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cdn.iofferphoto.com/t/34TUgSXNhb81oRyITYVfSZpI1Fk=/adaptive-fit-in/232x232/filters:fill(transparent)/img/item/611/371/888/o_hero-of-soviet-union-gold-star-691d.jpg"/>
          <p:cNvPicPr/>
          <p:nvPr/>
        </p:nvPicPr>
        <p:blipFill>
          <a:blip r:embed="rId3"/>
          <a:stretch/>
        </p:blipFill>
        <p:spPr>
          <a:xfrm>
            <a:off x="6742080" y="182520"/>
            <a:ext cx="24084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692360" y="11700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ный огонь и Зал Воинской Сла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IMG_6004.JPG"/>
          <p:cNvPicPr/>
          <p:nvPr/>
        </p:nvPicPr>
        <p:blipFill>
          <a:blip r:embed="rId1"/>
          <a:stretch/>
        </p:blipFill>
        <p:spPr>
          <a:xfrm>
            <a:off x="1403280" y="620640"/>
            <a:ext cx="5940360" cy="39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5"/>
          <p:cNvSpPr/>
          <p:nvPr/>
        </p:nvSpPr>
        <p:spPr>
          <a:xfrm>
            <a:off x="468360" y="472428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л Воинской Славы (или, как его ещё называют, пантеон Славы, посвящен павшим защитникам Сталинграда) представляет собой здание цилиндрической формы диаметром 42 и высотой 13,5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932360" y="140004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 под потолком по всему периметру оставлено щелевидное сквозное отверст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перекрытия – круглый проем диаметром 11 мет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его видна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Родина-мать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IMG_6023.JPG"/>
          <p:cNvPicPr/>
          <p:nvPr/>
        </p:nvPicPr>
        <p:blipFill>
          <a:blip r:embed="rId2"/>
          <a:stretch/>
        </p:blipFill>
        <p:spPr>
          <a:xfrm>
            <a:off x="250920" y="115920"/>
            <a:ext cx="4465440" cy="674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39640" y="4096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тенах зала расположены 34 приспущенных траурных знамени, выполненных из красной смальты и окаймленных черными лентами. На них начертаны имена погибших в Сталинградской битве советских воинов – всего 7200 имё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08000" y="4941720"/>
            <a:ext cx="8928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 ними, вокруг всего зала в виде бордюра, завершающего стену, – оранжево-чёрная георгиевская лента, на которой белыми буквами выложены слова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, мы были простыми смертными, и мало кто уцелел из нас, но все мы выполнили свой патриотический долг перед священной матерью-Родиной!»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IMG_6019.JPG"/>
          <p:cNvPicPr/>
          <p:nvPr/>
        </p:nvPicPr>
        <p:blipFill>
          <a:blip r:embed="rId1"/>
          <a:stretch/>
        </p:blipFill>
        <p:spPr>
          <a:xfrm>
            <a:off x="395280" y="2060640"/>
            <a:ext cx="8209080" cy="252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6019.JPG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44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Rectangle 1"/>
          <p:cNvSpPr/>
          <p:nvPr/>
        </p:nvSpPr>
        <p:spPr>
          <a:xfrm>
            <a:off x="539640" y="48740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зала высится выполненная из белого мрамора, словно выросшая из земли, рука, сжимающая факел Вечного огня – символа жизни, который нам протянули те, кто шел на смерть и сложил жизнь в Великой би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age-0-02-05-288830698c488eb31a21eb88ddbcb22728bf251c12a389a81a848858b59c1992-V.jpg"/>
          <p:cNvPicPr/>
          <p:nvPr/>
        </p:nvPicPr>
        <p:blipFill>
          <a:blip r:embed="rId1"/>
          <a:stretch/>
        </p:blipFill>
        <p:spPr>
          <a:xfrm>
            <a:off x="108000" y="0"/>
            <a:ext cx="51847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2"/>
          <p:cNvSpPr/>
          <p:nvPr/>
        </p:nvSpPr>
        <p:spPr>
          <a:xfrm>
            <a:off x="5508720" y="126828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факеле начерт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лава, слава, слав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 факелом на срезе кругового проема в центре потолка – мозаичное изображение золотого венка, перевитого красно-зеленой лентой мед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 оборону Сталинграда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979640" y="4292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гоград – Сталин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и павших солдат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горят – просто некуда детьс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то нету на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на свете наград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остойнее памяти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594840" y="63817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. Д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68360" y="118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ещение памятника-ансамбля оставляет глубокое впечат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олго запоминающее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IMG_5981.JPG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343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826920" y="6308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animatika.narod.ru/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тихи о Великой Отечественной войны 1941-1945 г.г.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1994040" y="341280"/>
            <a:ext cx="4973400" cy="27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s://klim-school.ru/public/photos/school/georgevskaya_lenta.png"/>
          <p:cNvPicPr/>
          <p:nvPr/>
        </p:nvPicPr>
        <p:blipFill>
          <a:blip r:embed="rId2"/>
          <a:stretch/>
        </p:blipFill>
        <p:spPr>
          <a:xfrm>
            <a:off x="0" y="3213000"/>
            <a:ext cx="8928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39640" y="2905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2-м году мы посетили город-герой Волгоград, основанный в 1589 году и носивший название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арицын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с 1589—192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image-0-02-05-92a0f4b689cae7cb0735b2a1c655718ec94c3a84ef31ff5f43e9254187727ed6-V.jpg"/>
          <p:cNvPicPr/>
          <p:nvPr/>
        </p:nvPicPr>
        <p:blipFill>
          <a:blip r:embed="rId1"/>
          <a:stretch/>
        </p:blipFill>
        <p:spPr>
          <a:xfrm>
            <a:off x="2195640" y="1125360"/>
            <a:ext cx="6642000" cy="444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4"/>
          <p:cNvSpPr/>
          <p:nvPr/>
        </p:nvSpPr>
        <p:spPr>
          <a:xfrm>
            <a:off x="395280" y="5300640"/>
            <a:ext cx="85694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и неподалеку от первого в мире Тракторного завода, основанного в 1930 году, рабочие которого участвовали в отражении атак фашис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179280" y="1197000"/>
            <a:ext cx="19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ее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алин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 1925—196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лго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 1961 и по сей д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image-0-02-05-3f8754c83c296eba1f443e8792bca2d566ef622562e80e637df489eae02160f6-V.jpg"/>
          <p:cNvPicPr/>
          <p:nvPr/>
        </p:nvPicPr>
        <p:blipFill>
          <a:blip r:embed="rId1"/>
          <a:stretch/>
        </p:blipFill>
        <p:spPr>
          <a:xfrm>
            <a:off x="1619280" y="260280"/>
            <a:ext cx="6553080" cy="46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Прямоугольник 2"/>
          <p:cNvSpPr/>
          <p:nvPr/>
        </p:nvSpPr>
        <p:spPr>
          <a:xfrm>
            <a:off x="539640" y="5157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Волгоград является городом-героем, где проходила Сталинградская битва (с 17 июля 1942 по 2 февраля 194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одина мать.JPG"/>
          <p:cNvPicPr/>
          <p:nvPr/>
        </p:nvPicPr>
        <p:blipFill>
          <a:blip r:embed="rId1"/>
          <a:stretch/>
        </p:blipFill>
        <p:spPr>
          <a:xfrm>
            <a:off x="755640" y="404640"/>
            <a:ext cx="3965760" cy="594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Rectangle 1"/>
          <p:cNvSpPr/>
          <p:nvPr/>
        </p:nvSpPr>
        <p:spPr>
          <a:xfrm>
            <a:off x="4932360" y="48960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ю посещения города был Мамаев Кур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с сентября 1942 по февраль 194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ремя Сталинградской битвы шли ожесточенные б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одина мать1.JPG"/>
          <p:cNvPicPr/>
          <p:nvPr/>
        </p:nvPicPr>
        <p:blipFill>
          <a:blip r:embed="rId1"/>
          <a:stretch/>
        </p:blipFill>
        <p:spPr>
          <a:xfrm>
            <a:off x="179280" y="115920"/>
            <a:ext cx="4338720" cy="641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Rectangle 1"/>
          <p:cNvSpPr/>
          <p:nvPr/>
        </p:nvSpPr>
        <p:spPr>
          <a:xfrm>
            <a:off x="5003640" y="1783080"/>
            <a:ext cx="37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умент «Родина мать» один из самых высоких памятников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та без меча 52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тоять насмерть.JPG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Rectangle 1"/>
          <p:cNvSpPr/>
          <p:nvPr/>
        </p:nvSpPr>
        <p:spPr>
          <a:xfrm>
            <a:off x="2340000" y="3031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кульптура      «Стоять насмер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716360" y="1051200"/>
            <a:ext cx="41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отражает самый трудный период Сталинградской битвы, когда из самой великой русской реки Волги подним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ин-богатырь и становится на защиту род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G_5977.JPG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Rectangle 1"/>
          <p:cNvSpPr/>
          <p:nvPr/>
        </p:nvSpPr>
        <p:spPr>
          <a:xfrm>
            <a:off x="826920" y="5662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 разрушенного, но не покоренного Стал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995560" y="33336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-ру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5986.JPG"/>
          <p:cNvPicPr/>
          <p:nvPr/>
        </p:nvPicPr>
        <p:blipFill>
          <a:blip r:embed="rId1"/>
          <a:stretch/>
        </p:blipFill>
        <p:spPr>
          <a:xfrm>
            <a:off x="179280" y="0"/>
            <a:ext cx="5940360" cy="39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Рисунок 2" descr="IMG_5990.JPG"/>
          <p:cNvPicPr/>
          <p:nvPr/>
        </p:nvPicPr>
        <p:blipFill>
          <a:blip r:embed="rId2"/>
          <a:stretch/>
        </p:blipFill>
        <p:spPr>
          <a:xfrm>
            <a:off x="3419640" y="2852640"/>
            <a:ext cx="5580000" cy="386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_5989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3" descr="IMG_5995.JPG"/>
          <p:cNvPicPr/>
          <p:nvPr/>
        </p:nvPicPr>
        <p:blipFill>
          <a:blip r:embed="rId2"/>
          <a:stretch/>
        </p:blipFill>
        <p:spPr>
          <a:xfrm>
            <a:off x="4640400" y="0"/>
            <a:ext cx="45036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4T10:41:24Z</dcterms:created>
  <dc:creator>Кутенков</dc:creator>
  <dc:description/>
  <dc:language>en-US</dc:language>
  <cp:lastModifiedBy>Кутенков</cp:lastModifiedBy>
  <dcterms:modified xsi:type="dcterms:W3CDTF">2017-08-23T05:16:44Z</dcterms:modified>
  <cp:revision>24</cp:revision>
  <dc:subject/>
  <dc:title>Слайд 1</dc:title>
</cp:coreProperties>
</file>