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28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media/image58.jpeg" ContentType="image/jpeg"/>
  <Override PartName="/ppt/media/image59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5.png" ContentType="image/png"/>
  <Override PartName="/ppt/media/image43.jpeg" ContentType="image/jpeg"/>
  <Override PartName="/ppt/media/image29.jpeg" ContentType="image/jpeg"/>
  <Override PartName="/ppt/media/image52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3BDB-BF1B-4835-A431-4297474FA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C80E-1377-498A-93F9-A1C87090A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DCF2-C06D-41DC-8431-B0E11BDBC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7522-8179-4D1D-8119-08E043F17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277C5-497C-404A-A68F-7790EFA15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FDDEE-631F-41E0-878F-4266BA4E5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3CBD2-9CE5-4868-96C8-C2F7EF0A2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08040-4F54-4AD1-8A43-AB2526C82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302F1-59F8-4A1A-AFDC-AC900BACA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3C93C-AED4-4413-9FFB-3A30F8754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37F0F-D5F2-41F8-B25E-55AABE7C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D0B7-1D10-4595-ABFB-C2DA4E69B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9AEAF-0688-42F5-851A-C7D76C85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2E984-AF9F-4CA0-9653-567ABD59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99661-4251-4318-B09D-1226DA9BE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744C9-125F-42FF-8DC3-653B41BB4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33D2D-7F07-4A95-B9E5-56AAF3E37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CAB4-F26D-489D-9F32-31D9CF768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2BD8-425A-405F-B20A-D90F1BFE4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FC2C-A5B0-4C9E-98B5-854D4BF84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FC3B-EEBF-48C4-B6A5-047694042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E817-71BF-467D-ADC0-7F57BCE6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CE10-1096-4519-A7AE-11A5C8D9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8FBC-6FED-423F-AE36-E6791DC4C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19622-0B30-4E7A-8C52-FC5FC834C935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1CCBC-1846-4DAC-8FBD-1C4B656D1E66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slideLayout" Target="../slideLayouts/slideLayout1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822636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66"/>
                </a:solidFill>
                <a:latin typeface="Georgia"/>
              </a:rPr>
              <a:t>Золотое</a:t>
            </a:r>
            <a:br>
              <a:rPr sz="6000"/>
            </a:br>
            <a:r>
              <a:rPr b="1" i="1" lang="en-US" sz="6000" spc="-1" strike="noStrike">
                <a:solidFill>
                  <a:srgbClr val="000066"/>
                </a:solidFill>
                <a:latin typeface="Georgia"/>
              </a:rPr>
              <a:t>кольцо  </a:t>
            </a:r>
            <a:br>
              <a:rPr sz="6000"/>
            </a:br>
            <a:r>
              <a:rPr b="1" i="1" lang="en-US" sz="6000" spc="-1" strike="noStrike">
                <a:solidFill>
                  <a:srgbClr val="000066"/>
                </a:solidFill>
                <a:latin typeface="Georgia"/>
              </a:rPr>
              <a:t>России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Georgia"/>
              </a:rPr>
              <a:t>Никольский  монастырь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3672000" cy="4032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435640" y="2708280"/>
            <a:ext cx="31924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Georgia"/>
              </a:rPr>
              <a:t>Женский  монастырь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424836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Georgia"/>
              </a:rPr>
              <a:t>Музей  паровозов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3672000" cy="16718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435640" y="1628640"/>
            <a:ext cx="3240000" cy="16718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539640" y="4005360"/>
            <a:ext cx="3600720" cy="2448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5435640" y="4005360"/>
            <a:ext cx="3240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3743280" cy="41767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932360" y="2276640"/>
            <a:ext cx="3816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Georgia"/>
              </a:rPr>
              <a:t>Ростов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Georgia"/>
              </a:rPr>
              <a:t>             </a:t>
            </a:r>
            <a:r>
              <a:rPr b="0" lang="en-US" sz="2800" spc="-1" strike="noStrike">
                <a:solidFill>
                  <a:srgbClr val="eaeaea"/>
                </a:solidFill>
                <a:latin typeface="Georgia"/>
              </a:rPr>
              <a:t>Ростовский           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Georgia"/>
              </a:rPr>
              <a:t>             </a:t>
            </a:r>
            <a:r>
              <a:rPr b="0" lang="en-US" sz="2800" spc="-1" strike="noStrike">
                <a:solidFill>
                  <a:srgbClr val="eaeaea"/>
                </a:solidFill>
                <a:latin typeface="Georgia"/>
              </a:rPr>
              <a:t>Кремль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48243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Georgia"/>
              </a:rPr>
              <a:t>Финифть –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Georgia"/>
              </a:rPr>
              <a:t>художественная  эмаль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71680" y="196056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219640" y="1989000"/>
            <a:ext cx="3384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3024360" cy="33800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651640" y="1700280"/>
            <a:ext cx="29527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Georgia"/>
              </a:rPr>
              <a:t>Углич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64818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     </a:t>
            </a:r>
            <a:r>
              <a:rPr b="0" lang="en-US" sz="2800" spc="-1" strike="noStrike">
                <a:solidFill>
                  <a:srgbClr val="eaeaea"/>
                </a:solidFill>
                <a:latin typeface="Georgia"/>
              </a:rPr>
              <a:t>Церковь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431964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Georgia"/>
              </a:rPr>
              <a:t>Угличская  гидроэлектростанция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2803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Georgia"/>
              </a:rPr>
              <a:t>г. Сергиев  Посад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Georgia"/>
              </a:rPr>
              <a:t>Ярославль </a:t>
            </a:r>
            <a:br>
              <a:rPr sz="4000"/>
            </a:br>
            <a:r>
              <a:rPr b="1" lang="en-US" sz="2800" spc="-1" strike="noStrike">
                <a:solidFill>
                  <a:srgbClr val="ffffcc"/>
                </a:solidFill>
                <a:latin typeface="Georgia"/>
              </a:rPr>
              <a:t>(</a:t>
            </a:r>
            <a:r>
              <a:rPr b="1" lang="en-US" sz="4000" spc="-1" strike="noStrike">
                <a:solidFill>
                  <a:srgbClr val="ffffcc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Georgia"/>
              </a:rPr>
              <a:t>родина  русского  театра 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446400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Georgia"/>
              </a:rPr>
              <a:t>Ярослав  Мудрый</a:t>
            </a:r>
            <a:br>
              <a:rPr sz="4000"/>
            </a:br>
            <a:r>
              <a:rPr b="1" lang="en-US" sz="3200" spc="-1" strike="noStrike">
                <a:solidFill>
                  <a:srgbClr val="ffffcc"/>
                </a:solidFill>
                <a:latin typeface="Georgia"/>
              </a:rPr>
              <a:t>(978-1054гг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Georgia"/>
              </a:rPr>
              <a:t>     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Georgia"/>
              </a:rPr>
              <a:t>       </a:t>
            </a:r>
            <a:r>
              <a:rPr b="0" lang="en-US" sz="2800" spc="-1" strike="noStrike">
                <a:solidFill>
                  <a:srgbClr val="eaeaea"/>
                </a:solidFill>
                <a:latin typeface="Georgia"/>
              </a:rPr>
              <a:t>Великий  князь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Georgia"/>
              </a:rPr>
              <a:t>       </a:t>
            </a:r>
            <a:r>
              <a:rPr b="0" lang="en-US" sz="2800" spc="-1" strike="noStrike">
                <a:solidFill>
                  <a:srgbClr val="eaeaea"/>
                </a:solidFill>
                <a:latin typeface="Georgia"/>
              </a:rPr>
              <a:t>киевский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403236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Georgia"/>
              </a:rPr>
              <a:t>Ярославльский  Кремль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3743280" cy="36007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5076720" y="2708280"/>
            <a:ext cx="355140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Georgia"/>
              </a:rPr>
              <a:t>Костром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Georgia"/>
              </a:rPr>
              <a:t>     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eaeaea"/>
                </a:solidFill>
                <a:latin typeface="Georgia"/>
              </a:rPr>
              <a:t>Ипатьевский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eaeaea"/>
                </a:solidFill>
                <a:latin typeface="Georgia"/>
              </a:rPr>
              <a:t>монастырь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403236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Торговый  ряд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417492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468360" y="260280"/>
            <a:ext cx="3959280" cy="30481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4788000" y="260280"/>
            <a:ext cx="3919320" cy="30481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5"/>
          <a:stretch/>
        </p:blipFill>
        <p:spPr>
          <a:xfrm>
            <a:off x="468360" y="3573360"/>
            <a:ext cx="3959280" cy="29512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6"/>
          <a:stretch/>
        </p:blipFill>
        <p:spPr>
          <a:xfrm>
            <a:off x="4788000" y="3573360"/>
            <a:ext cx="388764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Georgia"/>
              </a:rPr>
              <a:t>Плёс – город художников</a:t>
            </a:r>
            <a:br>
              <a:rPr sz="4000"/>
            </a:br>
            <a:r>
              <a:rPr b="1" lang="en-US" sz="2800" spc="-1" strike="noStrike">
                <a:solidFill>
                  <a:srgbClr val="ffffcc"/>
                </a:solidFill>
                <a:latin typeface="Georgia"/>
              </a:rPr>
              <a:t>(дом постройки 1852г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70436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Georgia"/>
              </a:rPr>
              <a:t>Исаак Ильич Левитан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340000" y="1413000"/>
            <a:ext cx="410364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Georgia"/>
              </a:rPr>
              <a:t>Дом-музей  И.И Левитан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Georgia"/>
              </a:rPr>
              <a:t>Берег  моря. Крым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68360" y="1623960"/>
            <a:ext cx="8207280" cy="47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Georgia"/>
              </a:rPr>
              <a:t>Сергий Радонежский</a:t>
            </a:r>
            <a:br>
              <a:rPr sz="4000"/>
            </a:br>
            <a:r>
              <a:rPr b="1" lang="en-US" sz="2800" spc="-1" strike="noStrike">
                <a:solidFill>
                  <a:srgbClr val="ffffcc"/>
                </a:solidFill>
                <a:latin typeface="Georgia"/>
              </a:rPr>
              <a:t>(1314-1392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монах  Русской  церкви, основатель  Троицкого  монастыря (Троице-Сергиева  лавра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40323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Georgia"/>
              </a:rPr>
              <a:t>Дуб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56880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Georgia"/>
              </a:rPr>
              <a:t>Осень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57150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Georgia"/>
              </a:rPr>
              <a:t>Золотая  осень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000080" y="1628640"/>
            <a:ext cx="71438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eorgia"/>
              </a:rPr>
              <a:t>Панорама  Плёса  с  горы  </a:t>
            </a:r>
            <a:br>
              <a:rPr sz="3600"/>
            </a:br>
            <a:r>
              <a:rPr b="1" lang="en-US" sz="3600" spc="-1" strike="noStrike">
                <a:solidFill>
                  <a:srgbClr val="ffffcc"/>
                </a:solidFill>
                <a:latin typeface="Georgia"/>
              </a:rPr>
              <a:t>И.И. Левитана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4901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21891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5157360"/>
            <a:ext cx="82296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Georgia"/>
              </a:rPr>
              <a:t>Троицкая  церковь                Успенская  церковь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468360" y="260280"/>
            <a:ext cx="4057560" cy="496908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4716360" y="260280"/>
            <a:ext cx="40579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Georgia"/>
              </a:rPr>
              <a:t>Суздаль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4064040" cy="41767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4788000" y="1628640"/>
            <a:ext cx="3960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Georgia"/>
              </a:rPr>
              <a:t>Часовня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3382920" cy="25210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5508720" y="3789360"/>
            <a:ext cx="3124080" cy="23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eorgia"/>
              </a:rPr>
              <a:t>Музей  деревянного  зодчества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3456000" cy="216072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5148360" y="1628640"/>
            <a:ext cx="3527280" cy="2087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468360" y="4005360"/>
            <a:ext cx="3456000" cy="23032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5"/>
          <a:stretch/>
        </p:blipFill>
        <p:spPr>
          <a:xfrm>
            <a:off x="5148360" y="4076640"/>
            <a:ext cx="35272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3598920" cy="45370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5219640" y="1628640"/>
            <a:ext cx="34560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Georgia"/>
              </a:rPr>
              <a:t>г. Владимир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Georgia"/>
              </a:rPr>
              <a:t>Владимир  Мономах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539640" y="1746360"/>
            <a:ext cx="347040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Georgia"/>
              </a:rPr>
              <a:t>Монастырь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Georgia"/>
              </a:rPr>
              <a:t>Троице-Сергиева  лавр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     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«</a:t>
            </a:r>
            <a:r>
              <a:rPr b="1" lang="en-US" sz="2800" spc="-1" strike="noStrike">
                <a:solidFill>
                  <a:srgbClr val="ffffcc"/>
                </a:solidFill>
                <a:latin typeface="Georgia"/>
              </a:rPr>
              <a:t>Лавра»</a:t>
            </a:r>
            <a:r>
              <a:rPr b="0" lang="en-US" sz="2800" spc="-1" strike="noStrike">
                <a:solidFill>
                  <a:srgbClr val="ffffcc"/>
                </a:solidFill>
                <a:latin typeface="Georgia"/>
              </a:rPr>
              <a:t> -    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Georgia"/>
              </a:rPr>
              <a:t>           </a:t>
            </a:r>
            <a:r>
              <a:rPr b="0" lang="en-US" sz="2800" spc="-1" strike="noStrike">
                <a:solidFill>
                  <a:srgbClr val="ffffcc"/>
                </a:solidFill>
                <a:latin typeface="Georgia"/>
              </a:rPr>
              <a:t>главный,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Georgia"/>
              </a:rPr>
              <a:t>           </a:t>
            </a:r>
            <a:r>
              <a:rPr b="0" lang="en-US" sz="2800" spc="-1" strike="noStrike">
                <a:solidFill>
                  <a:srgbClr val="ffffcc"/>
                </a:solidFill>
                <a:latin typeface="Georgia"/>
              </a:rPr>
              <a:t>самый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Georgia"/>
              </a:rPr>
              <a:t>           </a:t>
            </a:r>
            <a:r>
              <a:rPr b="0" lang="en-US" sz="2800" spc="-1" strike="noStrike">
                <a:solidFill>
                  <a:srgbClr val="ffffcc"/>
                </a:solidFill>
                <a:latin typeface="Georgia"/>
              </a:rPr>
              <a:t>важный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Georgia"/>
              </a:rPr>
              <a:t>           </a:t>
            </a:r>
            <a:r>
              <a:rPr b="0" lang="en-US" sz="2800" spc="-1" strike="noStrike">
                <a:solidFill>
                  <a:srgbClr val="ffffcc"/>
                </a:solidFill>
                <a:latin typeface="Georgia"/>
              </a:rPr>
              <a:t>монастырь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453528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Georgia"/>
              </a:rPr>
              <a:t>Золотые  ворот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762120" y="1557360"/>
            <a:ext cx="7619760" cy="47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218916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494136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Georgia"/>
              </a:rPr>
              <a:t>Дмитриевский  собор                          Успенский  собор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3311640" cy="43927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5292720" y="260280"/>
            <a:ext cx="338292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692360" y="907920"/>
            <a:ext cx="5688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Georgia"/>
              </a:rPr>
              <a:t>г. Переславль-Залесский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04720" y="1628640"/>
            <a:ext cx="81345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Georgia"/>
              </a:rPr>
              <a:t>Монастырь  Горицкий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1042920" y="1484280"/>
            <a:ext cx="6769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66261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042920" y="907920"/>
            <a:ext cx="712944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4T13:27:37Z</dcterms:created>
  <dc:creator>No Name</dc:creator>
  <dc:description/>
  <dc:language>en-US</dc:language>
  <cp:lastModifiedBy>Пользователь</cp:lastModifiedBy>
  <dcterms:modified xsi:type="dcterms:W3CDTF">2011-09-15T13:39:13Z</dcterms:modified>
  <cp:revision>6</cp:revision>
  <dc:subject/>
  <dc:title>Золотое кольцо   России</dc:title>
</cp:coreProperties>
</file>