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02C-D24B-4685-9022-82816505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DDB-667E-4A2C-926C-816D1D6A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9D8-A049-4C6C-BA60-94352043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DC8-D177-4CEB-96DA-BDDED639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D6116-8B5F-4636-B607-FA9F2575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41A4C-A380-40A9-8A91-A372AF74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B558A-327A-4A73-9F73-918A6DA2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ADE04-2053-4AD8-B49B-934DD55F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534F8-FDB4-4915-95E3-B0FB10C9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5DA9A-5EA5-4586-876A-9BA7390A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EA524-996B-4E69-A59D-EACC7537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BA2-4876-43AB-BB29-E3FB37D4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AD209-56F1-4F53-BC52-38CE9272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03C28-217A-45F5-8B36-AACFEAA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9D46A-2305-4AA7-B9B5-8A8077F0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8B2BF-EB72-44B8-A4F5-0B7A2D96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AB766-B4FD-480F-9AF4-194310FF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05F-E053-44CE-BA7F-15EF883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EF0-F764-4354-B32C-C295EE15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370-7CAF-4911-8C48-EB4F046B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82F-0591-4361-A82C-866F3F4F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329-4496-4BE6-8D96-BD16A25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4E4-EA85-43BB-9B0C-A29B6423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A3D-099A-4C73-A8B7-D59F333E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B137-51C7-47D4-9F12-A039E5D22E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A464-3EED-4E33-AC0D-A4CAEE8CEB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608360" cy="4321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19640" y="2852640"/>
            <a:ext cx="3672000" cy="360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600360" cy="4475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4679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672000" cy="262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465440" cy="36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32360" y="189000"/>
            <a:ext cx="3887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39236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003640" y="333360"/>
            <a:ext cx="388944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48360" y="3500280"/>
            <a:ext cx="36716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3600360" cy="280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600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46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553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66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816360" cy="453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932360" y="2276640"/>
            <a:ext cx="388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4535280" cy="4176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292720" y="260280"/>
            <a:ext cx="36050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3456000" cy="403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432576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803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95640" cy="3816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2952720" cy="352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51280" y="3933720"/>
            <a:ext cx="2521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535640" cy="3319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4470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351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92360" cy="309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211640" y="3429000"/>
            <a:ext cx="46861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664000" cy="309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580000" y="404640"/>
            <a:ext cx="2808360" cy="295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635280" y="3645000"/>
            <a:ext cx="22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98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537080" cy="432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64000" y="189000"/>
            <a:ext cx="360072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360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65440" cy="33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003640" y="404640"/>
            <a:ext cx="3961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3551400" cy="410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4753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960720" cy="42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41054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076640" cy="52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4043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4:56:57Z</dcterms:created>
  <dc:creator>KLPC</dc:creator>
  <dc:description/>
  <dc:language>en-US</dc:language>
  <cp:lastModifiedBy>KLPC</cp:lastModifiedBy>
  <dcterms:modified xsi:type="dcterms:W3CDTF">2007-10-19T14:12:16Z</dcterms:modified>
  <cp:revision>4</cp:revision>
  <dc:subject/>
  <dc:title>Слайд 1</dc:title>
</cp:coreProperties>
</file>