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EB7-5B23-49BE-9501-AD59F6B5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83F-5B8C-4DF6-962E-6959252B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861-4F49-410C-AE04-7DFC58CF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401-4D65-4A46-B4C8-256ACCB9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12A48-FC3D-4FB8-B081-E0834B90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F8C3E-B8DC-4182-A878-EC35C903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7F2B9-87DD-4573-8D00-9EBC58FC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5FF4B-E66F-4370-A483-6A4355A8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6AD24-123F-4F69-B18E-12606727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E4733-7C8F-4376-AC02-D02E1D26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7256D-139B-45DD-B55E-6B770ADC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6CF-63E3-4D47-95D2-C1217F4B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FEB98-BE02-4228-B4B6-1005B738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0CF57-40AB-4B58-9BF1-F41BB144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66322-5F1F-4D18-B2CF-BF6B0C11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AF846-BF2A-42A4-88E5-1FC69B28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B415A-373E-4D5C-8722-C64038CD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4A22-B3A3-4DB5-9836-FA171058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190-9692-47E7-A534-73AF198F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42D-D77C-4644-BADB-8735F71E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F54-615F-412F-A7BF-7E8FCC57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E6C-6058-4FF5-9E72-3E6D5373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289-EFDD-46F7-BD57-84A7A648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466-0252-4982-B9FB-2526A45A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6218-CA0C-4045-96A3-76C6E23F99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9738-50FA-474B-AA11-4388AF687E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4608360" cy="4321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219640" y="2852640"/>
            <a:ext cx="3672000" cy="360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600360" cy="4475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4679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672000" cy="2629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4465440" cy="36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932360" y="189000"/>
            <a:ext cx="38876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4392360" cy="4176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003640" y="333360"/>
            <a:ext cx="3889440" cy="273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148360" y="3500280"/>
            <a:ext cx="36716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219640" y="260280"/>
            <a:ext cx="3600360" cy="2808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292720" y="3429000"/>
            <a:ext cx="360036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50920" y="1484280"/>
            <a:ext cx="4465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553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66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816360" cy="4537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932360" y="2276640"/>
            <a:ext cx="3887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4535280" cy="4176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292720" y="260280"/>
            <a:ext cx="36050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3456000" cy="403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432576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803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95640" cy="3816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580000" y="333360"/>
            <a:ext cx="2952720" cy="3527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51280" y="3933720"/>
            <a:ext cx="2521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06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80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535640" cy="3319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27640" y="3573360"/>
            <a:ext cx="44701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351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392360" cy="3097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211640" y="3429000"/>
            <a:ext cx="46861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0647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664000" cy="309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580000" y="404640"/>
            <a:ext cx="2808360" cy="2953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635280" y="3645000"/>
            <a:ext cx="2233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6985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537080" cy="4321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64000" y="189000"/>
            <a:ext cx="3600720" cy="338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364000" y="3789360"/>
            <a:ext cx="3600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4319640" cy="2879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465440" cy="33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003640" y="404640"/>
            <a:ext cx="39610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19640" y="2205000"/>
            <a:ext cx="3551400" cy="410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692280"/>
            <a:ext cx="4753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960720" cy="424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410544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076640" cy="52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4043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4:56:57Z</dcterms:created>
  <dc:creator>KLPC</dc:creator>
  <dc:description/>
  <dc:language>en-US</dc:language>
  <cp:lastModifiedBy>KLPC</cp:lastModifiedBy>
  <dcterms:modified xsi:type="dcterms:W3CDTF">2007-10-19T14:12:16Z</dcterms:modified>
  <cp:revision>4</cp:revision>
  <dc:subject/>
  <dc:title>Слайд 1</dc:title>
</cp:coreProperties>
</file>