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69F-40DF-4F02-B5D0-FBF92968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0CE-8B04-466B-8399-F604B10B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FCE-42DE-4AFE-86DD-69CD9C55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ED6-5DA0-47C9-A9D1-B1B39892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B2F-11A4-4094-8543-E08D8094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85F-E5ED-46D9-BD8A-BC4C222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FBD-F4F8-4F06-8883-67674BD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54E-616F-4E56-BF48-F6C635E9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228-E431-454B-A668-8BD09A84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FE2-FFEA-4A2B-88F7-DFDC16C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AEF-7752-47C5-B4AA-47C0479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A79-90B8-4936-9D6D-BE762EA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3F3-7B63-4579-8B3D-6CE1F4E7CA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slide" Target="slide30.xml"/><Relationship Id="rId13" Type="http://schemas.openxmlformats.org/officeDocument/2006/relationships/slide" Target="slide31.xml"/><Relationship Id="rId14" Type="http://schemas.openxmlformats.org/officeDocument/2006/relationships/slide" Target="slide32.xml"/><Relationship Id="rId15" Type="http://schemas.openxmlformats.org/officeDocument/2006/relationships/slide" Target="slide33.xml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944800" y="1322280"/>
            <a:ext cx="6059520" cy="3292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716360" y="5013360"/>
            <a:ext cx="30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 ученик 10 класса МБОУ-СОШ №2 города Аркадака Саратов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инов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: Дмитриева Е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3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Сколько цифр в десятичной системе счисления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4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В какой системе счисления 1 + 1 = 10 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5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ак называется позиция цифры в числе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batDi"/>
              </a:rPr>
              <a:t>Устройство компью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Что изобрел Блез Паскаль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Устройство компью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2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ак называется устройство, выполняющее обработку информации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Устройство компью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3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основное устройство манипуляторного типа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Устройство компью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4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акое устройство предназначено для обработки изображений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Устройство компью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5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С помощью чего осуществляется связь между устройствами компьютера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397160"/>
          <a:ext cx="8569440" cy="4192560"/>
        </p:xfrm>
        <a:graphic>
          <a:graphicData uri="http://schemas.openxmlformats.org/drawingml/2006/table">
            <a:tbl>
              <a:tblPr/>
              <a:tblGrid>
                <a:gridCol w="3737160"/>
                <a:gridCol w="901800"/>
                <a:gridCol w="1031760"/>
                <a:gridCol w="1095480"/>
                <a:gridCol w="901440"/>
                <a:gridCol w="901800"/>
              </a:tblGrid>
              <a:tr h="98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виш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8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ир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8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ирование информ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лави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клавишу, с помощью которой можно печатать заглавные буквы или верхние символ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Таблица 5" descr=""/>
          <p:cNvPicPr/>
          <p:nvPr/>
        </p:nvPicPr>
        <p:blipFill>
          <a:blip r:embed="rId1"/>
          <a:stretch/>
        </p:blipFill>
        <p:spPr>
          <a:xfrm>
            <a:off x="585720" y="974880"/>
            <a:ext cx="8309160" cy="4273560"/>
          </a:xfrm>
          <a:prstGeom prst="rect">
            <a:avLst/>
          </a:prstGeom>
          <a:ln w="0">
            <a:noFill/>
          </a:ln>
        </p:spPr>
      </p:pic>
      <p:sp>
        <p:nvSpPr>
          <p:cNvPr id="44" name="Управляющая кнопка: в конец 2">
            <a:hlinkClick r:id="rId2" action="ppaction://hlinksldjump"/>
          </p:cNvPr>
          <p:cNvSpPr/>
          <p:nvPr/>
        </p:nvSpPr>
        <p:spPr>
          <a:xfrm>
            <a:off x="8215200" y="60008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лави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2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клавишу, предназначенную для ввода команды или перехода на следующий абза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лави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3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клавишу, стирающую символы справа от  позиции курсора</a:t>
            </a: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лави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4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клавишу, стирающую символы слева от курс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лави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5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клавишу, печатающую пустые симво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то ввел понятие алгорит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2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 какому способу описания алгоритмов относится блок схем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3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В какой алгоритмической структуре команды выполняются в порядке их записи, т.е. последовательно друг за друг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4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Назовите свойство алгоритмов: один и тот же алгоритм может применяться к большому количеству однотипных объек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5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Переменная порядкового типа, которая считает число повторений цик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1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ак в компьютере кодируется информация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549360"/>
            <a:ext cx="63914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batDi"/>
              </a:rPr>
              <a:t>1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Что в переводе с латинского языка означает  информа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2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Сколько байтов требуется для кодирования одного символа в таблице кодов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SCII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3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Сколько стандартов существует для кодировки символов: один или несколько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4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оличество информации необходимое для кодирования цвета точки – 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5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Что такое разбиение звуковой волны на временные участки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Управляющая кнопка: возврат 3"/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000160" y="249120"/>
            <a:ext cx="4156200" cy="80496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batDi"/>
              </a:rPr>
              <a:t>2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 помощью чего человек воспринимает информаци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batDi"/>
              </a:rPr>
              <a:t>3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 какому виду относится информация, воспринимаемая с помощью органов слух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batDi"/>
              </a:rPr>
              <a:t>4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акой формой представления информации является запись уравнения в виде форму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batDi"/>
              </a:rPr>
              <a:t>50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акой информационный процесс происходит при записи текста на бумаг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Как называется совокупность правил наименования и изображения чисел с помощью набора символов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6560" y="365040"/>
            <a:ext cx="63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Di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76560" y="1825200"/>
            <a:ext cx="6338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Di"/>
              </a:rPr>
              <a:t>20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В какой системе счисления «12» записывается как «С»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58120" y="6143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6" y="13751"/>
                  <a:pt x="12646" y="12828"/>
                </a:cubicBezTo>
                <a:lnTo>
                  <a:pt x="12646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7:15:05Z</dcterms:created>
  <dc:creator>мвидео</dc:creator>
  <dc:description/>
  <dc:language>en-US</dc:language>
  <cp:lastModifiedBy>home</cp:lastModifiedBy>
  <dcterms:modified xsi:type="dcterms:W3CDTF">2017-08-24T11:33:59Z</dcterms:modified>
  <cp:revision>50</cp:revision>
  <dc:subject/>
  <dc:title>Слайд 1</dc:title>
</cp:coreProperties>
</file>