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4.wmf" ContentType="image/x-wmf"/>
  <Override PartName="/ppt/media/image27.jpeg" ContentType="image/jpeg"/>
  <Override PartName="/ppt/media/image30.wmf" ContentType="image/x-wmf"/>
  <Override PartName="/ppt/media/image5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3.wmf" ContentType="image/x-wmf"/>
  <Override PartName="/ppt/media/image15.jpeg" ContentType="image/jpeg"/>
  <Override PartName="/ppt/media/image8.jpeg" ContentType="image/jpeg"/>
  <Override PartName="/ppt/media/image31.gif" ContentType="image/gif"/>
  <Override PartName="/ppt/media/image23.jpeg" ContentType="image/jpeg"/>
  <Override PartName="/ppt/media/image28.png" ContentType="image/png"/>
  <Override PartName="/ppt/media/image1.wmf" ContentType="image/x-wmf"/>
  <Override PartName="/ppt/media/image10.jpeg" ContentType="image/jpeg"/>
  <Override PartName="/ppt/media/image14.png" ContentType="image/png"/>
  <Override PartName="/ppt/media/image16.wmf" ContentType="image/x-wmf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.wmf" ContentType="image/x-wmf"/>
  <Override PartName="/ppt/media/image21.jpeg" ContentType="image/jpeg"/>
  <Override PartName="/ppt/media/image9.png" ContentType="image/png"/>
  <Override PartName="/ppt/media/image22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B33E-095C-4446-9DC2-805BF8B1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41EA-B4D9-4255-8E4C-45E51EFE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9C38-BC70-4BE2-8F58-E57D751A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0A99-C628-43D3-9805-136050DD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B491-5944-4BC2-BA3B-32673036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4CCD-0F16-4EFC-A623-CA4EB11A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CEE6-AF4D-4B53-B495-CD684BCC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5A89-FB10-49BB-A512-2DFF04BF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C464-4ECF-498F-BE03-211A1F2D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D774-2517-4C61-80CA-25F8DA5C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1101-F30C-4685-A501-2A27F1E5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2A76-2E6B-40EB-B597-89B2AB86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5719-76D8-46AD-A963-1345B265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6A11-6291-4EB8-A676-9C0CCF09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9F9F-3010-46F1-B3FE-2660EA83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9EC6-3FCD-44C7-911E-83D3E435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BE91-68EA-4A7A-9457-771E93CB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DD0C-B16A-4297-B874-8E02800A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E326-F0E7-4913-9DB2-9C265D1C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3AEE-3004-4AF1-A7C2-1BA1DEE6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D6DD-CA48-4D2E-9C7B-800D11CE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5D65-801F-4D25-A882-E13B0FA4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5CF6-87AD-4D19-9B4F-6751B561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5D28-B5B1-4B40-B846-15ECC1A2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1A25-6495-4E4B-8581-1C32D1FDF7E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9127-C82E-41A8-9902-170D4BF6A46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7.wmf"/><Relationship Id="rId3" Type="http://schemas.openxmlformats.org/officeDocument/2006/relationships/slide" Target="slide6.xml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22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КУЛИНАРИЯ</a:t>
            </a:r>
            <a:br>
              <a:rPr sz="4800"/>
            </a:b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5 класс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тербро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горячие напи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j0198625"/>
          <p:cNvPicPr/>
          <p:nvPr/>
        </p:nvPicPr>
        <p:blipFill>
          <a:blip r:embed="rId1"/>
          <a:stretch/>
        </p:blipFill>
        <p:spPr>
          <a:xfrm>
            <a:off x="6727680" y="4770360"/>
            <a:ext cx="2416320" cy="2087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j0234294"/>
          <p:cNvPicPr/>
          <p:nvPr/>
        </p:nvPicPr>
        <p:blipFill>
          <a:blip r:embed="rId2"/>
          <a:stretch/>
        </p:blipFill>
        <p:spPr>
          <a:xfrm>
            <a:off x="0" y="0"/>
            <a:ext cx="2527200" cy="1987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j0215784"/>
          <p:cNvPicPr/>
          <p:nvPr/>
        </p:nvPicPr>
        <p:blipFill>
          <a:blip r:embed="rId3"/>
          <a:stretch/>
        </p:blipFill>
        <p:spPr>
          <a:xfrm>
            <a:off x="0" y="4745160"/>
            <a:ext cx="2344680" cy="2112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j0232580"/>
          <p:cNvPicPr/>
          <p:nvPr/>
        </p:nvPicPr>
        <p:blipFill>
          <a:blip r:embed="rId4"/>
          <a:stretch/>
        </p:blipFill>
        <p:spPr>
          <a:xfrm>
            <a:off x="6400800" y="0"/>
            <a:ext cx="2409840" cy="171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нструменты и приспособле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рый нож и /или пилка для нарезки хлеб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ка для нарезки хлеб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рый нож  и доска для резки ветчины, мяса, колбасы, сы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овый нож и доска для нарезки фру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ж с округлым концом для намазывания масла, паст и пашт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2"/>
          <p:cNvSpPr txBox="1"/>
          <p:nvPr/>
        </p:nvSpPr>
        <p:spPr>
          <a:xfrm>
            <a:off x="971640" y="404640"/>
            <a:ext cx="7632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batDi"/>
              </a:rPr>
              <a:t>Горячие напитк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batDi"/>
              <a:ea typeface="ArbatDi"/>
            </a:endParaRPr>
          </a:p>
        </p:txBody>
      </p:sp>
      <p:grpSp>
        <p:nvGrpSpPr>
          <p:cNvPr id="148" name="Group 3"/>
          <p:cNvGrpSpPr/>
          <p:nvPr/>
        </p:nvGrpSpPr>
        <p:grpSpPr>
          <a:xfrm>
            <a:off x="178920" y="1568520"/>
            <a:ext cx="2592360" cy="3731760"/>
            <a:chOff x="178920" y="1568520"/>
            <a:chExt cx="2592360" cy="3731760"/>
          </a:xfrm>
        </p:grpSpPr>
        <p:sp>
          <p:nvSpPr>
            <p:cNvPr id="149" name="AutoShape 4"/>
            <p:cNvSpPr/>
            <p:nvPr/>
          </p:nvSpPr>
          <p:spPr>
            <a:xfrm rot="10800000">
              <a:off x="178920" y="2420640"/>
              <a:ext cx="2592360" cy="287964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f5fba3"/>
                </a:gs>
                <a:gs pos="50000">
                  <a:srgbClr val="ffffe1"/>
                </a:gs>
                <a:gs pos="100000">
                  <a:srgbClr val="f5fba3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WordArt 5"/>
            <p:cNvSpPr txBox="1"/>
            <p:nvPr/>
          </p:nvSpPr>
          <p:spPr>
            <a:xfrm>
              <a:off x="611280" y="3213000"/>
              <a:ext cx="1657080" cy="136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чай</a:t>
              </a:r>
              <a:endPara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51" name="AutoShape 6"/>
            <p:cNvSpPr/>
            <p:nvPr/>
          </p:nvSpPr>
          <p:spPr>
            <a:xfrm rot="6621000">
              <a:off x="1249920" y="1799280"/>
              <a:ext cx="793800" cy="43344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7"/>
          <p:cNvGrpSpPr/>
          <p:nvPr/>
        </p:nvGrpSpPr>
        <p:grpSpPr>
          <a:xfrm>
            <a:off x="2484000" y="1577880"/>
            <a:ext cx="3311640" cy="3732480"/>
            <a:chOff x="2484000" y="1577880"/>
            <a:chExt cx="3311640" cy="3732480"/>
          </a:xfrm>
        </p:grpSpPr>
        <p:sp>
          <p:nvSpPr>
            <p:cNvPr id="153" name="AutoShape 8"/>
            <p:cNvSpPr/>
            <p:nvPr/>
          </p:nvSpPr>
          <p:spPr>
            <a:xfrm rot="10800000">
              <a:off x="2484000" y="2430000"/>
              <a:ext cx="3311640" cy="288000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f5fba3"/>
                </a:gs>
                <a:gs pos="50000">
                  <a:srgbClr val="ffffe1"/>
                </a:gs>
                <a:gs pos="100000">
                  <a:srgbClr val="f5fba3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WordArt 9"/>
            <p:cNvSpPr txBox="1"/>
            <p:nvPr/>
          </p:nvSpPr>
          <p:spPr>
            <a:xfrm>
              <a:off x="3132000" y="3357720"/>
              <a:ext cx="2089440" cy="136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кофе</a:t>
              </a:r>
              <a:endPara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55" name="AutoShape 10"/>
            <p:cNvSpPr/>
            <p:nvPr/>
          </p:nvSpPr>
          <p:spPr>
            <a:xfrm rot="6621000">
              <a:off x="4274280" y="1808640"/>
              <a:ext cx="793800" cy="43344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1"/>
          <p:cNvGrpSpPr/>
          <p:nvPr/>
        </p:nvGrpSpPr>
        <p:grpSpPr>
          <a:xfrm>
            <a:off x="5508360" y="1555200"/>
            <a:ext cx="3384360" cy="3754800"/>
            <a:chOff x="5508360" y="1555200"/>
            <a:chExt cx="3384360" cy="3754800"/>
          </a:xfrm>
        </p:grpSpPr>
        <p:sp>
          <p:nvSpPr>
            <p:cNvPr id="157" name="AutoShape 12"/>
            <p:cNvSpPr/>
            <p:nvPr/>
          </p:nvSpPr>
          <p:spPr>
            <a:xfrm rot="10800000">
              <a:off x="5508360" y="2409120"/>
              <a:ext cx="3384360" cy="290052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f5fba3"/>
                </a:gs>
                <a:gs pos="50000">
                  <a:srgbClr val="ffffe1"/>
                </a:gs>
                <a:gs pos="100000">
                  <a:srgbClr val="f5fba3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WordArt 13"/>
            <p:cNvSpPr txBox="1"/>
            <p:nvPr/>
          </p:nvSpPr>
          <p:spPr>
            <a:xfrm>
              <a:off x="6072120" y="3500280"/>
              <a:ext cx="2163960" cy="1090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какао</a:t>
              </a:r>
              <a:endPara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59" name="AutoShape 14"/>
            <p:cNvSpPr/>
            <p:nvPr/>
          </p:nvSpPr>
          <p:spPr>
            <a:xfrm rot="6621000">
              <a:off x="6941160" y="1802520"/>
              <a:ext cx="793800" cy="38232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Picture 15" descr=""/>
          <p:cNvPicPr/>
          <p:nvPr/>
        </p:nvPicPr>
        <p:blipFill>
          <a:blip r:embed="rId1"/>
          <a:stretch/>
        </p:blipFill>
        <p:spPr>
          <a:xfrm>
            <a:off x="755640" y="5589720"/>
            <a:ext cx="1150920" cy="1001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"/>
          <p:cNvPicPr/>
          <p:nvPr/>
        </p:nvPicPr>
        <p:blipFill>
          <a:blip r:embed="rId2"/>
          <a:stretch/>
        </p:blipFill>
        <p:spPr>
          <a:xfrm>
            <a:off x="3419640" y="4941720"/>
            <a:ext cx="1195200" cy="1702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275084"/>
          <p:cNvPicPr/>
          <p:nvPr/>
        </p:nvPicPr>
        <p:blipFill>
          <a:blip r:embed="rId3"/>
          <a:stretch/>
        </p:blipFill>
        <p:spPr>
          <a:xfrm>
            <a:off x="6877080" y="5516640"/>
            <a:ext cx="666720" cy="1003320"/>
          </a:xfrm>
          <a:prstGeom prst="rect">
            <a:avLst/>
          </a:prstGeom>
          <a:ln w="76320">
            <a:solidFill>
              <a:srgbClr val="5a352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Что такое напиток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й словарь объясняет значение слова «напиток» как продукт, предназначенный для пит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 «напиток», применяемое в старину только к безалкогольным жидкостям, произошло от слова «напитать», т.е. накормить, насыт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ссии напитками первоначально называли только заморские питательные жидкости – кофе, какао, шоколад, чай . В то время не говорили, что кофе и какао пьют- их всегда «кушали», «откушивал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тонизирующий напиток, обладающий высокими вкусовыми и ароматическими свойств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й – один из самых древних напитков, употребляемых человеком. Родина чая – Китай. Молодой листочек по – китайски называется «тцайей». Отсюда и произошло слово «ча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й не только утоляет жажду, но и способствует снижению артериального давления, помогает при цинге, кори, подагре, остром ревматиз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j0228911"/>
          <p:cNvPicPr/>
          <p:nvPr/>
        </p:nvPicPr>
        <p:blipFill>
          <a:blip r:embed="rId1"/>
          <a:stretch/>
        </p:blipFill>
        <p:spPr>
          <a:xfrm>
            <a:off x="6858000" y="0"/>
            <a:ext cx="1836720" cy="14302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Ча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539640" y="260280"/>
            <a:ext cx="8209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что содержится в чае ?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900000" y="907920"/>
            <a:ext cx="2303640" cy="64944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ФЕ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900000" y="1773360"/>
            <a:ext cx="2303640" cy="115236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УБИ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900000" y="3068640"/>
            <a:ext cx="2303640" cy="86364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ФИ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900000" y="4076640"/>
            <a:ext cx="2303640" cy="64944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КТ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00000" y="4869000"/>
            <a:ext cx="2303640" cy="6490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3203640" y="981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3276720" y="2060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3276720" y="3213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3276720" y="4149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4335480" y="121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611280" y="5661000"/>
            <a:ext cx="2590560" cy="90792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ЕРА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4427640" y="979920"/>
            <a:ext cx="38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буждающее дейст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4571280" y="205956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яжущий вку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4572000" y="276192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ьный аромат, дезинфицирующие и антисептические свой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4500720" y="3931920"/>
            <a:ext cx="41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аготворное действие при различных нарушениях пищева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8" descr=""/>
          <p:cNvPicPr/>
          <p:nvPr/>
        </p:nvPicPr>
        <p:blipFill>
          <a:blip r:embed="rId1"/>
          <a:stretch/>
        </p:blipFill>
        <p:spPr>
          <a:xfrm>
            <a:off x="7020000" y="5084640"/>
            <a:ext cx="165744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684360" y="404640"/>
            <a:ext cx="4319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ы ч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WordArt 3"/>
          <p:cNvSpPr txBox="1"/>
          <p:nvPr/>
        </p:nvSpPr>
        <p:spPr>
          <a:xfrm>
            <a:off x="6227640" y="189000"/>
            <a:ext cx="2664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РН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WordArt 4"/>
          <p:cNvSpPr txBox="1"/>
          <p:nvPr/>
        </p:nvSpPr>
        <p:spPr>
          <a:xfrm>
            <a:off x="6300720" y="1197000"/>
            <a:ext cx="2664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ЕЛЕН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WordArt 5"/>
          <p:cNvSpPr txBox="1"/>
          <p:nvPr/>
        </p:nvSpPr>
        <p:spPr>
          <a:xfrm>
            <a:off x="6300720" y="2133720"/>
            <a:ext cx="2664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Т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9" name="Picture 6" descr="Рисунок22"/>
          <p:cNvPicPr/>
          <p:nvPr/>
        </p:nvPicPr>
        <p:blipFill>
          <a:blip r:embed="rId1"/>
          <a:stretch/>
        </p:blipFill>
        <p:spPr>
          <a:xfrm>
            <a:off x="250920" y="1341360"/>
            <a:ext cx="5333760" cy="1419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Рисунок24"/>
          <p:cNvPicPr/>
          <p:nvPr/>
        </p:nvPicPr>
        <p:blipFill>
          <a:blip r:embed="rId2"/>
          <a:stretch/>
        </p:blipFill>
        <p:spPr>
          <a:xfrm>
            <a:off x="179280" y="2924280"/>
            <a:ext cx="6658200" cy="3724200"/>
          </a:xfrm>
          <a:prstGeom prst="rect">
            <a:avLst/>
          </a:prstGeom>
          <a:ln w="0">
            <a:noFill/>
          </a:ln>
        </p:spPr>
      </p:pic>
      <p:sp>
        <p:nvSpPr>
          <p:cNvPr id="191" name="WordArt 8"/>
          <p:cNvSpPr txBox="1"/>
          <p:nvPr/>
        </p:nvSpPr>
        <p:spPr>
          <a:xfrm>
            <a:off x="6300720" y="3068640"/>
            <a:ext cx="2664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СН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Чёрный как ночь, горячий, как огонь, чистый, как ангел, сладкий, как поцелуй любви».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- Кофе. Напиток, история и магическое действие которого окутаны легендами. Первооткрывателем удивительных свойств кофе считается эфиопский пастух Кади. Как – то он решил отдохнуть возле зарослей кофейного дерева. Юноша заметил, что козы после поедания плодов кофе становятся бодрее и игривее. Он последовал их примеру и попробовал кофе, после чего ощутил необыкновенный прилив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7191360" y="4272120"/>
            <a:ext cx="195264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ака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на какао были впервые привезены в Европу в 1520 году завоевателем Мексики Эрнаном Кортесом. Ацтеки использовали семена какао для приготовления особого тонизирующего напитка. Свой «чоколатль» атцеки пили без сахара или мёда, но с перцем и ванилью. Затем какао стали выращивать в Венесуэле, Вест – Индии, а с 18 века и в Бразил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Рисунок29"/>
          <p:cNvPicPr/>
          <p:nvPr/>
        </p:nvPicPr>
        <p:blipFill>
          <a:blip r:embed="rId1"/>
          <a:stretch/>
        </p:blipFill>
        <p:spPr>
          <a:xfrm>
            <a:off x="7238880" y="0"/>
            <a:ext cx="1333800" cy="1600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Рисунок28"/>
          <p:cNvPicPr/>
          <p:nvPr/>
        </p:nvPicPr>
        <p:blipFill>
          <a:blip r:embed="rId2"/>
          <a:stretch/>
        </p:blipFill>
        <p:spPr>
          <a:xfrm>
            <a:off x="7238880" y="4952880"/>
            <a:ext cx="14493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алейдоскоп иде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5867280" cy="2503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mobtel1"/>
          <p:cNvPicPr/>
          <p:nvPr/>
        </p:nvPicPr>
        <p:blipFill>
          <a:blip r:embed="rId2"/>
          <a:stretch/>
        </p:blipFill>
        <p:spPr>
          <a:xfrm>
            <a:off x="3886200" y="3962520"/>
            <a:ext cx="4591080" cy="2543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pes"/>
          <p:cNvPicPr/>
          <p:nvPr/>
        </p:nvPicPr>
        <p:blipFill>
          <a:blip r:embed="rId3"/>
          <a:stretch/>
        </p:blipFill>
        <p:spPr>
          <a:xfrm>
            <a:off x="533520" y="1447920"/>
            <a:ext cx="2355840" cy="28861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811260"/>
          <p:cNvPicPr/>
          <p:nvPr/>
        </p:nvPicPr>
        <p:blipFill>
          <a:blip r:embed="rId4"/>
          <a:stretch/>
        </p:blipFill>
        <p:spPr>
          <a:xfrm>
            <a:off x="914400" y="3978360"/>
            <a:ext cx="26398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авила безопасной рабо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людать санитарно-гигиенические требования к внешнему виду, посуде, продук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людать технику безопасности при работе с режущими предме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людать технику безопасности при работе с электропли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Цели урока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разователь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познакомить учащихся с технологией приготовления и оформления бутербродов; научить готовить вкусный ча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ющая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звивать умение использовать полученные знания на практике, работать в групп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итатель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воспитывать бережное отношение к продуктам, трудолюб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актическая работ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7" name="Picture 4" descr="Рецепт заливка для кисло-сладких маринадов."/>
          <p:cNvPicPr/>
          <p:nvPr/>
        </p:nvPicPr>
        <p:blipFill>
          <a:blip r:embed="rId1"/>
          <a:stretch/>
        </p:blipFill>
        <p:spPr>
          <a:xfrm>
            <a:off x="2743200" y="1447920"/>
            <a:ext cx="3535200" cy="518148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5"/>
          <p:cNvSpPr/>
          <p:nvPr/>
        </p:nvSpPr>
        <p:spPr>
          <a:xfrm>
            <a:off x="8001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457200" y="586728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Технологическая карта приготовления горячих бутербродов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914400" y="1447920"/>
          <a:ext cx="8001000" cy="4922640"/>
        </p:xfrm>
        <a:graphic>
          <a:graphicData uri="http://schemas.openxmlformats.org/drawingml/2006/table">
            <a:tbl>
              <a:tblPr/>
              <a:tblGrid>
                <a:gridCol w="4952880"/>
                <a:gridCol w="3048120"/>
              </a:tblGrid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стру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способ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зать хлеб кусками толщиной 1 с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ж, разделочная дос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йца взбить в пышную пену, добавить щепотку сол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ксер или венчик, глубокая ми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мочить хлеб в смеси из яиц и обжарить на масле с двух сторон до румяной короч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ворода, лопат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готовые гренки выложить сыр, затем колбасу, украсить зеленью или овощами, выложить в тарел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рело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4"/>
          <p:cNvSpPr txBox="1"/>
          <p:nvPr/>
        </p:nvSpPr>
        <p:spPr>
          <a:xfrm>
            <a:off x="914400" y="277920"/>
            <a:ext cx="7620120" cy="560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хнологическая кар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WordArt 5"/>
          <p:cNvSpPr txBox="1"/>
          <p:nvPr/>
        </p:nvSpPr>
        <p:spPr>
          <a:xfrm>
            <a:off x="1619280" y="692280"/>
            <a:ext cx="626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готовление чая</a:t>
            </a:r>
            <a:endParaRPr b="0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4" name="Picture 6" descr=""/>
          <p:cNvPicPr/>
          <p:nvPr/>
        </p:nvPicPr>
        <p:blipFill>
          <a:blip r:embed="rId1"/>
          <a:stretch/>
        </p:blipFill>
        <p:spPr>
          <a:xfrm>
            <a:off x="0" y="380880"/>
            <a:ext cx="151272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"/>
          <p:cNvGraphicFramePr/>
          <p:nvPr/>
        </p:nvGraphicFramePr>
        <p:xfrm>
          <a:off x="914400" y="1600200"/>
          <a:ext cx="7772400" cy="4662360"/>
        </p:xfrm>
        <a:graphic>
          <a:graphicData uri="http://schemas.openxmlformats.org/drawingml/2006/table">
            <a:tbl>
              <a:tblPr/>
              <a:tblGrid>
                <a:gridCol w="1943280"/>
                <a:gridCol w="1431720"/>
                <a:gridCol w="2454480"/>
                <a:gridCol w="1942920"/>
              </a:tblGrid>
              <a:tr h="11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продук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продук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овательность пригото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уда и инвента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ba3"/>
                    </a:solidFill>
                  </a:tcPr>
                </a:tc>
              </a:tr>
              <a:tr h="194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ипятить воду. Обдать кипятком чайник для заваривания ча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йник для кипячения в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ч.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ыпать чай, залить кипятком на 1/3. Дать  настояться 5-10 минут и долить чайник горячей водой до верх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йник для заваривания ча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Требования к качеству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ый хлеб должен быть хорошо обжарен, но не подгорел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ыр должен быть чуть расплавл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ингредиенты должны быть красиво улож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й должен быть прозрачным, без чаинок, ароматным, иметь красивый красновато – коричневый ц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j0233756"/>
          <p:cNvPicPr/>
          <p:nvPr/>
        </p:nvPicPr>
        <p:blipFill>
          <a:blip r:embed="rId1"/>
          <a:stretch/>
        </p:blipFill>
        <p:spPr>
          <a:xfrm>
            <a:off x="6400800" y="4876920"/>
            <a:ext cx="1969920" cy="174132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7"/>
          <p:cNvSpPr/>
          <p:nvPr/>
        </p:nvSpPr>
        <p:spPr>
          <a:xfrm>
            <a:off x="30492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MCj04044070000[1]"/>
          <p:cNvPicPr/>
          <p:nvPr/>
        </p:nvPicPr>
        <p:blipFill>
          <a:blip r:embed="rId1"/>
          <a:stretch/>
        </p:blipFill>
        <p:spPr>
          <a:xfrm>
            <a:off x="2133720" y="1600200"/>
            <a:ext cx="4343400" cy="4249800"/>
          </a:xfrm>
          <a:prstGeom prst="rect">
            <a:avLst/>
          </a:prstGeom>
          <a:ln w="0">
            <a:noFill/>
          </a:ln>
        </p:spPr>
      </p:pic>
      <p:sp>
        <p:nvSpPr>
          <p:cNvPr id="221" name="WordArt 3"/>
          <p:cNvSpPr txBox="1"/>
          <p:nvPr/>
        </p:nvSpPr>
        <p:spPr>
          <a:xfrm>
            <a:off x="1523880" y="5562720"/>
            <a:ext cx="58676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Приятного аппетита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2514600" y="76212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Дегус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62485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бщение  «Традиции русского чаепити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бщение «Что такое «бутерброд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с чем его едят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8d112714b619"/>
          <p:cNvPicPr/>
          <p:nvPr/>
        </p:nvPicPr>
        <p:blipFill>
          <a:blip r:embed="rId1"/>
          <a:stretch/>
        </p:blipFill>
        <p:spPr>
          <a:xfrm>
            <a:off x="6657840" y="1066680"/>
            <a:ext cx="2486160" cy="312444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6"/>
          <p:cNvSpPr/>
          <p:nvPr/>
        </p:nvSpPr>
        <p:spPr>
          <a:xfrm>
            <a:off x="0" y="579132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22" h="21600">
                <a:moveTo>
                  <a:pt x="8704" y="7493"/>
                </a:moveTo>
                <a:lnTo>
                  <a:pt x="12212" y="7493"/>
                </a:lnTo>
                <a:lnTo>
                  <a:pt x="12212" y="12828"/>
                </a:lnTo>
                <a:cubicBezTo>
                  <a:pt x="12212" y="13751"/>
                  <a:pt x="13013" y="14482"/>
                  <a:pt x="14048" y="14482"/>
                </a:cubicBezTo>
                <a:lnTo>
                  <a:pt x="15711" y="14482"/>
                </a:lnTo>
                <a:cubicBezTo>
                  <a:pt x="16747" y="14482"/>
                  <a:pt x="17547" y="13751"/>
                  <a:pt x="17547" y="12828"/>
                </a:cubicBezTo>
                <a:lnTo>
                  <a:pt x="17547" y="7493"/>
                </a:lnTo>
                <a:lnTo>
                  <a:pt x="15711" y="7493"/>
                </a:lnTo>
                <a:lnTo>
                  <a:pt x="19218" y="3985"/>
                </a:lnTo>
                <a:lnTo>
                  <a:pt x="22891" y="7493"/>
                </a:lnTo>
                <a:lnTo>
                  <a:pt x="21055" y="7493"/>
                </a:lnTo>
                <a:lnTo>
                  <a:pt x="21055" y="12828"/>
                </a:lnTo>
                <a:cubicBezTo>
                  <a:pt x="21055" y="15596"/>
                  <a:pt x="18479" y="18155"/>
                  <a:pt x="15711" y="18155"/>
                </a:cubicBezTo>
                <a:lnTo>
                  <a:pt x="14048" y="18155"/>
                </a:lnTo>
                <a:cubicBezTo>
                  <a:pt x="11281" y="18155"/>
                  <a:pt x="8704" y="15596"/>
                  <a:pt x="8704" y="12828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Бутербро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9360">
            <a:solidFill>
              <a:srgbClr val="ffffe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Бутерброд» - немецко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erbro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хлеб с маслом» - ломтик хлеба или булки с маслом, сыром, колбасой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а бутербродов – хлеб – наш добрый и постоянный друг, даже когда зачерствеет. Ведь недаром говорят: «Хлеб наш насущный, хоть чёрствый, а вкусны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терброды могут быть различной формы: прямоугольной, квадратной, круглой, треугольной или фигур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того, чтобы бутерброды были вкуснее, хлеб нарезают тонкими ломтиками - толщиной 1-1,5 см и обильно покрывают продукт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MCj04104550000[1]"/>
          <p:cNvPicPr/>
          <p:nvPr/>
        </p:nvPicPr>
        <p:blipFill>
          <a:blip r:embed="rId1"/>
          <a:stretch/>
        </p:blipFill>
        <p:spPr>
          <a:xfrm>
            <a:off x="0" y="5257800"/>
            <a:ext cx="1400040" cy="1600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813"/>
          <p:cNvPicPr/>
          <p:nvPr/>
        </p:nvPicPr>
        <p:blipFill>
          <a:blip r:embed="rId2"/>
          <a:stretch/>
        </p:blipFill>
        <p:spPr>
          <a:xfrm>
            <a:off x="6858000" y="0"/>
            <a:ext cx="197964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лассификация бутерброд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способу приготов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олодны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оряч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ст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когда используется один вид проду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ложны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огда используется несколько видов проду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крыты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когда продукт виде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акрыт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сандвичи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когда продукт не виде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лоисты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когда используется несколько слоёв продукта и хлеба и /или бул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акусоч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канапе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тличаются меньшим разме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3760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2590920"/>
            <a:ext cx="533160" cy="463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j023760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96080" y="4038480"/>
            <a:ext cx="533520" cy="463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j0237603"/>
          <p:cNvPicPr/>
          <p:nvPr/>
        </p:nvPicPr>
        <p:blipFill>
          <a:blip r:embed="rId5"/>
          <a:stretch/>
        </p:blipFill>
        <p:spPr>
          <a:xfrm>
            <a:off x="2666880" y="5410080"/>
            <a:ext cx="53352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3419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осто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838080" y="35053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леб (толщиной 1 см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0"/>
          <p:cNvSpPr/>
          <p:nvPr/>
        </p:nvSpPr>
        <p:spPr>
          <a:xfrm rot="2061600">
            <a:off x="5486040" y="43434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5562720" y="4800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ду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2"/>
          <p:cNvSpPr/>
          <p:nvPr/>
        </p:nvSpPr>
        <p:spPr>
          <a:xfrm rot="10800000">
            <a:off x="4038120" y="5105520"/>
            <a:ext cx="1295640" cy="304560"/>
          </a:xfrm>
          <a:prstGeom prst="rightArrow">
            <a:avLst>
              <a:gd name="adj1" fmla="val 50000"/>
              <a:gd name="adj2" fmla="val 10635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533520" y="457200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крашают зеленью, овощами, яйц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4">
            <a:hlinkClick r:id="" action="ppaction://hlinkshowjump?jump=previousslide"/>
          </p:cNvPr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крыты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5486400" y="0"/>
            <a:ext cx="3657600" cy="24670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85800" y="175248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леб или булочка (массой до 40 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 rot="1376400">
            <a:off x="3962160" y="2514240"/>
            <a:ext cx="1447560" cy="380880"/>
          </a:xfrm>
          <a:prstGeom prst="rightArrow">
            <a:avLst>
              <a:gd name="adj1" fmla="val 50000"/>
              <a:gd name="adj2" fmla="val 9501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114800" y="50292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дукты: помидоры, листья салата, отварное мясо птицы, колбаса, яйц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105520" y="2895480"/>
            <a:ext cx="40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мтики намазывают мас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 rot="5400000">
            <a:off x="6553080" y="434340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 rot="12734400">
            <a:off x="2818800" y="556236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609480" y="3276720"/>
            <a:ext cx="3810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ерху закрывается вторым ломтиком хлеб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45720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кусочны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3" name="Picture 5" descr="kanape"/>
          <p:cNvPicPr/>
          <p:nvPr/>
        </p:nvPicPr>
        <p:blipFill>
          <a:blip r:embed="rId1"/>
          <a:stretch/>
        </p:blipFill>
        <p:spPr>
          <a:xfrm>
            <a:off x="4419720" y="304920"/>
            <a:ext cx="4724280" cy="2468520"/>
          </a:xfrm>
          <a:prstGeom prst="rect">
            <a:avLst/>
          </a:prstGeom>
          <a:ln w="0">
            <a:noFill/>
          </a:ln>
        </p:spPr>
      </p:pic>
      <p:sp>
        <p:nvSpPr>
          <p:cNvPr id="134" name="WordArt 9"/>
          <p:cNvSpPr txBox="1"/>
          <p:nvPr/>
        </p:nvSpPr>
        <p:spPr>
          <a:xfrm>
            <a:off x="609480" y="1600200"/>
            <a:ext cx="1600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АНАП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2133720" y="1295280"/>
            <a:ext cx="38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533520" y="1600200"/>
            <a:ext cx="373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609480" y="1828800"/>
            <a:ext cx="381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еют небольшой размер. Для их приготовления используют поджаренный хлеб толщиной 0,5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533520" y="3124080"/>
            <a:ext cx="8610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а куска хлеба может быть самой разнообразной: прямоугольник, кружочек, ромбик, цветочек, звездочка и др. Поверх хлеба в несколько слоёв выкладывают различные продукты, сочетаемые друг с другом. Для того, чтобы было вкуснее слои продуктов промазывают майонезом. Канапе могут быть и сладкими. Канапе подают на блюдах или вазах, где раскладывают их одним слоем. Маленькие канапе протыкают палочками-шпажками, с помощью которых берут бутербр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Comic Sans MS"/>
              </a:rPr>
              <a:t>По виду продукта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7772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ясные (колбаса, ветчина, сало и др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бные (икра, копченая, солёная или вареная рыба и др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дкие (варенье, мед, шоколадное масло и др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вощные (кетчуп, жареные баклажаны и др.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молочными продуктами (сыр, творожная масс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j0233355"/>
          <p:cNvPicPr/>
          <p:nvPr/>
        </p:nvPicPr>
        <p:blipFill>
          <a:blip r:embed="rId1"/>
          <a:stretch/>
        </p:blipFill>
        <p:spPr>
          <a:xfrm>
            <a:off x="6934320" y="0"/>
            <a:ext cx="17524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ребования к хранению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готовых блюд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Продукты и готовые блюда хранят закрытыми и не дольше положенного сро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Скоропортящиеся продукты хранят в холодильни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Нельзя употреблять в пищу несвежие продукты и с истёкшим сроком хранения. Это может привести к отравл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Готовые бутерброды можно хранить в холодильнике 3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j0215895"/>
          <p:cNvPicPr/>
          <p:nvPr/>
        </p:nvPicPr>
        <p:blipFill>
          <a:blip r:embed="rId1"/>
          <a:stretch/>
        </p:blipFill>
        <p:spPr>
          <a:xfrm>
            <a:off x="7391520" y="0"/>
            <a:ext cx="1512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митрий Каленюк</cp:lastModifiedBy>
  <dcterms:modified xsi:type="dcterms:W3CDTF">2011-09-06T15:09:2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