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4.wmf" ContentType="image/x-wmf"/>
  <Override PartName="/ppt/media/image27.jpeg" ContentType="image/jpeg"/>
  <Override PartName="/ppt/media/image30.wmf" ContentType="image/x-wmf"/>
  <Override PartName="/ppt/media/image5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3.wmf" ContentType="image/x-wmf"/>
  <Override PartName="/ppt/media/image15.jpeg" ContentType="image/jpeg"/>
  <Override PartName="/ppt/media/image8.jpeg" ContentType="image/jpeg"/>
  <Override PartName="/ppt/media/image31.gif" ContentType="image/gif"/>
  <Override PartName="/ppt/media/image23.jpeg" ContentType="image/jpe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.wmf" ContentType="image/x-wmf"/>
  <Override PartName="/ppt/media/image21.jpeg" ContentType="image/jpeg"/>
  <Override PartName="/ppt/media/image9.png" ContentType="image/png"/>
  <Override PartName="/ppt/media/image22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905-77DB-4011-8332-87ABA394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B89-A765-4874-AA6E-056E647E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4E5-6652-425C-94FD-E127FD56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772-DCC2-422A-B0F0-A7270AE9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47A8-3B08-43D9-9D90-E2B51BC8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C3F8-E2FF-4DE5-838E-A8DD4464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3E12-609D-4D73-9268-8EEF1B36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6A3-7730-4610-9EFC-6FA300B8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B5D3-0D39-45F3-8858-1E233240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E519-DC96-4795-AC82-6C6AE68E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5E7A-3936-4ACD-8FC4-F9665116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367-4564-4500-8EED-5D45CD60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1FDC-3EFC-4C9C-813D-89DD663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B5A3-F427-4EFF-8742-3A6EABB1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64BD-7AEE-4D8E-AC90-AAFD6F48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0C5B-3BBB-499C-8D2E-02DB86C1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39F0-4657-40A8-BD64-1263670D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D4B-EDB1-494C-AED3-3D61DABA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B66-A710-4516-8E04-60381D4F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76A-2953-4AEC-9C79-FB75B2FD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FC0-1C5D-4326-A448-6F86251E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037-C775-4748-B8F4-01BB909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840-02BE-431F-B7C3-1EB6B26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2F4-B71E-4AFC-AFF8-DF4B0AAE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F3C2-A31B-48A2-A716-FF0439CD7F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7B27-0CB1-42B9-B8FC-EAAAC9B691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wmf"/><Relationship Id="rId3" Type="http://schemas.openxmlformats.org/officeDocument/2006/relationships/slide" Target="slide6.xml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КУЛИНАРИЯ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5 класс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тербр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горячие напи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198625"/>
          <p:cNvPicPr/>
          <p:nvPr/>
        </p:nvPicPr>
        <p:blipFill>
          <a:blip r:embed="rId1"/>
          <a:stretch/>
        </p:blipFill>
        <p:spPr>
          <a:xfrm>
            <a:off x="6727680" y="4770360"/>
            <a:ext cx="241632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j0234294"/>
          <p:cNvPicPr/>
          <p:nvPr/>
        </p:nvPicPr>
        <p:blipFill>
          <a:blip r:embed="rId2"/>
          <a:stretch/>
        </p:blipFill>
        <p:spPr>
          <a:xfrm>
            <a:off x="0" y="0"/>
            <a:ext cx="2527200" cy="198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0215784"/>
          <p:cNvPicPr/>
          <p:nvPr/>
        </p:nvPicPr>
        <p:blipFill>
          <a:blip r:embed="rId3"/>
          <a:stretch/>
        </p:blipFill>
        <p:spPr>
          <a:xfrm>
            <a:off x="0" y="4745160"/>
            <a:ext cx="2344680" cy="211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0232580"/>
          <p:cNvPicPr/>
          <p:nvPr/>
        </p:nvPicPr>
        <p:blipFill>
          <a:blip r:embed="rId4"/>
          <a:stretch/>
        </p:blipFill>
        <p:spPr>
          <a:xfrm>
            <a:off x="6400800" y="0"/>
            <a:ext cx="2409840" cy="17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струменты и приспособл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нож и /или пилка для нарезки хле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ка для нарезки хле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нож  и доска для резки ветчины, мяса, колбасы, сы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овый нож и доска для нарезки фру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 с округлым концом для намазывания масла, паст и пашт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971640" y="404640"/>
            <a:ext cx="763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batDi"/>
              </a:rPr>
              <a:t>Горячие напит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batDi"/>
              <a:ea typeface="ArbatDi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178920" y="1568520"/>
            <a:ext cx="2592360" cy="3731760"/>
            <a:chOff x="178920" y="1568520"/>
            <a:chExt cx="2592360" cy="3731760"/>
          </a:xfrm>
        </p:grpSpPr>
        <p:sp>
          <p:nvSpPr>
            <p:cNvPr id="149" name="AutoShape 4"/>
            <p:cNvSpPr/>
            <p:nvPr/>
          </p:nvSpPr>
          <p:spPr>
            <a:xfrm rot="10800000">
              <a:off x="178920" y="2420640"/>
              <a:ext cx="2592360" cy="28796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5fba3"/>
                </a:gs>
                <a:gs pos="50000">
                  <a:srgbClr val="ffffe1"/>
                </a:gs>
                <a:gs pos="100000">
                  <a:srgbClr val="f5fba3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WordArt 5"/>
            <p:cNvSpPr txBox="1"/>
            <p:nvPr/>
          </p:nvSpPr>
          <p:spPr>
            <a:xfrm>
              <a:off x="611280" y="3213000"/>
              <a:ext cx="1657080" cy="13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чай</a:t>
              </a:r>
              <a:endPara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1" name="AutoShape 6"/>
            <p:cNvSpPr/>
            <p:nvPr/>
          </p:nvSpPr>
          <p:spPr>
            <a:xfrm rot="6621000">
              <a:off x="1249920" y="1799280"/>
              <a:ext cx="793800" cy="4334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"/>
          <p:cNvGrpSpPr/>
          <p:nvPr/>
        </p:nvGrpSpPr>
        <p:grpSpPr>
          <a:xfrm>
            <a:off x="2484000" y="1577880"/>
            <a:ext cx="3311640" cy="3732480"/>
            <a:chOff x="2484000" y="1577880"/>
            <a:chExt cx="3311640" cy="3732480"/>
          </a:xfrm>
        </p:grpSpPr>
        <p:sp>
          <p:nvSpPr>
            <p:cNvPr id="153" name="AutoShape 8"/>
            <p:cNvSpPr/>
            <p:nvPr/>
          </p:nvSpPr>
          <p:spPr>
            <a:xfrm rot="10800000">
              <a:off x="2484000" y="2430000"/>
              <a:ext cx="3311640" cy="288000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5fba3"/>
                </a:gs>
                <a:gs pos="50000">
                  <a:srgbClr val="ffffe1"/>
                </a:gs>
                <a:gs pos="100000">
                  <a:srgbClr val="f5fba3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WordArt 9"/>
            <p:cNvSpPr txBox="1"/>
            <p:nvPr/>
          </p:nvSpPr>
          <p:spPr>
            <a:xfrm>
              <a:off x="3132000" y="3357720"/>
              <a:ext cx="2089440" cy="13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фе</a:t>
              </a:r>
              <a:endPara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5" name="AutoShape 10"/>
            <p:cNvSpPr/>
            <p:nvPr/>
          </p:nvSpPr>
          <p:spPr>
            <a:xfrm rot="6621000">
              <a:off x="4274280" y="1808640"/>
              <a:ext cx="793800" cy="4334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5508360" y="1555200"/>
            <a:ext cx="3384360" cy="3754800"/>
            <a:chOff x="5508360" y="1555200"/>
            <a:chExt cx="3384360" cy="3754800"/>
          </a:xfrm>
        </p:grpSpPr>
        <p:sp>
          <p:nvSpPr>
            <p:cNvPr id="157" name="AutoShape 12"/>
            <p:cNvSpPr/>
            <p:nvPr/>
          </p:nvSpPr>
          <p:spPr>
            <a:xfrm rot="10800000">
              <a:off x="5508360" y="2409120"/>
              <a:ext cx="3384360" cy="29005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5fba3"/>
                </a:gs>
                <a:gs pos="50000">
                  <a:srgbClr val="ffffe1"/>
                </a:gs>
                <a:gs pos="100000">
                  <a:srgbClr val="f5fba3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13"/>
            <p:cNvSpPr txBox="1"/>
            <p:nvPr/>
          </p:nvSpPr>
          <p:spPr>
            <a:xfrm>
              <a:off x="6072120" y="3500280"/>
              <a:ext cx="2163960" cy="109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акао</a:t>
              </a:r>
              <a:endPara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9" name="AutoShape 14"/>
            <p:cNvSpPr/>
            <p:nvPr/>
          </p:nvSpPr>
          <p:spPr>
            <a:xfrm rot="6621000">
              <a:off x="6941160" y="1802520"/>
              <a:ext cx="793800" cy="38232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755640" y="5589720"/>
            <a:ext cx="1150920" cy="100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3419640" y="4941720"/>
            <a:ext cx="1195200" cy="170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275084"/>
          <p:cNvPicPr/>
          <p:nvPr/>
        </p:nvPicPr>
        <p:blipFill>
          <a:blip r:embed="rId3"/>
          <a:stretch/>
        </p:blipFill>
        <p:spPr>
          <a:xfrm>
            <a:off x="6877080" y="5516640"/>
            <a:ext cx="666720" cy="1003320"/>
          </a:xfrm>
          <a:prstGeom prst="rect">
            <a:avLst/>
          </a:prstGeom>
          <a:ln w="76320">
            <a:solidFill>
              <a:srgbClr val="5a352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напиток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словарь объясняет значение слова «напиток» как продукт, предназначенный для пи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«напиток», применяемое в старину только к безалкогольным жидкостям, произошло от слова «напитать», т.е. накормить, насы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напитками первоначально называли только заморские питательные жидкости – кофе, какао, шоколад, чай . В то время не говорили, что кофе и какао пьют- их всегда «кушали», «откушива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онизирующий напиток, обладающий высокими вкусовыми и ароматическими свойств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й – один из самых древних напитков, употребляемых человеком. Родина чая – Китай. Молодой листочек по – китайски называется «тцайей». Отсюда и произошло слово «ча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й не только утоляет жажду, но и способствует снижению артериального давления, помогает при цинге, кори, подагре, остром ревматиз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j0228911"/>
          <p:cNvPicPr/>
          <p:nvPr/>
        </p:nvPicPr>
        <p:blipFill>
          <a:blip r:embed="rId1"/>
          <a:stretch/>
        </p:blipFill>
        <p:spPr>
          <a:xfrm>
            <a:off x="6858000" y="0"/>
            <a:ext cx="1836720" cy="1430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Ча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539640" y="260280"/>
            <a:ext cx="820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что содержится в чае ?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900000" y="907920"/>
            <a:ext cx="2303640" cy="6494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Ф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900000" y="1773360"/>
            <a:ext cx="2303640" cy="11523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БИ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900000" y="3068640"/>
            <a:ext cx="2303640" cy="8636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И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00000" y="4076640"/>
            <a:ext cx="2303640" cy="6494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К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4869000"/>
            <a:ext cx="2303640" cy="6490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320364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3276720" y="206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27672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27672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4335480" y="121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611280" y="5661000"/>
            <a:ext cx="2590560" cy="90792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ЕР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4427640" y="97992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буждающее дей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4571280" y="205956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яжущий вк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4572000" y="27619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й аромат, дезинфицирующие и антисептические сво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500720" y="393192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творное действие при различных нарушениях пищева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8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6574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684360" y="404640"/>
            <a:ext cx="4319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ч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6227640" y="189000"/>
            <a:ext cx="2664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6300720" y="1197000"/>
            <a:ext cx="266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ЛЕ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5"/>
          <p:cNvSpPr txBox="1"/>
          <p:nvPr/>
        </p:nvSpPr>
        <p:spPr>
          <a:xfrm>
            <a:off x="6300720" y="2133720"/>
            <a:ext cx="2664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Т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Рисунок22"/>
          <p:cNvPicPr/>
          <p:nvPr/>
        </p:nvPicPr>
        <p:blipFill>
          <a:blip r:embed="rId1"/>
          <a:stretch/>
        </p:blipFill>
        <p:spPr>
          <a:xfrm>
            <a:off x="250920" y="1341360"/>
            <a:ext cx="5333760" cy="141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Рисунок24"/>
          <p:cNvPicPr/>
          <p:nvPr/>
        </p:nvPicPr>
        <p:blipFill>
          <a:blip r:embed="rId2"/>
          <a:stretch/>
        </p:blipFill>
        <p:spPr>
          <a:xfrm>
            <a:off x="179280" y="2924280"/>
            <a:ext cx="6658200" cy="37242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8"/>
          <p:cNvSpPr txBox="1"/>
          <p:nvPr/>
        </p:nvSpPr>
        <p:spPr>
          <a:xfrm>
            <a:off x="6300720" y="3068640"/>
            <a:ext cx="266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Чёрный как ночь, горячий, как огонь, чистый, как ангел, сладкий, как поцелуй любви»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- Кофе. Напиток, история и магическое действие которого окутаны легендами. Первооткрывателем удивительных свойств кофе считается эфиопский пастух Кади. Как – то он решил отдохнуть возле зарослей кофейного дерева. Юноша заметил, что козы после поедания плодов кофе становятся бодрее и игривее. Он последовал их примеру и попробовал кофе, после чего ощутил необыкновенный прилив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191360" y="4272120"/>
            <a:ext cx="19526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ака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на какао были впервые привезены в Европу в 1520 году завоевателем Мексики Эрнаном Кортесом. Ацтеки использовали семена какао для приготовления особого тонизирующего напитка. Свой «чоколатль» атцеки пили без сахара или мёда, но с перцем и ванилью. Затем какао стали выращивать в Венесуэле, Вест – Индии, а с 18 века и в Бразил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Рисунок29"/>
          <p:cNvPicPr/>
          <p:nvPr/>
        </p:nvPicPr>
        <p:blipFill>
          <a:blip r:embed="rId1"/>
          <a:stretch/>
        </p:blipFill>
        <p:spPr>
          <a:xfrm>
            <a:off x="7238880" y="0"/>
            <a:ext cx="1333800" cy="1600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Рисунок28"/>
          <p:cNvPicPr/>
          <p:nvPr/>
        </p:nvPicPr>
        <p:blipFill>
          <a:blip r:embed="rId2"/>
          <a:stretch/>
        </p:blipFill>
        <p:spPr>
          <a:xfrm>
            <a:off x="7238880" y="4952880"/>
            <a:ext cx="144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алейдоскоп ид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5867280" cy="2503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obtel1"/>
          <p:cNvPicPr/>
          <p:nvPr/>
        </p:nvPicPr>
        <p:blipFill>
          <a:blip r:embed="rId2"/>
          <a:stretch/>
        </p:blipFill>
        <p:spPr>
          <a:xfrm>
            <a:off x="3886200" y="3962520"/>
            <a:ext cx="4591080" cy="254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pes"/>
          <p:cNvPicPr/>
          <p:nvPr/>
        </p:nvPicPr>
        <p:blipFill>
          <a:blip r:embed="rId3"/>
          <a:stretch/>
        </p:blipFill>
        <p:spPr>
          <a:xfrm>
            <a:off x="533520" y="1447920"/>
            <a:ext cx="2355840" cy="2886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811260"/>
          <p:cNvPicPr/>
          <p:nvPr/>
        </p:nvPicPr>
        <p:blipFill>
          <a:blip r:embed="rId4"/>
          <a:stretch/>
        </p:blipFill>
        <p:spPr>
          <a:xfrm>
            <a:off x="914400" y="3978360"/>
            <a:ext cx="2639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авила безопасной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санитарно-гигиенические требования к внешнему виду, посуде, продук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технику безопасности при работе с режущими предме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технику безопасности при работе с электропл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знакомить учащихся с технологией приготовления и оформления бутербродов; научить готовить вкусный ча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вивать умение использовать полученные знания на практике, работать в групп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воспитывать бережное отношение к продуктам, трудолюб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актическая рабо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7" name="Picture 4" descr="Рецепт заливка для кисло-сладких маринадов."/>
          <p:cNvPicPr/>
          <p:nvPr/>
        </p:nvPicPr>
        <p:blipFill>
          <a:blip r:embed="rId1"/>
          <a:stretch/>
        </p:blipFill>
        <p:spPr>
          <a:xfrm>
            <a:off x="2743200" y="1447920"/>
            <a:ext cx="3535200" cy="51814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8001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457200" y="58672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Технологическая карта приготовления горячих бутербродов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1447920"/>
          <a:ext cx="8001000" cy="4922640"/>
        </p:xfrm>
        <a:graphic>
          <a:graphicData uri="http://schemas.openxmlformats.org/drawingml/2006/table">
            <a:tbl>
              <a:tblPr/>
              <a:tblGrid>
                <a:gridCol w="4952880"/>
                <a:gridCol w="304812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пособ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ать хлеб кусками толщиной 1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ж, разделочная дос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 взбить в пышную пену, добавить щепотку со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сер или венчик, глубокая ми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очить хлеб в смеси из яиц и обжарить на масле с двух сторон до румяной короч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ворода, лопа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отовые гренки выложить сыр, затем колбасу, украсить зеленью или овощами, выложить в тарел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рел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914400" y="277920"/>
            <a:ext cx="7620120" cy="560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619280" y="692280"/>
            <a:ext cx="626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отовление чая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0" y="380880"/>
            <a:ext cx="15127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914400" y="1600200"/>
          <a:ext cx="7772400" cy="4662360"/>
        </p:xfrm>
        <a:graphic>
          <a:graphicData uri="http://schemas.openxmlformats.org/drawingml/2006/table">
            <a:tbl>
              <a:tblPr/>
              <a:tblGrid>
                <a:gridCol w="1943280"/>
                <a:gridCol w="1431720"/>
                <a:gridCol w="2454480"/>
                <a:gridCol w="1942920"/>
              </a:tblGrid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ду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оду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пригото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уда и инвен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ba3"/>
                    </a:solidFill>
                  </a:tcPr>
                </a:tc>
              </a:tr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ипятить воду. Обдать кипятком чайник для заваривания ч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 для кипячения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ч.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ыпать чай, залить кипятком на 1/3. Дать  настояться 5-10 минут и долить чайник горячей водой до верх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 для заваривания ч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ребования к качеству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хлеб должен быть хорошо обжарен, но не подгорел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р должен быть чуть расплав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ингредиенты должны быть красиво улож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й должен быть прозрачным, без чаинок, ароматным, иметь красивый красновато – коричневы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j0233756"/>
          <p:cNvPicPr/>
          <p:nvPr/>
        </p:nvPicPr>
        <p:blipFill>
          <a:blip r:embed="rId1"/>
          <a:stretch/>
        </p:blipFill>
        <p:spPr>
          <a:xfrm>
            <a:off x="6400800" y="4876920"/>
            <a:ext cx="1969920" cy="17413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7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MCj04044070000[1]"/>
          <p:cNvPicPr/>
          <p:nvPr/>
        </p:nvPicPr>
        <p:blipFill>
          <a:blip r:embed="rId1"/>
          <a:stretch/>
        </p:blipFill>
        <p:spPr>
          <a:xfrm>
            <a:off x="2133720" y="1600200"/>
            <a:ext cx="4343400" cy="4249800"/>
          </a:xfrm>
          <a:prstGeom prst="rect">
            <a:avLst/>
          </a:prstGeom>
          <a:ln w="0">
            <a:noFill/>
          </a:ln>
        </p:spPr>
      </p:pic>
      <p:sp>
        <p:nvSpPr>
          <p:cNvPr id="221" name="WordArt 3"/>
          <p:cNvSpPr txBox="1"/>
          <p:nvPr/>
        </p:nvSpPr>
        <p:spPr>
          <a:xfrm>
            <a:off x="1523880" y="5562720"/>
            <a:ext cx="5867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риятного аппетита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514600" y="7621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Дегус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6248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ение  «Традиции русского чаепит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ение «Что такое «бутерброд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с чем его едя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8d112714b619"/>
          <p:cNvPicPr/>
          <p:nvPr/>
        </p:nvPicPr>
        <p:blipFill>
          <a:blip r:embed="rId1"/>
          <a:stretch/>
        </p:blipFill>
        <p:spPr>
          <a:xfrm>
            <a:off x="6657840" y="1066680"/>
            <a:ext cx="2486160" cy="31244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6"/>
          <p:cNvSpPr/>
          <p:nvPr/>
        </p:nvSpPr>
        <p:spPr>
          <a:xfrm>
            <a:off x="0" y="57913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2" h="21600">
                <a:moveTo>
                  <a:pt x="8704" y="7493"/>
                </a:moveTo>
                <a:lnTo>
                  <a:pt x="12212" y="7493"/>
                </a:lnTo>
                <a:lnTo>
                  <a:pt x="12212" y="12828"/>
                </a:lnTo>
                <a:cubicBezTo>
                  <a:pt x="12212" y="13751"/>
                  <a:pt x="13013" y="14482"/>
                  <a:pt x="14048" y="14482"/>
                </a:cubicBezTo>
                <a:lnTo>
                  <a:pt x="15711" y="14482"/>
                </a:lnTo>
                <a:cubicBezTo>
                  <a:pt x="16747" y="14482"/>
                  <a:pt x="17547" y="13751"/>
                  <a:pt x="17547" y="12828"/>
                </a:cubicBezTo>
                <a:lnTo>
                  <a:pt x="17547" y="7493"/>
                </a:lnTo>
                <a:lnTo>
                  <a:pt x="15711" y="7493"/>
                </a:lnTo>
                <a:lnTo>
                  <a:pt x="19218" y="3985"/>
                </a:lnTo>
                <a:lnTo>
                  <a:pt x="22891" y="7493"/>
                </a:lnTo>
                <a:lnTo>
                  <a:pt x="21055" y="7493"/>
                </a:lnTo>
                <a:lnTo>
                  <a:pt x="21055" y="12828"/>
                </a:lnTo>
                <a:cubicBezTo>
                  <a:pt x="21055" y="15596"/>
                  <a:pt x="18479" y="18155"/>
                  <a:pt x="15711" y="18155"/>
                </a:cubicBezTo>
                <a:lnTo>
                  <a:pt x="14048" y="18155"/>
                </a:lnTo>
                <a:cubicBezTo>
                  <a:pt x="11281" y="18155"/>
                  <a:pt x="8704" y="15596"/>
                  <a:pt x="8704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утербр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Бутерброд» - немецко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rbro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хлеб с маслом» - ломтик хлеба или булки с маслом, сыром, колбасой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 бутербродов – хлеб – наш добрый и постоянный друг, даже когда зачерствеет. Ведь недаром говорят: «Хлеб наш насущный, хоть чёрствый, а вкусн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терброды могут быть различной формы: прямоугольной, квадратной, круглой, треугольной или фигур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, чтобы бутерброды были вкуснее, хлеб нарезают тонкими ломтиками - толщиной 1-1,5 см и обильно покрывают продук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Cj04104550000[1]"/>
          <p:cNvPicPr/>
          <p:nvPr/>
        </p:nvPicPr>
        <p:blipFill>
          <a:blip r:embed="rId1"/>
          <a:stretch/>
        </p:blipFill>
        <p:spPr>
          <a:xfrm>
            <a:off x="0" y="5257800"/>
            <a:ext cx="140004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813"/>
          <p:cNvPicPr/>
          <p:nvPr/>
        </p:nvPicPr>
        <p:blipFill>
          <a:blip r:embed="rId2"/>
          <a:stretch/>
        </p:blipFill>
        <p:spPr>
          <a:xfrm>
            <a:off x="6858000" y="0"/>
            <a:ext cx="19796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лассификация бутерброд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пособу пригото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олодн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оряч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ст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огда используется один вид проду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лож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гда используется несколько видов проду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крыт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огда продукт вид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рыт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андвич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когда продукт не вид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лоист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огда используется несколько слоёв продукта и хлеба и /или бу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ус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анап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личаются меньшим разм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376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2590920"/>
            <a:ext cx="533160" cy="46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j02376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96080" y="4038480"/>
            <a:ext cx="533520" cy="46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j0237603"/>
          <p:cNvPicPr/>
          <p:nvPr/>
        </p:nvPicPr>
        <p:blipFill>
          <a:blip r:embed="rId5"/>
          <a:stretch/>
        </p:blipFill>
        <p:spPr>
          <a:xfrm>
            <a:off x="2666880" y="5410080"/>
            <a:ext cx="5335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419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ст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38080" y="3505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леб (толщиной 1 с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 rot="2061600">
            <a:off x="5486040" y="43434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562720" y="4800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ду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 rot="10800000">
            <a:off x="4038120" y="5105520"/>
            <a:ext cx="1295640" cy="304560"/>
          </a:xfrm>
          <a:prstGeom prst="rightArrow">
            <a:avLst>
              <a:gd name="adj1" fmla="val 50000"/>
              <a:gd name="adj2" fmla="val 10635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45720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крашают зеленью, овощами, яйц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4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рыт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2467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85800" y="17524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леб или булочка (массой до 4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376400">
            <a:off x="3962160" y="2514240"/>
            <a:ext cx="1447560" cy="380880"/>
          </a:xfrm>
          <a:prstGeom prst="rightArrow">
            <a:avLst>
              <a:gd name="adj1" fmla="val 50000"/>
              <a:gd name="adj2" fmla="val 9501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14800" y="50292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ы: помидоры, листья салата, отварное мясо птицы, колбаса, яй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105520" y="289548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мтики намазывают мас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 rot="5400000">
            <a:off x="6553080" y="434340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 rot="12734400">
            <a:off x="2818800" y="556236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09480" y="3276720"/>
            <a:ext cx="38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рху закрывается вторым ломтиком хлеб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45720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усочны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5" descr="kanape"/>
          <p:cNvPicPr/>
          <p:nvPr/>
        </p:nvPicPr>
        <p:blipFill>
          <a:blip r:embed="rId1"/>
          <a:stretch/>
        </p:blipFill>
        <p:spPr>
          <a:xfrm>
            <a:off x="4419720" y="304920"/>
            <a:ext cx="4724280" cy="24685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9"/>
          <p:cNvSpPr txBox="1"/>
          <p:nvPr/>
        </p:nvSpPr>
        <p:spPr>
          <a:xfrm>
            <a:off x="609480" y="16002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НАП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133720" y="129528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33520" y="16002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609480" y="182880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т небольшой размер. Для их приготовления используют поджаренный хлеб толщиной 0,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33520" y="312408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куска хлеба может быть самой разнообразной: прямоугольник, кружочек, ромбик, цветочек, звездочка и др. Поверх хлеба в несколько слоёв выкладывают различные продукты, сочетаемые друг с другом. Для того, чтобы было вкуснее слои продуктов промазывают майонезом. Канапе могут быть и сладкими. Канапе подают на блюдах или вазах, где раскладывают их одним слоем. Маленькие канапе протыкают палочками-шпажками, с помощью которых берут бутерб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omic Sans MS"/>
              </a:rPr>
              <a:t>По виду проду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сные (колбаса, ветчина, сало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ные (икра, копченая, солёная или вареная рыба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дкие (варенье, мед, шоколадное масло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ощные (кетчуп, жареные баклажаны и др.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олочными продуктами (сыр, творожная масс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j0233355"/>
          <p:cNvPicPr/>
          <p:nvPr/>
        </p:nvPicPr>
        <p:blipFill>
          <a:blip r:embed="rId1"/>
          <a:stretch/>
        </p:blipFill>
        <p:spPr>
          <a:xfrm>
            <a:off x="6934320" y="0"/>
            <a:ext cx="1752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ебования к хранению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готовых блю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родукты и готовые блюда хранят закрытыми и не дольше положенного сро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коропортящиеся продукты хранят в холодиль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Нельзя употреблять в пищу несвежие продукты и с истёкшим сроком хранения. Это может привести к отравл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Готовые бутерброды можно хранить в холодильнике 3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j0215895"/>
          <p:cNvPicPr/>
          <p:nvPr/>
        </p:nvPicPr>
        <p:blipFill>
          <a:blip r:embed="rId1"/>
          <a:stretch/>
        </p:blipFill>
        <p:spPr>
          <a:xfrm>
            <a:off x="7391520" y="0"/>
            <a:ext cx="1512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1-09-06T15:09:2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