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D6E9-10E8-478F-944F-1D58D727E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C120-F63B-49CF-9380-3C240AA8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98B9-F615-40B7-9EFA-24F86972E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21B8-470B-477E-9B15-C52618404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4192-39B9-4929-8E10-09F251A9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DCE2-9DD1-4918-8847-490C334D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41D0-2EAB-444F-93F3-37841D76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B69F-5036-46EB-B736-4D50DFD9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7C08-EEC7-4153-A1E2-FC8F0B35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722A-43D6-4A96-AE15-1EDA4E18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FFD9-510C-4488-A35C-486FE5BE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F383-A07F-47E1-BAF8-9F8B72BC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-20520" y="-46080"/>
            <a:ext cx="9264600" cy="6916680"/>
          </a:xfrm>
          <a:prstGeom prst="rect">
            <a:avLst/>
          </a:prstGeom>
          <a:solidFill>
            <a:srgbClr val="b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800000"/>
                </a:solidFill>
                <a:latin typeface="Times New Roman"/>
              </a:rPr>
              <a:t>Готовность к школьному обучени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1"/>
          <a:stretch/>
        </p:blipFill>
        <p:spPr>
          <a:xfrm>
            <a:off x="1581120" y="1862280"/>
            <a:ext cx="612792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-12600" y="-30240"/>
            <a:ext cx="9219960" cy="6975720"/>
          </a:xfrm>
          <a:prstGeom prst="rect">
            <a:avLst/>
          </a:prstGeom>
          <a:solidFill>
            <a:srgbClr val="b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1580"/>
                </a:solidFill>
                <a:latin typeface="Times New Roman"/>
              </a:rPr>
              <a:t>Психологическая готовность к школе</a:t>
            </a:r>
            <a:r>
              <a:rPr b="0" i="1" lang="ru-RU" sz="3600" spc="-1" strike="noStrike">
                <a:solidFill>
                  <a:srgbClr val="001580"/>
                </a:solidFill>
                <a:latin typeface="Times New Roman"/>
              </a:rPr>
              <a:t> - это достаточный уровень развития ребенка для освоения школьных знаний, умений, навы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68400" y="-144360"/>
            <a:ext cx="9099360" cy="7049880"/>
          </a:xfrm>
          <a:prstGeom prst="rect">
            <a:avLst/>
          </a:prstGeom>
          <a:solidFill>
            <a:srgbClr val="b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1580"/>
                </a:solidFill>
                <a:latin typeface="Times New Roman"/>
              </a:rPr>
              <a:t>Приходя в школу, ребенок сталкивается с новой для него ролью-ролью ученика, с новыми взрослыми-учителями, с новыми требованиями, новым коллективом. Поэтому нужно, чтобы ребенок не растерялся, не потерял желание учиться, был активен на уроках, хорошо усваивал новый материал, чтобы оценки радовали ребенка и вас уважаемые родители, а также ребенок мог установить взаимоотношения со сверстниками, решать проблемные ситуации без ушерба для психического и соматического здоров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-7920" y="-27000"/>
            <a:ext cx="9129600" cy="6983280"/>
          </a:xfrm>
          <a:prstGeom prst="rect">
            <a:avLst/>
          </a:prstGeom>
          <a:solidFill>
            <a:srgbClr val="b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1580"/>
                </a:solidFill>
                <a:latin typeface="Times New Roman"/>
              </a:rPr>
              <a:t>Компонентами психологической готовности к школе 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1580"/>
                </a:solidFill>
                <a:latin typeface="Times New Roman"/>
              </a:rPr>
              <a:t>1. Интеллектуальная готовность</a:t>
            </a:r>
            <a:r>
              <a:rPr b="0" i="1" lang="ru-RU" sz="2400" spc="-1" strike="noStrike">
                <a:solidFill>
                  <a:srgbClr val="001580"/>
                </a:solidFill>
                <a:latin typeface="Times New Roman"/>
              </a:rPr>
              <a:t>-</a:t>
            </a:r>
            <a:r>
              <a:rPr b="0" i="1" lang="ru-RU" sz="2000" spc="-1" strike="noStrike">
                <a:solidFill>
                  <a:srgbClr val="001580"/>
                </a:solidFill>
                <a:latin typeface="Times New Roman"/>
              </a:rPr>
              <a:t> наличие широкого кругозора и запаса знаний; сформированность начальных умений учебной деятельности; аналитическое мышление (способность постижения признаков и связей между явлениями, способность действовать по образцу; логическое запоминание; умение выделять учебную задачу и переводить ее в самостоятельную цель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1580"/>
                </a:solidFill>
                <a:latin typeface="Times New Roman"/>
              </a:rPr>
              <a:t>2. Личностная готовность</a:t>
            </a:r>
            <a:r>
              <a:rPr b="0" i="1" lang="ru-RU" sz="2400" spc="-1" strike="noStrike">
                <a:solidFill>
                  <a:srgbClr val="001580"/>
                </a:solidFill>
                <a:latin typeface="Times New Roman"/>
              </a:rPr>
              <a:t> -</a:t>
            </a:r>
            <a:r>
              <a:rPr b="0" i="1" lang="ru-RU" sz="2000" spc="-1" strike="noStrike">
                <a:solidFill>
                  <a:srgbClr val="001580"/>
                </a:solidFill>
                <a:latin typeface="Times New Roman"/>
              </a:rPr>
              <a:t> принятие новой социальной позиции; позитивное отношение к школе, учителям, учебной деятельности, самому себе; развитие познавательных  критериев, любознательности; развитие желания ходить в школу; произвольное управление своим поведением; объективность самооценки; потеря "детскости", непосредств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1580"/>
                </a:solidFill>
                <a:latin typeface="Times New Roman"/>
              </a:rPr>
              <a:t>3. Социально - психологическая готовность </a:t>
            </a:r>
            <a:r>
              <a:rPr b="0" i="1" lang="ru-RU" sz="2400" spc="-1" strike="noStrike">
                <a:solidFill>
                  <a:srgbClr val="001580"/>
                </a:solidFill>
                <a:latin typeface="Times New Roman"/>
              </a:rPr>
              <a:t>-</a:t>
            </a:r>
            <a:r>
              <a:rPr b="0" i="1" lang="ru-RU" sz="2000" spc="-1" strike="noStrike">
                <a:solidFill>
                  <a:srgbClr val="001580"/>
                </a:solidFill>
                <a:latin typeface="Times New Roman"/>
              </a:rPr>
              <a:t> гибкое владение способами установления взаимоотношений; развитие потребности в общении; умение подчиняться правилам и нормам, умение действовать совместно, согласовывать свои дей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1580"/>
                </a:solidFill>
                <a:latin typeface="Times New Roman"/>
              </a:rPr>
              <a:t>4. Эмоционально - волевая готовность</a:t>
            </a:r>
            <a:r>
              <a:rPr b="0" i="1" lang="ru-RU" sz="2400" spc="-1" strike="noStrike">
                <a:solidFill>
                  <a:srgbClr val="001580"/>
                </a:solidFill>
                <a:latin typeface="Times New Roman"/>
              </a:rPr>
              <a:t> - </a:t>
            </a:r>
            <a:r>
              <a:rPr b="0" i="1" lang="ru-RU" sz="2000" spc="-1" strike="noStrike">
                <a:solidFill>
                  <a:srgbClr val="001580"/>
                </a:solidFill>
                <a:latin typeface="Times New Roman"/>
              </a:rPr>
              <a:t>развитие "эмоционального предвосхищения" (предчувствие и переживание отдаленных последствий своей деятельности); эмоциональная устойчивость; сформированность небоязни трудностей; умение ограничивать эмоциональные порывы; умение систематически выполнять зад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3"/>
          <p:cNvSpPr/>
          <p:nvPr/>
        </p:nvSpPr>
        <p:spPr>
          <a:xfrm>
            <a:off x="-41400" y="-208080"/>
            <a:ext cx="9309240" cy="7147080"/>
          </a:xfrm>
          <a:prstGeom prst="rect">
            <a:avLst/>
          </a:prstGeom>
          <a:solidFill>
            <a:srgbClr val="b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1580"/>
                </a:solidFill>
                <a:latin typeface="Times New Roman"/>
              </a:rPr>
              <a:t>Работа будет направлена на развитие следующих процессов и сфер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1580"/>
                </a:solidFill>
                <a:latin typeface="Times New Roman"/>
              </a:rPr>
              <a:t>1. Познавательной сферы:</a:t>
            </a:r>
            <a:r>
              <a:rPr b="0" i="1" lang="ru-RU" sz="2800" spc="-1" strike="noStrike">
                <a:solidFill>
                  <a:srgbClr val="00158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1580"/>
                </a:solidFill>
                <a:latin typeface="Times New Roman"/>
              </a:rPr>
              <a:t>внимания (объема, распределения, устойчивости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80"/>
                </a:solidFill>
                <a:latin typeface="Times New Roman"/>
              </a:rPr>
              <a:t>восприят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80"/>
                </a:solidFill>
                <a:latin typeface="Times New Roman"/>
              </a:rPr>
              <a:t>мышления (образного, логического, абстрактного - ребенок учится обобщать, классифицировать, устанавливать причинно - следственные связи между явлениям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80"/>
                </a:solidFill>
                <a:latin typeface="Times New Roman"/>
              </a:rPr>
              <a:t>памяти (зрительной, вербальной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80"/>
                </a:solidFill>
                <a:latin typeface="Times New Roman"/>
              </a:rPr>
              <a:t>продуктивного воображ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80"/>
                </a:solidFill>
                <a:latin typeface="Times New Roman"/>
              </a:rPr>
              <a:t>пространственных и временных представлений - если данные процессы развиты недостаточно, то могут возникнуть сложности с овладением математикой, чтением, пересказом текс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-41400" y="-250920"/>
            <a:ext cx="9201240" cy="7189920"/>
          </a:xfrm>
          <a:prstGeom prst="rect">
            <a:avLst/>
          </a:prstGeom>
          <a:solidFill>
            <a:srgbClr val="b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1580"/>
                </a:solidFill>
                <a:latin typeface="Times New Roman"/>
              </a:rPr>
              <a:t>2. Развитие эмоциональной сферы:</a:t>
            </a:r>
            <a:r>
              <a:rPr b="1" i="1" lang="ru-RU" sz="2400" spc="-1" strike="noStrike">
                <a:solidFill>
                  <a:srgbClr val="00158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1580"/>
                </a:solidFill>
                <a:latin typeface="Times New Roman"/>
              </a:rPr>
              <a:t>знакомство с простыми и сложными эмоциями, чувствами, умение их выражать и понимать, предполагать, что человек испытывает при возникновении той или иной ситу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80"/>
                </a:solidFill>
                <a:latin typeface="Times New Roman"/>
              </a:rPr>
              <a:t>как можно создать положительную эмоцию, избавиться от отрицательных приемлимым способом - недостаточное развитие данной сферы приводит к конфликтам с окружающими, тревожности, страхам, агрессивному повед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1580"/>
                </a:solidFill>
                <a:latin typeface="Times New Roman"/>
              </a:rPr>
              <a:t>3. Развитие коммуникативных навыков: </a:t>
            </a:r>
            <a:r>
              <a:rPr b="0" i="1" lang="ru-RU" sz="2400" spc="-1" strike="noStrike">
                <a:solidFill>
                  <a:srgbClr val="001580"/>
                </a:solidFill>
                <a:latin typeface="Times New Roman"/>
              </a:rPr>
              <a:t>применяются специальные игры, помогающие ребенку научиться вести диалог, высказывать и обосновывать свое мнение, решать конфликтные, проблемные ситуации - несформированность этих навыков приводит к тому, что ребенок не может занять позицию среди сверстников, становится замкнутым, тревожным, может отказываться от общения, совместных игр, либо проявлять агрессивность, непослушание для привлечения к себе вним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-11160" y="-12600"/>
            <a:ext cx="9209160" cy="6923160"/>
          </a:xfrm>
          <a:prstGeom prst="rect">
            <a:avLst/>
          </a:prstGeom>
          <a:solidFill>
            <a:srgbClr val="b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1580"/>
                </a:solidFill>
                <a:latin typeface="Times New Roman"/>
              </a:rPr>
              <a:t>4. Развитие произвольного поведения и самоконтроля: </a:t>
            </a:r>
            <a:r>
              <a:rPr b="0" i="1" lang="ru-RU" sz="2400" spc="-1" strike="noStrike">
                <a:solidFill>
                  <a:srgbClr val="001580"/>
                </a:solidFill>
                <a:latin typeface="Times New Roman"/>
              </a:rPr>
              <a:t>ребенку необходимо научиться следовать инструкции, подчинять свое поведегие правилам, составлять план своих действий в решении учебных задач, проверять правильность выполнения, руководить своей деятельностью - эта сфера наиболее важна для обучегия в школе, при несформированности ребенок не контролирует свое поведение во время урока, не уднрживает инструкцию, в результате чего в дневнике появляются замечания, а новый учебный материал остается неусвоен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1580"/>
                </a:solidFill>
                <a:latin typeface="Times New Roman"/>
              </a:rPr>
              <a:t>Таким образом психологическая готовность к школе это комплексное явление, некий фундамент, при успешном построении которого ребенок легче адаптируется к школе, усваивает учебный матери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8286840" y="6161040"/>
            <a:ext cx="857160" cy="696960"/>
          </a:xfrm>
          <a:prstGeom prst="smileyFace">
            <a:avLst>
              <a:gd name="adj" fmla="val 9282"/>
            </a:avLst>
          </a:prstGeom>
          <a:solidFill>
            <a:srgbClr val="f3bfff"/>
          </a:solidFill>
          <a:ln w="33840">
            <a:solidFill>
              <a:srgbClr val="2841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dc:language>en-US</dc:language>
  <cp:lastModifiedBy>*</cp:lastModifiedBy>
  <dcterms:modified xsi:type="dcterms:W3CDTF">2013-10-04T05:42:12Z</dcterms:modified>
  <cp:revision>3</cp:revision>
  <dc:subject/>
  <dc:title>Slide 1</dc:title>
</cp:coreProperties>
</file>