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311-C29A-4A74-87E5-10A771AE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A6C-D006-4324-A705-E0462D1A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99D-48AE-4D42-8C1C-990E7D56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424-D7D1-4BDF-A857-4394CD03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611B-4C69-426E-88F1-0D286B5C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45BF-AC6D-43E4-B1F3-05633C89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46D6-A5B7-44D5-A369-F7F0EF83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5D4D-8CAA-4F55-984C-2E10F290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D881-1967-4528-8641-4F7CEA0B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9CA0-A265-427F-AE11-0C6CEC7E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1AF2-8B48-4C5F-AFAC-AE72DE9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A3E-3E58-4E1A-82AC-D45306EB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F830-4558-4FBD-A809-D8490A62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E8C7-2E0C-4414-A0FE-0E43F2C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6EE7-CD3A-4CC3-A9DF-628E3379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3BFF-D2D5-4436-91E1-82C7E351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E4C3-3EB2-4581-94A6-9370EF78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507-F757-4330-9586-01387885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8DB-A36B-48CA-9C62-49D16D39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3FE-A2FF-45E6-9561-786A42A8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49B-214E-4AC6-B4CE-77CAE279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CFB-8791-46AF-B36F-A72A4B0F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676-9536-497D-BAD4-D4DC8A1E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9F3-8A65-4BA3-A58E-04A0FCC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71C8-E761-4931-A3A2-9A276A8D0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705D-7D6F-42E9-827C-7F2EDB8C56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Родительское собрание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в младшей группе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на тему:</a:t>
            </a:r>
            <a:br>
              <a:rPr sz="2800"/>
            </a:br>
            <a:r>
              <a:rPr b="1" lang="en-US" sz="3600" spc="-1" strike="noStrike">
                <a:solidFill>
                  <a:srgbClr val="ccecff"/>
                </a:solidFill>
                <a:latin typeface="Georgia"/>
              </a:rPr>
              <a:t>«На кончиках пальцев»</a:t>
            </a:r>
            <a:br>
              <a:rPr sz="3600"/>
            </a:br>
            <a:r>
              <a:rPr b="1" lang="en-US" sz="2000" spc="-1" strike="noStrike">
                <a:solidFill>
                  <a:srgbClr val="ccecff"/>
                </a:solidFill>
                <a:latin typeface="Georgia"/>
              </a:rPr>
              <a:t>(по развитию речи)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5084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и воспита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ветков Д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ахова Г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Речь - форма общения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дошкольном возрасте она развивается по 2-м взаимосвязанным направлениям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речь ребёнка совершенствуется в процессе общения со взрослыми и сверстниками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речь становится основной перестройки мыслительных процессов и превращается в орудие мыш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748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Основные задачи речевого развития детей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овладение нормами и правилами родного языка, определёнными для каждого возраста;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развитие у детей коммуникативных способностей (способности общаться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ечь у ребёнка можно развивать с помощью развития мелкой моторики ру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353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ппликация, лепка, рисование, пальчиковая гимнас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констру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настольные, развивающие иг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«Истоки творческих способностей и дарований детей на кончиках их пальцев. От пальцев, образно говоря, идут тончайшие ручейки, которые питают источник творческой мысли. Другими словами: чем больше мастерства в детской ладошке, тем умнее ребено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ухомлинс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В.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omic"/>
              </a:rPr>
              <a:t>Пальчиковая игра «Медведь»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comic"/>
              </a:rPr>
              <a:t>(с предметом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медленно засовывайте платочек одним пальцем в кулак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Лез медведь в свою берлогу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се бока свои помял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й, скорее, на подмогу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ишка, кажется, застрял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с силой вытянуть платочек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танция «Творческа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Подберите эпитеты к словам: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снег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человек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ветер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дождь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лу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Century Gothic"/>
              </a:rPr>
              <a:t>Ч и с т о г о в о р к и 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Уп, уп, уп – мама варит суп. (зв. 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Ы, бы, бы – идёт дым из трубы. (зв. 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ублик, баранку, батон и бухан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Жа- жа –жа, есть иголки у еж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Лежит ёжик у ёлки, у ежа игол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Жу-жу-жу молоко дадим е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екарь из теста испё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озаранку». (зв. П-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ПОСЛОВИЦЫ И АФОРИЗМЫ О КНИГ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Хлеб питает тело, а книга питает раз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Много прочёл, да мало учё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Ум без книги, как птица без крыл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Не красна книга письмом, красна ум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С книгой поведешься – ума набереш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Книги читать – не в ладушки игр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Книга – твой друг, без нее как без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06:01:39Z</dcterms:created>
  <dc:creator>Я</dc:creator>
  <dc:description/>
  <dc:language>en-US</dc:language>
  <cp:lastModifiedBy>Я</cp:lastModifiedBy>
  <dcterms:modified xsi:type="dcterms:W3CDTF">2017-08-24T18:57:21Z</dcterms:modified>
  <cp:revision>15</cp:revision>
  <dc:subject/>
  <dc:title>Слайд 1</dc:title>
</cp:coreProperties>
</file>