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60B7-AFE3-4798-993C-0D81492C0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42B4-0558-4D8B-8E03-53A2A62D5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CDDC-267B-42B7-8AF6-43ABDF44B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0326-CE31-4DC6-962D-12D85484D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74614-078D-4F59-A3DA-C107C4A27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1655D-0BE4-407D-8E07-204324665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604E2-3AD0-49BE-A1B1-6FA2650F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D7B8B-2365-47A6-AE5F-8DD9FAF7A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80D89-DC0E-4D7B-B1F6-FC89AEA13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5E321-EEA7-4344-A987-60FD60889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F06FC-07B6-4DCE-9160-276C141D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AF8D-E7E8-4067-B36F-5F15A7C46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BB66F-342C-4179-BAA8-31667617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57019-5897-411F-A386-8432E254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20602-28B8-43A9-8AE3-3632D3D81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5BB5B-1384-41DC-9184-356BFF394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93237-DA44-4FDA-8D5A-619EF8F55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7145-BE6B-4C51-AB50-D58F2985A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7057-4953-41B3-868C-49A88E600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FC67-B570-4BD8-9DA1-3FE9EEA5E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CC32-A830-46A1-A862-859DEBF66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BE8F-EBD6-4975-B012-80F81843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8812-3930-4FB8-A467-69D1EA8A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A03B-AD89-4847-9D42-05691A3D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42ABA-857B-463E-83EA-A27EE1B2B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F3B10-C5DA-430E-AFB7-ECC46834D2C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4920" y="836640"/>
            <a:ext cx="8280360" cy="172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Georgia"/>
              </a:rPr>
              <a:t>Родительское собрание </a:t>
            </a:r>
            <a:br>
              <a:rPr sz="2800"/>
            </a:br>
            <a:r>
              <a:rPr b="1" lang="en-US" sz="2800" spc="-1" strike="noStrike">
                <a:solidFill>
                  <a:srgbClr val="ccecff"/>
                </a:solidFill>
                <a:latin typeface="Georgia"/>
              </a:rPr>
              <a:t>в младшей группе</a:t>
            </a:r>
            <a:br>
              <a:rPr sz="2800"/>
            </a:br>
            <a:r>
              <a:rPr b="1" lang="en-US" sz="2800" spc="-1" strike="noStrike">
                <a:solidFill>
                  <a:srgbClr val="ccecff"/>
                </a:solidFill>
                <a:latin typeface="Georgia"/>
              </a:rPr>
              <a:t>на тему:</a:t>
            </a:r>
            <a:br>
              <a:rPr sz="2800"/>
            </a:br>
            <a:r>
              <a:rPr b="1" lang="en-US" sz="3600" spc="-1" strike="noStrike">
                <a:solidFill>
                  <a:srgbClr val="ccecff"/>
                </a:solidFill>
                <a:latin typeface="Georgia"/>
              </a:rPr>
              <a:t>«На кончиках пальцев»</a:t>
            </a:r>
            <a:br>
              <a:rPr sz="3600"/>
            </a:br>
            <a:r>
              <a:rPr b="1" lang="en-US" sz="2000" spc="-1" strike="noStrike">
                <a:solidFill>
                  <a:srgbClr val="ccecff"/>
                </a:solidFill>
                <a:latin typeface="Georgia"/>
              </a:rPr>
              <a:t>(по развитию речи)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435640" y="508464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дготовили воспитател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Цветков Д.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алахова Г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250920" y="188640"/>
            <a:ext cx="864216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3300"/>
                </a:solidFill>
                <a:latin typeface="Times New Roman"/>
              </a:rPr>
              <a:t>Речь - форма общения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 дошкольном возрасте она развивается по 2-м взаимосвязанным направлениям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речь ребёнка совершенствуется в процессе общения со взрослыми и сверстниками;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речь становится основной перестройки мыслительных процессов и превращается в орудие мышл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8748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Основные задачи речевого развития детей: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- овладение нормами и правилами родного языка, определёнными для каждого возраста;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- развитие у детей коммуникативных способностей (способности общаться)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23640" y="404280"/>
            <a:ext cx="856908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Речь у ребёнка можно развивать с помощью развития мелкой моторики рук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835344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аппликация, лепка, рисование, пальчиковая гимнасти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конструиров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настольные, развивающие игр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«Истоки творческих способностей и дарований детей на кончиках их пальцев. От пальцев, образно говоря, идут тончайшие ручейки, которые питают источник творческой мысли. Другими словами: чем больше мастерства в детской ладошке, тем умнее ребенок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ухомлинск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й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В.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comic"/>
              </a:rPr>
              <a:t>Пальчиковая игра «Медведь» </a:t>
            </a:r>
            <a:br>
              <a:rPr sz="4000"/>
            </a:br>
            <a:r>
              <a:rPr b="1" lang="en-US" sz="4000" spc="-1" strike="noStrike">
                <a:solidFill>
                  <a:srgbClr val="ccecff"/>
                </a:solidFill>
                <a:latin typeface="comic"/>
              </a:rPr>
              <a:t>(с предметом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медленно засовывайте платочек одним пальцем в кулак)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Лез медведь в свою берлогу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Все бока свои помял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Эй, скорее, на подмогу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Мишка, кажется, застрял!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с силой вытянуть платочек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Станция «Творческая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Подберите эпитеты к словам:</a:t>
            </a:r>
            <a:br>
              <a:rPr sz="48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- снег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- человек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- ветер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- дождь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- лун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Century Gothic"/>
              </a:rPr>
              <a:t>Ч и с т о г о в о р к и :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50920" y="765000"/>
            <a:ext cx="864216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Уп, уп, уп – мама варит суп. (зв. П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БЫ, бы, бы – идёт дым из трубы. (зв. Б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Бублик, баранку, батон и буханк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Жа- жа –жа, есть иголки у еж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Лежит ёжик у ёлки, у ежа игол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Жу-жу-жу молоко дадим еж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Пекарь из теста испё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спозаранку». (зв. П-б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ПОСЛОВИЦЫ И АФОРИЗМЫ О КНИГЕ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Хлеб питает тело, а книга питает разу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Много прочёл, да мало учё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Ум без книги, как птица без крылье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Не красна книга письмом, красна ум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С книгой поведешься – ума наберешь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Книги читать – не в ладушки игра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Книга – твой друг, без нее как без ру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7T06:01:39Z</dcterms:created>
  <dc:creator>Я</dc:creator>
  <dc:description/>
  <dc:language>en-US</dc:language>
  <cp:lastModifiedBy>Я</cp:lastModifiedBy>
  <dcterms:modified xsi:type="dcterms:W3CDTF">2017-08-24T18:57:21Z</dcterms:modified>
  <cp:revision>15</cp:revision>
  <dc:subject/>
  <dc:title>Слайд 1</dc:title>
</cp:coreProperties>
</file>