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56B-5BC5-47C5-BD9D-311B5AC8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E1F-409A-441A-BA97-A456296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05D-F429-4D0D-932C-C6B2738D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4E7-CFB2-4822-B36A-E546A80A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394-4E15-417D-BDDF-00135CAB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551-6AE8-4CFD-9201-B70DF475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EB6-DBC8-443D-A4AF-9ACEFFD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979-1677-4545-B79E-FE584DD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0F2-4A00-4C48-AB80-B7935B7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A3B-373A-44D6-A6F1-28588AA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7D1-4B72-4798-9BF9-C979234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A82-8BEA-4513-8E08-C512BDE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865-8163-4C58-945F-CFBE38B8F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Рисунок 6" descr="Рисунок13.png"/>
            <p:cNvPicPr/>
            <p:nvPr/>
          </p:nvPicPr>
          <p:blipFill>
            <a:blip r:embed="rId1"/>
            <a:srcRect l="2310" t="0" r="0" b="170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46" descr="Рисунок2.png"/>
            <p:cNvPicPr/>
            <p:nvPr/>
          </p:nvPicPr>
          <p:blipFill>
            <a:blip r:embed="rId2"/>
            <a:stretch/>
          </p:blipFill>
          <p:spPr>
            <a:xfrm>
              <a:off x="5929200" y="1928880"/>
              <a:ext cx="2952000" cy="47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5600" y="1928520"/>
            <a:ext cx="554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f0"/>
                </a:solidFill>
                <a:latin typeface="Nautilus Pompiliu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5600" y="2637000"/>
            <a:ext cx="55436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Times New Roman"/>
                <a:ea typeface="Century Gothic"/>
              </a:rPr>
              <a:t>«Умножение многозначных чисел на числа, оканчивающиеся        нуля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4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4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4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7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7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0920" y="260280"/>
            <a:ext cx="8642160" cy="6359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250920" y="5132520"/>
            <a:ext cx="1368360" cy="148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78" name=""/>
          <p:cNvGraphicFramePr/>
          <p:nvPr/>
        </p:nvGraphicFramePr>
        <p:xfrm>
          <a:off x="2195640" y="1484280"/>
          <a:ext cx="3600360" cy="33606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  <a:gridCol w="360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9" name="Прямая со стрелкой 33"/>
          <p:cNvCxnSpPr/>
          <p:nvPr/>
        </p:nvCxnSpPr>
        <p:spPr>
          <a:xfrm>
            <a:off x="4562280" y="3068280"/>
            <a:ext cx="1080" cy="5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Прямая соединительная линия 34"/>
          <p:cNvSpPr/>
          <p:nvPr/>
        </p:nvSpPr>
        <p:spPr>
          <a:xfrm>
            <a:off x="2556000" y="2924280"/>
            <a:ext cx="210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5"/>
          <p:cNvSpPr/>
          <p:nvPr/>
        </p:nvSpPr>
        <p:spPr>
          <a:xfrm>
            <a:off x="2571840" y="3673440"/>
            <a:ext cx="210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 flipH="1">
            <a:off x="3141720" y="2506680"/>
            <a:ext cx="185760" cy="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37"/>
          <p:cNvSpPr/>
          <p:nvPr/>
        </p:nvSpPr>
        <p:spPr>
          <a:xfrm flipH="1" flipV="1">
            <a:off x="3151080" y="2506320"/>
            <a:ext cx="176400" cy="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8"/>
          <p:cNvSpPr/>
          <p:nvPr/>
        </p:nvSpPr>
        <p:spPr>
          <a:xfrm flipH="1" flipV="1">
            <a:off x="2455560" y="3327480"/>
            <a:ext cx="198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50"/>
          <p:cNvSpPr/>
          <p:nvPr/>
        </p:nvSpPr>
        <p:spPr>
          <a:xfrm flipV="1">
            <a:off x="2563920" y="325260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8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8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8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1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1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0920" y="260280"/>
            <a:ext cx="8642160" cy="6359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7431120" y="5153040"/>
            <a:ext cx="1317600" cy="1432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Прямоугольник 5"/>
          <p:cNvSpPr/>
          <p:nvPr/>
        </p:nvSpPr>
        <p:spPr>
          <a:xfrm>
            <a:off x="1481040" y="360360"/>
            <a:ext cx="61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bb2ff"/>
                </a:solidFill>
                <a:latin typeface="Times New Roman"/>
                <a:ea typeface="Times New Roman"/>
              </a:rPr>
              <a:t>Алгоритм умножения</a:t>
            </a: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Century Gothic"/>
              </a:rPr>
              <a:t> многозначных чисел на числа, оканчивающиеся нулями</a:t>
            </a:r>
            <a:r>
              <a:rPr b="1" i="1" lang="en-US" sz="2800" spc="-1" strike="noStrike">
                <a:solidFill>
                  <a:srgbClr val="4bb2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963720" y="1746360"/>
            <a:ext cx="718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ножитель записываю так, чтобы нули остались в стороне спр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аю многозначное число на число, не обращая внимания на нули в конце множ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ю неполные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ученному результату приписываю столько нулей сколько их содержалось в сомножит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21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22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23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44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46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7040" y="358920"/>
            <a:ext cx="8640720" cy="63594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150840" y="5153040"/>
            <a:ext cx="1562040" cy="1698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2" name="Прямоугольник 3"/>
          <p:cNvSpPr/>
          <p:nvPr/>
        </p:nvSpPr>
        <p:spPr>
          <a:xfrm>
            <a:off x="539640" y="83664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361 × 240 = 86640       252 × 80 = 20160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50 × 30 = 4500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123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60= 196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200 × 70 =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54000     626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320 =200320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89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 = 53520           412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10=4533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21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70 = 88570       6700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60 = 40200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21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50 = 66300     146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640=9363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54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55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56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6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77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79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331920" y="260280"/>
            <a:ext cx="8567640" cy="63597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7308720" y="4921200"/>
            <a:ext cx="1511280" cy="175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5" name="Прямоугольник 4"/>
          <p:cNvSpPr/>
          <p:nvPr/>
        </p:nvSpPr>
        <p:spPr>
          <a:xfrm>
            <a:off x="1488960" y="1301760"/>
            <a:ext cx="665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Урок полезен, всё поня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Лишь кое-что ещё не яс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Ещё придётся потрудить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Да, трудно всё таки учи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8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8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8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21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1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331920" y="260280"/>
            <a:ext cx="8567640" cy="6359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331920" y="4857840"/>
            <a:ext cx="1331640" cy="16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Прямоугольник 3"/>
          <p:cNvSpPr/>
          <p:nvPr/>
        </p:nvSpPr>
        <p:spPr>
          <a:xfrm>
            <a:off x="1258920" y="127152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Урок полезен, всё поня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Лишь кое-что ещё не яс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Ещё придётся потрудить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Да, трудно всё таки учи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4:26:17Z</dcterms:created>
  <dc:creator>Питинёва Антонина Алексеевна</dc:creator>
  <dc:description/>
  <cp:keywords>шаблон математика клетка цифры</cp:keywords>
  <dc:language>en-US</dc:language>
  <cp:lastModifiedBy>Наталья</cp:lastModifiedBy>
  <dcterms:modified xsi:type="dcterms:W3CDTF">2015-10-12T22:19:10Z</dcterms:modified>
  <cp:revision>93</cp:revision>
  <dc:subject>Шаблон</dc:subject>
  <dc:title>Клетка Цифры Математика</dc:title>
</cp:coreProperties>
</file>