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D11C-C9FD-44D1-B430-4BA8BDB5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544E-53C1-4801-B3A1-A81D114C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93C-7992-49A9-A8EF-39B181EB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2B1-FA2F-48DA-84AF-8B85864D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DE25-6F42-4C9D-929B-F4E4DA37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0FE2-3795-4EAD-8660-104CEDA1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45A9-7B4F-4885-A64F-FA25FD79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03B6-CB6D-4884-8F4A-69F9CA6B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1231-139C-43B3-820B-7C7D0BC8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32C9-3BC6-4667-A727-DF795BEA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9EBE-48CE-4932-B612-4A1C5293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D07-AC60-4562-8A63-3A233483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34D9-F0BD-46E0-9C27-AB80C226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83A9-C7ED-43BF-88DA-83D2BABF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5D68-8AED-40E1-9326-08F369C0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31C9-48FF-4DBC-9522-95D2104D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28CB-33D2-44C9-8914-7520A741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7DD-796A-42F6-A651-155E8C55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141-CF9A-4DCC-8763-76D268AA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18E-FC20-47E8-A4B6-5B48B8EE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E37B-80A3-446F-97C4-DA275488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A249-9522-4D17-B7F4-3D068269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42F0-53A0-42E3-8A4E-BC7705BE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A36F-3A16-4BD0-89B4-E8F12626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C53D-1AF9-4109-A387-83A060FD73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60F0-8CEC-48DB-8F13-53EB6CF42E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1619280" y="1557360"/>
            <a:ext cx="6913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F:\эмблема школы ГБОУ.gif"/>
          <p:cNvPicPr/>
          <p:nvPr/>
        </p:nvPicPr>
        <p:blipFill>
          <a:blip r:embed="rId1"/>
          <a:stretch/>
        </p:blipFill>
        <p:spPr>
          <a:xfrm>
            <a:off x="611280" y="476280"/>
            <a:ext cx="1509480" cy="12193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6"/>
          <p:cNvSpPr/>
          <p:nvPr/>
        </p:nvSpPr>
        <p:spPr>
          <a:xfrm>
            <a:off x="2340000" y="549360"/>
            <a:ext cx="61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XX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научно-практическая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 конференция учащих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«Наука – основа процветающего обществ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1042920" y="3691080"/>
            <a:ext cx="720108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     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Автор работы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колаева Елизавет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ца 7«Б» класса ГБОУ СОШ №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.г.т. Усть-Кинельский Самар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учный руководитель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енина Ольга Петров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 математики ГБОУ СОШ №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.г.т. Усть-Кинельский Самарской области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539640" y="206064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Восточный календарь в математик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1476360" y="-14292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Monotype Corsiva"/>
              </a:rPr>
              <a:t>Библиографический</a:t>
            </a: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Monotype Corsiva"/>
              </a:rPr>
              <a:t>спис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108000" y="404640"/>
            <a:ext cx="856764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Веб-сайт «Задачи». [Электронный ресурс]. 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URL:  http://www.problems.ru.  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Дата обращения:  02.12.201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Веб-сайт «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F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acebook». [Электронный ресурс]. 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URL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:  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FB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.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ru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: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 http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://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fb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.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ru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/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article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/155306/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god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-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krolika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-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kakie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-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goda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-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rojdeniya 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Дата обращения: 27.11.2016 г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Газета «Математика» №1/2008. Шуляковская Т. Новогодняя олимпиада «Год мыши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Журнал «Математика. Всё для учителя» №12/2012.  Горина Л. Что год грядущий нам готови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Лепёхин О.В. Олимпиадные задания по математике 5 – 6 классы. Волгоград: Учитель 2010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Кушнир И. Шедевры школьной математики. Задачи с решениями в двух книгах. Книга 1. ООО «АСТАРТА», г.Киев, 1995 г., 574 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Роль текстовых задач в развитии логического мышления школьников [Электронный ресурс]. 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URL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: http://100pudov.com.ua/subject/62/26429 Дата обращения: 27.11.2015 г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Саблина О. М. О роли нестандартных задач в развитии логического мышления школьников // Молодой ученый. — 2015. — №10. — С. 1280-128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Сайт  «Календарь на каждый день» [Электронный ресурс]. 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URL:  http://calendareveryday.ru/?id=goroskop-vostok.   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Дата обращения: 17.11.2016 г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Животный мир на координатной плоскости. [Электронный ресурс]. 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URL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:  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http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://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te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.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zavantag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.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com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/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docs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/1040/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index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-51775-11.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html 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Дата обращения: 17.12.2016 г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Решение нестандартных задач [Электронный ресурс]. 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URL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:  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http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://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refleader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.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ru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/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ujgbewjge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.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html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 Дата обращения: 21.12.2016 г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2050920" y="4738680"/>
            <a:ext cx="669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16. Математические задачи народов мира. [Электронный ресурс]. 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URL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:  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http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://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nsportal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.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ru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/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shkola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/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algebra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/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library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/2012/03/10/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matematicheskie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-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zadachi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-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narodov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-</a:t>
            </a:r>
            <a:r>
              <a:rPr b="1" lang="en-US" sz="1600" spc="-1" strike="noStrike">
                <a:solidFill>
                  <a:srgbClr val="002060"/>
                </a:solidFill>
                <a:latin typeface="Monotype Corsiva"/>
              </a:rPr>
              <a:t>mira</a:t>
            </a:r>
            <a:r>
              <a:rPr b="1" lang="ru-RU" sz="1600" spc="-1" strike="noStrike">
                <a:solidFill>
                  <a:srgbClr val="002060"/>
                </a:solidFill>
                <a:latin typeface="Monotype Corsiva"/>
              </a:rPr>
              <a:t>. Дата обращения: 12.01.2017 г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Прямоугольник 1"/>
          <p:cNvGrpSpPr/>
          <p:nvPr/>
        </p:nvGrpSpPr>
        <p:grpSpPr>
          <a:xfrm>
            <a:off x="79200" y="2004840"/>
            <a:ext cx="8832960" cy="2779920"/>
            <a:chOff x="79200" y="2004840"/>
            <a:chExt cx="8832960" cy="2779920"/>
          </a:xfrm>
        </p:grpSpPr>
        <p:pic>
          <p:nvPicPr>
            <p:cNvPr id="150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79200" y="2004840"/>
              <a:ext cx="8832960" cy="27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95280" y="2344680"/>
              <a:ext cx="8209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800000"/>
                  </a:solidFill>
                  <a:latin typeface="Times New Roman"/>
                  <a:ea typeface="MS PMincho"/>
                </a:rPr>
                <a:t>СПАСИБО 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800000"/>
                  </a:solidFill>
                  <a:latin typeface="Times New Roman"/>
                  <a:ea typeface="MS PMincho"/>
                </a:rPr>
                <a:t>ЗА ВНИМАНИЕ !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" name="Picture 2" descr="F:\эмблема школы ГБОУ.gif"/>
          <p:cNvPicPr/>
          <p:nvPr/>
        </p:nvPicPr>
        <p:blipFill>
          <a:blip r:embed="rId2"/>
          <a:stretch/>
        </p:blipFill>
        <p:spPr>
          <a:xfrm>
            <a:off x="3348000" y="333360"/>
            <a:ext cx="2519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68360" y="170028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андаш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драя с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рку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1042920" y="765000"/>
            <a:ext cx="70563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 можете использова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ое оформл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оздания своих презентаци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 в своей презентации вы должны указа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точник шаблон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627280" y="5445000"/>
            <a:ext cx="40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йт: http://pedsovet.su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28036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780920"/>
            <a:ext cx="7850160" cy="92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Monotype Corsiva"/>
              </a:rPr>
              <a:t>Цель работы - </a:t>
            </a:r>
            <a:r>
              <a:rPr b="1" i="1" lang="ru-RU" sz="2200" spc="-1" strike="noStrike">
                <a:solidFill>
                  <a:srgbClr val="002060"/>
                </a:solidFill>
                <a:latin typeface="Monotype Corsiva"/>
              </a:rPr>
              <a:t>доказать существование взаимосвязи математики и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Monotype Corsiva"/>
              </a:rPr>
              <a:t>             </a:t>
            </a:r>
            <a:r>
              <a:rPr b="1" i="1" lang="ru-RU" sz="2200" spc="-1" strike="noStrike">
                <a:solidFill>
                  <a:srgbClr val="002060"/>
                </a:solidFill>
                <a:latin typeface="Monotype Corsiva"/>
              </a:rPr>
              <a:t>естественных наук на примерах текстовых задач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62673"/>
                </a:solidFill>
                <a:latin typeface="Monotype Corsiv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1979640" y="476280"/>
            <a:ext cx="6559560" cy="1152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2627280" y="-100080"/>
            <a:ext cx="3578400" cy="576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3"/>
          <a:stretch/>
        </p:blipFill>
        <p:spPr>
          <a:xfrm>
            <a:off x="268200" y="285840"/>
            <a:ext cx="1548000" cy="1622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395280" y="2664000"/>
            <a:ext cx="82803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Monotype Corsiva"/>
              </a:rPr>
              <a:t>  </a:t>
            </a:r>
            <a:r>
              <a:rPr b="1" i="1" lang="ru-RU" sz="2200" spc="-1" strike="noStrike">
                <a:solidFill>
                  <a:srgbClr val="002060"/>
                </a:solidFill>
                <a:latin typeface="Monotype Corsiva"/>
              </a:rPr>
              <a:t>изучить материалы о животных восточного гороскопа в биологии, географ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b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Monotype Corsiva"/>
              </a:rPr>
              <a:t>   </a:t>
            </a:r>
            <a:r>
              <a:rPr b="1" i="1" lang="ru-RU" sz="2200" spc="-1" strike="noStrike">
                <a:solidFill>
                  <a:srgbClr val="002060"/>
                </a:solidFill>
                <a:latin typeface="Monotype Corsiva"/>
              </a:rPr>
              <a:t>собрать сведения об интересных фактах о животных – символах года по восточному календарю применительно математической составляющей темы исследова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b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200" spc="-1" strike="noStrike">
                <a:solidFill>
                  <a:srgbClr val="002060"/>
                </a:solidFill>
                <a:latin typeface="Monotype Corsiva"/>
              </a:rPr>
              <a:t>создать сборник задач  «Восточный календарь в математике» для  обучащихся 5 – 7 классов и мультимедийное приложение к сборник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3638880" y="6519960"/>
            <a:ext cx="30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200"/>
                </a:solidFill>
                <a:latin typeface="Times New Roman"/>
              </a:rPr>
              <a:t>ГБОУ СОШ №2,  Николаева 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186120" y="2349360"/>
            <a:ext cx="140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Monotype Corsiva"/>
              </a:rPr>
              <a:t>Задачи 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79280" y="476280"/>
            <a:ext cx="842508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Объектом</a:t>
            </a: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 исследования </a:t>
            </a:r>
            <a:r>
              <a:rPr b="1" i="1" lang="ru-RU" sz="2400" spc="-1" strike="noStrike">
                <a:solidFill>
                  <a:srgbClr val="002060"/>
                </a:solidFill>
                <a:latin typeface="Monotype Corsiva"/>
              </a:rPr>
              <a:t>является интеграция материала естествознания в математику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Предмет исследования </a:t>
            </a:r>
            <a:r>
              <a:rPr b="1" i="1" lang="ru-RU" sz="2400" spc="-1" strike="noStrike">
                <a:solidFill>
                  <a:srgbClr val="002060"/>
                </a:solidFill>
                <a:latin typeface="Monotype Corsiva"/>
              </a:rPr>
              <a:t>– текстовые зада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Актуальность </a:t>
            </a:r>
            <a:r>
              <a:rPr b="1" i="1" lang="ru-RU" sz="2400" spc="-1" strike="noStrike">
                <a:solidFill>
                  <a:srgbClr val="002060"/>
                </a:solidFill>
                <a:latin typeface="Monotype Corsiva"/>
              </a:rPr>
              <a:t>выбранной темы  обуславливается  тем, что процесс составления и решения задач о животных восточного гороскопа наряду с развитием математических качеств формирует экологическую культур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Гипотеза</a:t>
            </a:r>
            <a:r>
              <a:rPr b="1" i="1" lang="ru-RU" sz="2400" spc="-1" strike="noStrike">
                <a:solidFill>
                  <a:srgbClr val="002060"/>
                </a:solidFill>
                <a:latin typeface="Monotype Corsiva"/>
              </a:rPr>
              <a:t> исследования состоит  в применении нестандартного подхода к изучению математики, выраженного в соединении математического и занимательного материала, способного развить интерес к изучению предмета, повышению качества образова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оугольник 9"/>
          <p:cNvSpPr/>
          <p:nvPr/>
        </p:nvSpPr>
        <p:spPr>
          <a:xfrm>
            <a:off x="3638880" y="6519960"/>
            <a:ext cx="30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200"/>
                </a:solidFill>
                <a:latin typeface="Times New Roman"/>
              </a:rPr>
              <a:t>ГБОУ СОШ №2,  Николаева 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96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4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144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graphnet.ru/images/430460_2013-god-po-vostochnomu-kalendaru.jpg"/>
          <p:cNvPicPr/>
          <p:nvPr/>
        </p:nvPicPr>
        <p:blipFill>
          <a:blip r:embed="rId1"/>
          <a:stretch/>
        </p:blipFill>
        <p:spPr>
          <a:xfrm>
            <a:off x="108000" y="620640"/>
            <a:ext cx="8640720" cy="420696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4" descr=""/>
          <p:cNvPicPr/>
          <p:nvPr/>
        </p:nvPicPr>
        <p:blipFill>
          <a:blip r:embed="rId2"/>
          <a:stretch/>
        </p:blipFill>
        <p:spPr>
          <a:xfrm>
            <a:off x="2170080" y="-189000"/>
            <a:ext cx="4943520" cy="6397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9"/>
          <p:cNvSpPr/>
          <p:nvPr/>
        </p:nvSpPr>
        <p:spPr>
          <a:xfrm>
            <a:off x="3638880" y="6519960"/>
            <a:ext cx="30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200"/>
                </a:solidFill>
                <a:latin typeface="Times New Roman"/>
              </a:rPr>
              <a:t>ГБОУ СОШ №2,  Николаева 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8" descr="red17_1"/>
          <p:cNvPicPr/>
          <p:nvPr/>
        </p:nvPicPr>
        <p:blipFill>
          <a:blip r:embed="rId3"/>
          <a:stretch/>
        </p:blipFill>
        <p:spPr>
          <a:xfrm>
            <a:off x="3635280" y="4869000"/>
            <a:ext cx="27370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Заголовок 1"/>
          <p:cNvSpPr/>
          <p:nvPr/>
        </p:nvSpPr>
        <p:spPr>
          <a:xfrm>
            <a:off x="1619280" y="1557360"/>
            <a:ext cx="6913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F:\эмблема школы ГБОУ.gif"/>
          <p:cNvPicPr/>
          <p:nvPr/>
        </p:nvPicPr>
        <p:blipFill>
          <a:blip r:embed="rId1"/>
          <a:stretch/>
        </p:blipFill>
        <p:spPr>
          <a:xfrm>
            <a:off x="324000" y="620640"/>
            <a:ext cx="1655640" cy="1459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2"/>
          <p:cNvSpPr/>
          <p:nvPr/>
        </p:nvSpPr>
        <p:spPr>
          <a:xfrm>
            <a:off x="1547640" y="620640"/>
            <a:ext cx="72723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Сборник зада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«ВОСТОЧНЫЙ  КАЛЕНДАР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В МАТЕМАТИКЕ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http://klasss.moy.su/raznoee/zodiaki2.png"/>
          <p:cNvPicPr/>
          <p:nvPr/>
        </p:nvPicPr>
        <p:blipFill>
          <a:blip r:embed="rId2"/>
          <a:stretch/>
        </p:blipFill>
        <p:spPr>
          <a:xfrm>
            <a:off x="2700360" y="2637000"/>
            <a:ext cx="3887640" cy="39560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1"/>
          <p:cNvSpPr/>
          <p:nvPr/>
        </p:nvSpPr>
        <p:spPr>
          <a:xfrm>
            <a:off x="3452040" y="6488280"/>
            <a:ext cx="30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200"/>
                </a:solidFill>
                <a:latin typeface="Times New Roman"/>
              </a:rPr>
              <a:t>ГБОУ СОШ №2,  Николаева 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Прямоугольник 3"/>
          <p:cNvGrpSpPr/>
          <p:nvPr/>
        </p:nvGrpSpPr>
        <p:grpSpPr>
          <a:xfrm>
            <a:off x="2176560" y="-115920"/>
            <a:ext cx="5145120" cy="457200"/>
            <a:chOff x="2176560" y="-115920"/>
            <a:chExt cx="5145120" cy="457200"/>
          </a:xfrm>
        </p:grpSpPr>
        <p:pic>
          <p:nvPicPr>
            <p:cNvPr id="107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176560" y="-115920"/>
              <a:ext cx="5145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195640" y="-100080"/>
              <a:ext cx="5113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660033"/>
                  </a:solidFill>
                  <a:latin typeface="Times New Roman"/>
                </a:rPr>
                <a:t>9. ГОД ОБЕЗЬЯНЫ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AutoShape 7"/>
          <p:cNvSpPr/>
          <p:nvPr/>
        </p:nvSpPr>
        <p:spPr>
          <a:xfrm>
            <a:off x="144360" y="404640"/>
            <a:ext cx="6588360" cy="1729080"/>
          </a:xfrm>
          <a:prstGeom prst="verticalScroll">
            <a:avLst>
              <a:gd name="adj" fmla="val 12500"/>
            </a:avLst>
          </a:prstGeom>
          <a:solidFill>
            <a:srgbClr val="f1fad2"/>
          </a:solidFill>
          <a:ln w="9360">
            <a:solidFill>
              <a:srgbClr val="20202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Обезьяна – девятый символ из 12-летнего цикла восточного календаря животных. По своим отличительным чертам Обезьяна является животным активным с яркой индивидуальностью. На Востоке Обезьяна символизирует расто­ропность и сообразительность, проницательность и хитроуми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Rectangle 3" descr=""/>
          <p:cNvPicPr/>
          <p:nvPr/>
        </p:nvPicPr>
        <p:blipFill>
          <a:blip r:embed="rId2"/>
          <a:stretch/>
        </p:blipFill>
        <p:spPr>
          <a:xfrm>
            <a:off x="-6480" y="2322360"/>
            <a:ext cx="8772480" cy="1054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179280" y="342900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00000"/>
                </a:solidFill>
                <a:latin typeface="Times New Roman"/>
              </a:rPr>
              <a:t>Решение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ез мандаринов, имеется 20 + 30 + 40 = 90 фруктов. Обезьяне дают не более одного мандарина, каждая обезьяна съест из этих 90 фруктов по крайней мере два. Значит, обезьян не более, чем 90 : 2 = 4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оугольник 11"/>
          <p:cNvSpPr/>
          <p:nvPr/>
        </p:nvSpPr>
        <p:spPr>
          <a:xfrm>
            <a:off x="3452040" y="6488280"/>
            <a:ext cx="30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200"/>
                </a:solidFill>
                <a:latin typeface="Times New Roman"/>
              </a:rPr>
              <a:t>ГБОУ СОШ №2,  Николаева 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3"/>
          <a:stretch/>
        </p:blipFill>
        <p:spPr>
          <a:xfrm>
            <a:off x="6804000" y="404640"/>
            <a:ext cx="1728720" cy="17305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9"/>
          <p:cNvSpPr/>
          <p:nvPr/>
        </p:nvSpPr>
        <p:spPr>
          <a:xfrm>
            <a:off x="2704680" y="5805360"/>
            <a:ext cx="21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Ответ: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45 обезья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411280" y="4365720"/>
            <a:ext cx="5185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кажем, как можно осчастливить 45 обезьян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5 обезьян съедают: грушу, банан, мандарин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5 обезьян съедают: грушу, персик, мандарин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5 обезьян съедают: персик, банан, мандари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Прямоугольник 3"/>
          <p:cNvGrpSpPr/>
          <p:nvPr/>
        </p:nvGrpSpPr>
        <p:grpSpPr>
          <a:xfrm>
            <a:off x="2176560" y="-115920"/>
            <a:ext cx="5145120" cy="457200"/>
            <a:chOff x="2176560" y="-115920"/>
            <a:chExt cx="5145120" cy="457200"/>
          </a:xfrm>
        </p:grpSpPr>
        <p:pic>
          <p:nvPicPr>
            <p:cNvPr id="117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176560" y="-115920"/>
              <a:ext cx="5145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195640" y="-100080"/>
              <a:ext cx="5113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660033"/>
                  </a:solidFill>
                  <a:latin typeface="Times New Roman"/>
                </a:rPr>
                <a:t>10. ГОД ПЕТУХ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AutoShape 7"/>
          <p:cNvSpPr/>
          <p:nvPr/>
        </p:nvSpPr>
        <p:spPr>
          <a:xfrm>
            <a:off x="144360" y="404640"/>
            <a:ext cx="6659640" cy="1511640"/>
          </a:xfrm>
          <a:prstGeom prst="verticalScroll">
            <a:avLst>
              <a:gd name="adj" fmla="val 12500"/>
            </a:avLst>
          </a:prstGeom>
          <a:solidFill>
            <a:srgbClr val="f1fad2"/>
          </a:solidFill>
          <a:ln w="9360">
            <a:solidFill>
              <a:srgbClr val="20202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Monotype Corsiva"/>
              </a:rPr>
              <a:t>Петух – является десятым из 12-летнего цикла животных. Петух, как известно, имеет задиристый характер и беспокойный нрав.</a:t>
            </a:r>
            <a:br>
              <a:rPr sz="1700"/>
            </a:br>
            <a:r>
              <a:rPr b="1" lang="ru-RU" sz="1700" spc="-1" strike="noStrike">
                <a:solidFill>
                  <a:srgbClr val="002060"/>
                </a:solidFill>
                <a:latin typeface="Monotype Corsiva"/>
              </a:rPr>
              <a:t>Это птица с громким голосом, ярким оперением. Петух всегда несет новое –он просыпается с первыми лучами солнца и сообщает всем о наступлении нового дня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Rectangle 3" descr=""/>
          <p:cNvPicPr/>
          <p:nvPr/>
        </p:nvPicPr>
        <p:blipFill>
          <a:blip r:embed="rId2"/>
          <a:stretch/>
        </p:blipFill>
        <p:spPr>
          <a:xfrm>
            <a:off x="30240" y="1968480"/>
            <a:ext cx="8832600" cy="16956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1"/>
          <p:cNvSpPr/>
          <p:nvPr/>
        </p:nvSpPr>
        <p:spPr>
          <a:xfrm>
            <a:off x="3452040" y="6488280"/>
            <a:ext cx="30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200"/>
                </a:solidFill>
                <a:latin typeface="Times New Roman"/>
              </a:rPr>
              <a:t>ГБОУ СОШ №2,  Николаева 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3280320" y="60213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Ответ: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3  суд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3"/>
          <a:stretch/>
        </p:blipFill>
        <p:spPr>
          <a:xfrm>
            <a:off x="7093080" y="404640"/>
            <a:ext cx="1522440" cy="15116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250920" y="3716280"/>
            <a:ext cx="84978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Решение: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3 + 15 ≤ 28 - число голосов, поданных за Петуха и Ворону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3 + 18 ≤ 31 - число голосов за Петуха и Кукушку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 за Кукушку и Ворону – не больше 18 + 15 ≤ 33  голосов.  Сложив эти три результата, мы оценим сверху удвоенное число всех голосов. (28 + 31 + 33):2=46. Таким образом, число членов жюри не больше  46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13"/>
          <p:cNvSpPr/>
          <p:nvPr/>
        </p:nvSpPr>
        <p:spPr>
          <a:xfrm>
            <a:off x="2411280" y="5013360"/>
            <a:ext cx="626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 другой стороны, из первого объявления Дятла оно не меньше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59 – 13 = 46.  Значит, членов жюри  - 46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14"/>
          <p:cNvSpPr/>
          <p:nvPr/>
        </p:nvSpPr>
        <p:spPr>
          <a:xfrm>
            <a:off x="2340000" y="566100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46 – 33 = 13 - число проголосовавших за Петух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312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636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792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Прямоугольник 3"/>
          <p:cNvGrpSpPr/>
          <p:nvPr/>
        </p:nvGrpSpPr>
        <p:grpSpPr>
          <a:xfrm>
            <a:off x="1384200" y="-115920"/>
            <a:ext cx="6656400" cy="457200"/>
            <a:chOff x="1384200" y="-115920"/>
            <a:chExt cx="6656400" cy="457200"/>
          </a:xfrm>
        </p:grpSpPr>
        <p:pic>
          <p:nvPicPr>
            <p:cNvPr id="128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384200" y="-115920"/>
              <a:ext cx="66564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403280" y="-100080"/>
              <a:ext cx="662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660033"/>
                  </a:solidFill>
                  <a:latin typeface="Times New Roman"/>
                </a:rPr>
                <a:t>13. ЗАДАЧИ, ПОСВЯЩЁННЫЕ ЧИСЛУ 201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AutoShape 7"/>
          <p:cNvSpPr/>
          <p:nvPr/>
        </p:nvSpPr>
        <p:spPr>
          <a:xfrm>
            <a:off x="144360" y="404640"/>
            <a:ext cx="6588360" cy="1008360"/>
          </a:xfrm>
          <a:prstGeom prst="verticalScroll">
            <a:avLst>
              <a:gd name="adj" fmla="val 12500"/>
            </a:avLst>
          </a:prstGeom>
          <a:solidFill>
            <a:srgbClr val="f1fad2"/>
          </a:solidFill>
          <a:ln w="9360">
            <a:solidFill>
              <a:srgbClr val="20202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В этом разделе представлены задачи,  посвящённые числу 2017 – году, в котором составлен данный сборни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Rectangle 3" descr=""/>
          <p:cNvPicPr/>
          <p:nvPr/>
        </p:nvPicPr>
        <p:blipFill>
          <a:blip r:embed="rId2"/>
          <a:stretch/>
        </p:blipFill>
        <p:spPr>
          <a:xfrm>
            <a:off x="42840" y="1573200"/>
            <a:ext cx="8717040" cy="13651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11"/>
          <p:cNvSpPr/>
          <p:nvPr/>
        </p:nvSpPr>
        <p:spPr>
          <a:xfrm>
            <a:off x="3452040" y="6488280"/>
            <a:ext cx="30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200"/>
                </a:solidFill>
                <a:latin typeface="Times New Roman"/>
              </a:rPr>
              <a:t>ГБОУ СОШ №2,  Николаева 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9"/>
          <p:cNvSpPr/>
          <p:nvPr/>
        </p:nvSpPr>
        <p:spPr>
          <a:xfrm>
            <a:off x="3710160" y="6021360"/>
            <a:ext cx="21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Ответ: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008 чисе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2484360" y="4365720"/>
            <a:ext cx="62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00000"/>
                </a:solidFill>
                <a:latin typeface="Times New Roman"/>
              </a:rPr>
              <a:t>Решение. </a:t>
            </a:r>
            <a:r>
              <a:rPr b="1" i="1" lang="ru-RU" sz="1700" spc="-1" strike="noStrike">
                <a:solidFill>
                  <a:srgbClr val="000000"/>
                </a:solidFill>
                <a:latin typeface="Times New Roman"/>
              </a:rPr>
              <a:t>Заметим, что в каждом десятке чисел с четной и нечетной суммой поровну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9" descr="http://gallery.yopriceville.com/var/albums/Free-Clipart-Pictures/Christmas-PNG/2017_Gold_and_Red_PNG_Clipart_Image.png?m=1475518378"/>
          <p:cNvPicPr/>
          <p:nvPr/>
        </p:nvPicPr>
        <p:blipFill>
          <a:blip r:embed="rId3"/>
          <a:stretch/>
        </p:blipFill>
        <p:spPr>
          <a:xfrm>
            <a:off x="6804000" y="620640"/>
            <a:ext cx="1779480" cy="7444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6"/>
          <p:cNvSpPr/>
          <p:nvPr/>
        </p:nvSpPr>
        <p:spPr>
          <a:xfrm>
            <a:off x="971640" y="296712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2017 = (9999:9 – 999:9)∙(9 + 9) :9 + 9 + 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4"/>
          <a:stretch/>
        </p:blipFill>
        <p:spPr>
          <a:xfrm>
            <a:off x="92160" y="3554280"/>
            <a:ext cx="8667720" cy="7495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17"/>
          <p:cNvSpPr/>
          <p:nvPr/>
        </p:nvSpPr>
        <p:spPr>
          <a:xfrm>
            <a:off x="2670120" y="558972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того: 201·5+4 – 1 = 1005 + 3 = 100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18"/>
          <p:cNvSpPr/>
          <p:nvPr/>
        </p:nvSpPr>
        <p:spPr>
          <a:xfrm>
            <a:off x="2484360" y="4943520"/>
            <a:ext cx="6120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</a:rPr>
              <a:t>При этом не надо считать 0 и есть числа с чётной суммой цифр 2011, 2013, 2015 и 2017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76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52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68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250920" y="213372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Практическая значимость 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состоит в создании печатного и мультимедийного сборника «Восточный календарь в математике» для  учащихся 5-7 клас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324000" y="83664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Теоретическая значимость 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исследования заключается в подборе занимательных заданий для усвоения математических понятий, развития логического средствами математического образ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324000" y="342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Новизна исследования 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заключается в том, что математика выступила своеобразным инструментом для познания окружающего ми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2627280" y="26028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56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156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Diman</cp:lastModifiedBy>
  <dcterms:modified xsi:type="dcterms:W3CDTF">2017-08-24T18:46:52Z</dcterms:modified>
  <cp:revision>83</cp:revision>
  <dc:subject/>
  <dc:title>Слайд 1</dc:title>
</cp:coreProperties>
</file>