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248-D603-4516-9F8A-1BA0A578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E7A-8C0B-45A7-9932-9C00DE50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BC2-7F25-4AE2-9EF6-6CCEBCDB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D1D-5BEF-42D8-8C11-985C08BC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C6B-530E-4418-8998-9268C4D3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8D0-C7CB-42A8-A3E3-6BE47B0A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784-635F-4A7E-974F-4792D8F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F7B-1C9A-4438-BE1B-B02538C3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4D3-9139-4644-9789-CF803424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496-B7F5-442F-B31B-018D6F04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989-9858-4042-8014-D629EB0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EBB-CA2C-49CF-87CE-25332C6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2D4D-9B63-447E-9EDD-A4A40A77A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0" y="5181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: Миляева Таня, 5 Б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т печатной книги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 электрон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91120" y="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ворчество в науке и искус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all4design.ru/uploads/images/Typography/preview/Typography_10932.jpg"/>
          <p:cNvPicPr/>
          <p:nvPr/>
        </p:nvPicPr>
        <p:blipFill>
          <a:blip r:embed="rId1"/>
          <a:stretch/>
        </p:blipFill>
        <p:spPr>
          <a:xfrm rot="1774800">
            <a:off x="2071440" y="2528640"/>
            <a:ext cx="3009960" cy="3009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f1cd.ru/news/pc/2009/03/pc_610_2.jpg"/>
          <p:cNvPicPr/>
          <p:nvPr/>
        </p:nvPicPr>
        <p:blipFill>
          <a:blip r:embed="rId2"/>
          <a:stretch/>
        </p:blipFill>
        <p:spPr>
          <a:xfrm>
            <a:off x="5410080" y="2514600"/>
            <a:ext cx="32767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52320" y="91404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существования кни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я «книга», «электронная книг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юсы и минусы книги бумажной и электрон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&amp;Pcy;&amp;lcy;&amp;acy;&amp;ncy;&amp;shcy;&amp;iecy;&amp;tcy; &amp;dcy;&amp;lcy;&amp;yacy; &amp;chcy;&amp;tcy;&amp;iecy;&amp;ncy;&amp;icy;&amp;yacy; &amp;icy;&amp;lcy;&amp;icy; &amp;chcy;&amp;icy;&amp;tcy;&amp;acy;&amp;lcy;&amp;kcy;&amp;acy; &amp;ecy;&amp;lcy;&amp;iecy;&amp;kcy;&amp;tcy;&amp;rcy;&amp;ocy;&amp;ncy;&amp;ncy;&amp;ycy;&amp;khcy; &amp;kcy;&amp;ncy;&amp;icy;&amp;gcy; – &amp;chcy;&amp;tcy;&amp;ocy; &amp;vcy;&amp;ycy;&amp;bcy;&amp;rcy;&amp;acy;&amp;tcy;&amp;softcy;? &amp;Ncy;&amp;acy; &amp;zcy;&amp;acy;&amp;mcy;&amp;iecy;&amp;tcy;&amp;kcy;&amp;ucy; &amp;kcy;&amp;ncy;&amp;icy;&amp;gcy;&amp;ocy;&amp;chcy;&amp;iecy;&amp;yacy;&amp;mcy;"/>
          <p:cNvPicPr/>
          <p:nvPr/>
        </p:nvPicPr>
        <p:blipFill>
          <a:blip r:embed="rId1"/>
          <a:stretch/>
        </p:blipFill>
        <p:spPr>
          <a:xfrm>
            <a:off x="-311040" y="1616040"/>
            <a:ext cx="3840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хема 6" descr=""/>
          <p:cNvPicPr/>
          <p:nvPr/>
        </p:nvPicPr>
        <p:blipFill>
          <a:blip r:embed="rId1"/>
          <a:stretch/>
        </p:blipFill>
        <p:spPr>
          <a:xfrm>
            <a:off x="285840" y="828720"/>
            <a:ext cx="8267760" cy="6035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ОРМЫ СУЩЕСТВОВАНИЯ КНРИ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533520" y="1525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древняя старославянск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пис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иевские глаголические листки» написана около 1000 лет наз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312588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чат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ни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Руси стали появляться после 1522 г. Именно в этом году начала функционировать типография, расположенная в Виль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59342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1971 году Майкл  Хар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оздал первую электронную книгу «Декларация независимости СШ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457200" y="44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аудиоканиг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вилась в 1933 году, когда антрополог Дж. Харрингтон  записал истории и легенды, которые рассказывали в индейских пле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О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2081160" y="106668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ниг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- источник зн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хема 8" descr=""/>
          <p:cNvPicPr/>
          <p:nvPr/>
        </p:nvPicPr>
        <p:blipFill>
          <a:blip r:embed="rId1"/>
          <a:stretch/>
        </p:blipFill>
        <p:spPr>
          <a:xfrm>
            <a:off x="438120" y="2176560"/>
            <a:ext cx="81262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385560"/>
            <a:ext cx="77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почтения при выборе вида кн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1"/>
          <p:cNvGraphicFramePr/>
          <p:nvPr/>
        </p:nvGraphicFramePr>
        <p:xfrm>
          <a:off x="838080" y="1143000"/>
          <a:ext cx="739152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391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2" descr="1.jpg"/>
          <p:cNvPicPr/>
          <p:nvPr/>
        </p:nvPicPr>
        <p:blipFill>
          <a:blip r:embed="rId3"/>
          <a:stretch/>
        </p:blipFill>
        <p:spPr>
          <a:xfrm>
            <a:off x="228600" y="3962520"/>
            <a:ext cx="86104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0" y="6275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А какую книгу читаете 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Какую книгу выбрать: бумажную или электронную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lusana.ru/files/375/573/15.jpg"/>
          <p:cNvPicPr/>
          <p:nvPr/>
        </p:nvPicPr>
        <p:blipFill>
          <a:blip r:embed="rId1"/>
          <a:stretch/>
        </p:blipFill>
        <p:spPr>
          <a:xfrm>
            <a:off x="152280" y="1025640"/>
            <a:ext cx="8763120" cy="583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://onview.by/wp-content/uploads/2013/04/iconbit_hdb700led_2gb_31.jpg"/>
          <p:cNvPicPr/>
          <p:nvPr/>
        </p:nvPicPr>
        <p:blipFill>
          <a:blip r:embed="rId2"/>
          <a:stretch/>
        </p:blipFill>
        <p:spPr>
          <a:xfrm rot="1243200">
            <a:off x="6419520" y="4322880"/>
            <a:ext cx="148896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1"/>
          <p:cNvSpPr/>
          <p:nvPr/>
        </p:nvSpPr>
        <p:spPr>
          <a:xfrm>
            <a:off x="60948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Calibri"/>
              </a:rPr>
              <a:t>Плюсы и минусы печатной книг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хема 4" descr=""/>
          <p:cNvPicPr/>
          <p:nvPr/>
        </p:nvPicPr>
        <p:blipFill>
          <a:blip r:embed="rId1"/>
          <a:stretch/>
        </p:blipFill>
        <p:spPr>
          <a:xfrm>
            <a:off x="5072040" y="1212840"/>
            <a:ext cx="3505320" cy="5121360"/>
          </a:xfrm>
          <a:prstGeom prst="rect">
            <a:avLst/>
          </a:prstGeom>
          <a:ln w="0">
            <a:noFill/>
          </a:ln>
        </p:spPr>
      </p:pic>
      <p:pic>
        <p:nvPicPr>
          <p:cNvPr id="74" name="Схема 5" descr=""/>
          <p:cNvPicPr/>
          <p:nvPr/>
        </p:nvPicPr>
        <p:blipFill>
          <a:blip r:embed="rId2"/>
          <a:stretch/>
        </p:blipFill>
        <p:spPr>
          <a:xfrm>
            <a:off x="731880" y="1444680"/>
            <a:ext cx="3479760" cy="3670200"/>
          </a:xfrm>
          <a:prstGeom prst="rect">
            <a:avLst/>
          </a:prstGeom>
          <a:ln w="0">
            <a:noFill/>
          </a:ln>
        </p:spPr>
      </p:pic>
      <p:sp>
        <p:nvSpPr>
          <p:cNvPr id="75" name="Крест 8"/>
          <p:cNvSpPr/>
          <p:nvPr/>
        </p:nvSpPr>
        <p:spPr>
          <a:xfrm>
            <a:off x="5029200" y="1143000"/>
            <a:ext cx="457200" cy="457200"/>
          </a:xfrm>
          <a:prstGeom prst="plus">
            <a:avLst>
              <a:gd name="adj" fmla="val 38185"/>
            </a:avLst>
          </a:prstGeom>
          <a:solidFill>
            <a:srgbClr val="ff0000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609480" y="1371600"/>
            <a:ext cx="609840" cy="15228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www.deepapple.com/i/news/2011-08-a/info220811.jpeg"/>
          <p:cNvPicPr/>
          <p:nvPr/>
        </p:nvPicPr>
        <p:blipFill>
          <a:blip r:embed="rId1"/>
          <a:stretch/>
        </p:blipFill>
        <p:spPr>
          <a:xfrm>
            <a:off x="228600" y="457200"/>
            <a:ext cx="85345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838080" y="609480"/>
            <a:ext cx="77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16200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adfave.ru/wp-content/uploads/2016/08/voav.jpg"/>
          <p:cNvPicPr/>
          <p:nvPr/>
        </p:nvPicPr>
        <p:blipFill>
          <a:blip r:embed="rId1"/>
          <a:stretch/>
        </p:blipFill>
        <p:spPr>
          <a:xfrm>
            <a:off x="1206360" y="1457280"/>
            <a:ext cx="6712200" cy="461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admin</cp:lastModifiedBy>
  <dcterms:modified xsi:type="dcterms:W3CDTF">2017-08-24T09:44:38Z</dcterms:modified>
  <cp:revision>20</cp:revision>
  <dc:subject/>
  <dc:title>При использовании шаблона ссылка на Pedsovet.su обязательна</dc:title>
</cp:coreProperties>
</file>