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FAA-5E6E-425A-9395-2AA3E169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7C8-DFD5-48D2-BC1B-F9B70087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18-F553-4AE4-9550-92EE2E87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505-8939-41FE-AFAF-E976149C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CF3-9F60-43D7-9768-F39DBF6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D41-50D3-4E33-A186-535C893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D98-1C7A-430D-A89C-FB591CA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37A-3569-49E7-B096-AFA245BE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F19-38A5-4893-93F4-9456984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50B-107A-46D4-AC37-9AE5EA5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043-E854-4B31-B5BB-4BFFCCE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67A-A631-42EF-A8F0-55AD0B0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888-AD0A-4189-B062-D811270C7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0" y="5181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Миляева Таня, 5 Б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 печатной книг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 электрон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91120" y="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ворчество в науке и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all4design.ru/uploads/images/Typography/preview/Typography_10932.jpg"/>
          <p:cNvPicPr/>
          <p:nvPr/>
        </p:nvPicPr>
        <p:blipFill>
          <a:blip r:embed="rId1"/>
          <a:stretch/>
        </p:blipFill>
        <p:spPr>
          <a:xfrm rot="1774800">
            <a:off x="2071440" y="2528640"/>
            <a:ext cx="3009960" cy="3009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f1cd.ru/news/pc/2009/03/pc_610_2.jpg"/>
          <p:cNvPicPr/>
          <p:nvPr/>
        </p:nvPicPr>
        <p:blipFill>
          <a:blip r:embed="rId2"/>
          <a:stretch/>
        </p:blipFill>
        <p:spPr>
          <a:xfrm>
            <a:off x="5410080" y="2514600"/>
            <a:ext cx="3276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52320" y="9140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существования кни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я «книга», «электронная кни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юсы и минусы книги бумажной и электро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&amp;Pcy;&amp;lcy;&amp;acy;&amp;ncy;&amp;shcy;&amp;iecy;&amp;tcy; &amp;dcy;&amp;lcy;&amp;yacy; &amp;chcy;&amp;tcy;&amp;iecy;&amp;ncy;&amp;icy;&amp;yacy; &amp;icy;&amp;lcy;&amp;icy; &amp;chcy;&amp;icy;&amp;tcy;&amp;acy;&amp;lcy;&amp;kcy;&amp;acy; &amp;ecy;&amp;lcy;&amp;iecy;&amp;kcy;&amp;tcy;&amp;rcy;&amp;ocy;&amp;ncy;&amp;ncy;&amp;ycy;&amp;khcy; &amp;kcy;&amp;ncy;&amp;icy;&amp;gcy; – &amp;chcy;&amp;tcy;&amp;ocy; &amp;vcy;&amp;ycy;&amp;bcy;&amp;rcy;&amp;acy;&amp;tcy;&amp;softcy;? &amp;Ncy;&amp;acy; &amp;zcy;&amp;acy;&amp;mcy;&amp;iecy;&amp;tcy;&amp;kcy;&amp;ucy; &amp;kcy;&amp;ncy;&amp;icy;&amp;gcy;&amp;ocy;&amp;chcy;&amp;iecy;&amp;yacy;&amp;mcy;"/>
          <p:cNvPicPr/>
          <p:nvPr/>
        </p:nvPicPr>
        <p:blipFill>
          <a:blip r:embed="rId1"/>
          <a:stretch/>
        </p:blipFill>
        <p:spPr>
          <a:xfrm>
            <a:off x="-311040" y="1616040"/>
            <a:ext cx="3840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6" descr=""/>
          <p:cNvPicPr/>
          <p:nvPr/>
        </p:nvPicPr>
        <p:blipFill>
          <a:blip r:embed="rId1"/>
          <a:stretch/>
        </p:blipFill>
        <p:spPr>
          <a:xfrm>
            <a:off x="285840" y="828720"/>
            <a:ext cx="8267760" cy="6035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ОРМЫ СУЩЕСТВОВАНИЯ КНРИ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33520" y="1525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древняя старославянск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пис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иевские глаголические листки» написана около 1000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312588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чат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ни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Руси стали появляться после 1522 г. Именно в этом году начала функционировать типография, расположенная в Ви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59342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971 году Майкл  Хар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здал первую электронную книгу «Декларация независимости С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457200" y="44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аудиока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вилась в 1933 году, когда антрополог Дж. Харрингтон  записал истории и легенды, которые рассказывали в индейских пл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081160" y="10666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ниг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- источник зн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хема 8" descr=""/>
          <p:cNvPicPr/>
          <p:nvPr/>
        </p:nvPicPr>
        <p:blipFill>
          <a:blip r:embed="rId1"/>
          <a:stretch/>
        </p:blipFill>
        <p:spPr>
          <a:xfrm>
            <a:off x="438120" y="2176560"/>
            <a:ext cx="81262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385560"/>
            <a:ext cx="77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чтения при выборе вида кн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1"/>
          <p:cNvGraphicFramePr/>
          <p:nvPr/>
        </p:nvGraphicFramePr>
        <p:xfrm>
          <a:off x="838080" y="1143000"/>
          <a:ext cx="739152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3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2" descr="1.jpg"/>
          <p:cNvPicPr/>
          <p:nvPr/>
        </p:nvPicPr>
        <p:blipFill>
          <a:blip r:embed="rId3"/>
          <a:stretch/>
        </p:blipFill>
        <p:spPr>
          <a:xfrm>
            <a:off x="228600" y="3962520"/>
            <a:ext cx="86104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0" y="6275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А какую книгу читаете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Какую книгу выбрать: бумажную или электронную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lusana.ru/files/375/573/15.jpg"/>
          <p:cNvPicPr/>
          <p:nvPr/>
        </p:nvPicPr>
        <p:blipFill>
          <a:blip r:embed="rId1"/>
          <a:stretch/>
        </p:blipFill>
        <p:spPr>
          <a:xfrm>
            <a:off x="152280" y="1025640"/>
            <a:ext cx="8763120" cy="583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onview.by/wp-content/uploads/2013/04/iconbit_hdb700led_2gb_31.jpg"/>
          <p:cNvPicPr/>
          <p:nvPr/>
        </p:nvPicPr>
        <p:blipFill>
          <a:blip r:embed="rId2"/>
          <a:stretch/>
        </p:blipFill>
        <p:spPr>
          <a:xfrm rot="1243200">
            <a:off x="6419520" y="4322880"/>
            <a:ext cx="148896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60948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Calibri"/>
              </a:rPr>
              <a:t>Плюсы и минусы печатной книг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4" descr=""/>
          <p:cNvPicPr/>
          <p:nvPr/>
        </p:nvPicPr>
        <p:blipFill>
          <a:blip r:embed="rId1"/>
          <a:stretch/>
        </p:blipFill>
        <p:spPr>
          <a:xfrm>
            <a:off x="5072040" y="1212840"/>
            <a:ext cx="3505320" cy="512136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5" descr=""/>
          <p:cNvPicPr/>
          <p:nvPr/>
        </p:nvPicPr>
        <p:blipFill>
          <a:blip r:embed="rId2"/>
          <a:stretch/>
        </p:blipFill>
        <p:spPr>
          <a:xfrm>
            <a:off x="731880" y="1444680"/>
            <a:ext cx="3479760" cy="3670200"/>
          </a:xfrm>
          <a:prstGeom prst="rect">
            <a:avLst/>
          </a:prstGeom>
          <a:ln w="0">
            <a:noFill/>
          </a:ln>
        </p:spPr>
      </p:pic>
      <p:sp>
        <p:nvSpPr>
          <p:cNvPr id="75" name="Крест 8"/>
          <p:cNvSpPr/>
          <p:nvPr/>
        </p:nvSpPr>
        <p:spPr>
          <a:xfrm>
            <a:off x="5029200" y="1143000"/>
            <a:ext cx="457200" cy="457200"/>
          </a:xfrm>
          <a:prstGeom prst="plus">
            <a:avLst>
              <a:gd name="adj" fmla="val 38185"/>
            </a:avLst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609480" y="1371600"/>
            <a:ext cx="609840" cy="15228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deepapple.com/i/news/2011-08-a/info220811.jpeg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838080" y="60948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6200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adfave.ru/wp-content/uploads/2016/08/voav.jpg"/>
          <p:cNvPicPr/>
          <p:nvPr/>
        </p:nvPicPr>
        <p:blipFill>
          <a:blip r:embed="rId1"/>
          <a:stretch/>
        </p:blipFill>
        <p:spPr>
          <a:xfrm>
            <a:off x="1206360" y="1457280"/>
            <a:ext cx="6712200" cy="461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admin</cp:lastModifiedBy>
  <dcterms:modified xsi:type="dcterms:W3CDTF">2017-08-24T09:44:38Z</dcterms:modified>
  <cp:revision>20</cp:revision>
  <dc:subject/>
  <dc:title>При использовании шаблона ссылка на Pedsovet.su обязательна</dc:title>
</cp:coreProperties>
</file>