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3FC-FCCB-4BEF-9F14-F9C04F4E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8D74-552D-419A-B30D-C2D4566E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059-F1A5-4DEF-B0AC-6CDDB956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4AE-5A00-4698-A963-9D91352F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8FC-A4B1-4942-AB60-46650CBC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3407-7C61-421B-9F9A-355CD8A8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BAEE-D280-4071-AFBC-26AD7339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F274-1A18-48AB-865F-EF2A3D81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0AF-3FB4-430C-82A0-62A17B46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150-C1E1-4F71-9B44-5D76CAC3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543-A80A-45C9-83E0-2821697D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DA29-B7CC-4E83-9CA3-FD40C88C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274B-29B9-4D69-B4FE-113F379B1C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etopisi.org/index.php/&#1043;&#1088;&#1091;&#1079;&#1080;&#1085;&#1089;&#1082;&#1080;&#1081;,_&#1043;&#1077;&#1086;&#1088;&#1075;&#1080;&#1081;_&#1040;&#1083;&#1077;&#1082;&#1089;&#1072;&#1085;&#1076;&#1088;&#1086;&#1074;&#1080;&#1095;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353880" y="353880"/>
            <a:ext cx="8240760" cy="2151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http://st.mh.mtk.ru/userfiles/objphotos/flats/640x480/11991290_37850867.jpg"/>
          <p:cNvPicPr/>
          <p:nvPr/>
        </p:nvPicPr>
        <p:blipFill>
          <a:blip r:embed="rId2"/>
          <a:stretch/>
        </p:blipFill>
        <p:spPr>
          <a:xfrm>
            <a:off x="1785960" y="2643120"/>
            <a:ext cx="54007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4572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Лысково и его окрестностях было 28 водяных и 166 ветряных мельниц. Лысковская мука и хлеб славились далеко за пределами Нижегородской губер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5099040" cy="30718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"/>
          <p:cNvPicPr/>
          <p:nvPr/>
        </p:nvPicPr>
        <p:blipFill>
          <a:blip r:embed="rId2"/>
          <a:stretch/>
        </p:blipFill>
        <p:spPr>
          <a:xfrm>
            <a:off x="4214880" y="1338120"/>
            <a:ext cx="4929120" cy="31784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57480" y="357120"/>
            <a:ext cx="414324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ысково в течение трехсот лет было вотчиной князей Грузинских. Особую память в истории Лыскова оставил после себя князь </a:t>
            </a:r>
            <a:r>
              <a:rPr b="0" lang="ru-RU" sz="2800" spc="-1" strike="noStrike" u="sng">
                <a:solidFill>
                  <a:srgbClr val="0b5394"/>
                </a:solidFill>
                <a:uFillTx/>
                <a:latin typeface="Times New Roman"/>
                <a:hlinkClick r:id="rId1"/>
              </a:rPr>
              <a:t>Грузинский Георгий Александрови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Он выделял большие средства на строительство зданий. Им было построено несколько храм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C:\Users\HOME\Desktop\fc34f61d23b74be53ee07d469bd32064_M.jpg"/>
          <p:cNvPicPr/>
          <p:nvPr/>
        </p:nvPicPr>
        <p:blipFill>
          <a:blip r:embed="rId2"/>
          <a:stretch/>
        </p:blipFill>
        <p:spPr>
          <a:xfrm>
            <a:off x="500040" y="2858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HOME\Desktop\img.77465.pc_26_11.jpg"/>
          <p:cNvPicPr/>
          <p:nvPr/>
        </p:nvPicPr>
        <p:blipFill>
          <a:blip r:embed="rId3"/>
          <a:stretch/>
        </p:blipFill>
        <p:spPr>
          <a:xfrm>
            <a:off x="1143000" y="3429000"/>
            <a:ext cx="4429080" cy="33228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231840" y="96840"/>
            <a:ext cx="8905680" cy="1446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OME\Desktop\p1_lyiskovoe.jpg"/>
          <p:cNvPicPr/>
          <p:nvPr/>
        </p:nvPicPr>
        <p:blipFill>
          <a:blip r:embed="rId2"/>
          <a:stretch/>
        </p:blipFill>
        <p:spPr>
          <a:xfrm>
            <a:off x="642960" y="1428840"/>
            <a:ext cx="3516120" cy="23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HOME\Desktop\p1_lyiskovoj.jpg"/>
          <p:cNvPicPr/>
          <p:nvPr/>
        </p:nvPicPr>
        <p:blipFill>
          <a:blip r:embed="rId3"/>
          <a:stretch/>
        </p:blipFill>
        <p:spPr>
          <a:xfrm>
            <a:off x="642960" y="3929040"/>
            <a:ext cx="3571920" cy="237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HOME\Desktop\p1_lyiskovod.jpg"/>
          <p:cNvPicPr/>
          <p:nvPr/>
        </p:nvPicPr>
        <p:blipFill>
          <a:blip r:embed="rId4"/>
          <a:stretch/>
        </p:blipFill>
        <p:spPr>
          <a:xfrm>
            <a:off x="4572000" y="1428840"/>
            <a:ext cx="3500280" cy="2355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:\Users\HOME\Desktop\lyskov441o.jpg"/>
          <p:cNvPicPr/>
          <p:nvPr/>
        </p:nvPicPr>
        <p:blipFill>
          <a:blip r:embed="rId5"/>
          <a:stretch/>
        </p:blipFill>
        <p:spPr>
          <a:xfrm>
            <a:off x="5143680" y="3500280"/>
            <a:ext cx="2381040" cy="31338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зентацию подготовила: Малышева Наталь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: Кузнецова Оксана Евген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-182520" y="311040"/>
            <a:ext cx="9545760" cy="2981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HOME\Desktop\3139241_195.jpg"/>
          <p:cNvPicPr/>
          <p:nvPr/>
        </p:nvPicPr>
        <p:blipFill>
          <a:blip r:embed="rId2"/>
          <a:stretch/>
        </p:blipFill>
        <p:spPr>
          <a:xfrm>
            <a:off x="1714680" y="2660760"/>
            <a:ext cx="5214600" cy="39114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56920" y="1213920"/>
            <a:ext cx="66438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Существует несколько версий происхождения названия «Лысково». Некоторые считают, что оно происходит от Лысой горы, около которой расположен горо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Согласно другой версии носит имя татарского ха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Третьи связывают название с именем атамана В.М. Лыско-Чертова, упоминаемым в истории XY ве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C:\Users\HOME\Desktop\1336664763_004.jpg"/>
          <p:cNvPicPr/>
          <p:nvPr/>
        </p:nvPicPr>
        <p:blipFill>
          <a:blip r:embed="rId1"/>
          <a:stretch/>
        </p:blipFill>
        <p:spPr>
          <a:xfrm>
            <a:off x="-214200" y="0"/>
            <a:ext cx="2571480" cy="25718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4500720"/>
            <a:ext cx="8229600" cy="18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ленина гора – древнейшая крепость, которая дала начало городу Лысков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C:\Users\HOME\Desktop\Безымянный-1.jpg"/>
          <p:cNvPicPr/>
          <p:nvPr/>
        </p:nvPicPr>
        <p:blipFill>
          <a:blip r:embed="rId1"/>
          <a:stretch/>
        </p:blipFill>
        <p:spPr>
          <a:xfrm>
            <a:off x="1785960" y="214200"/>
            <a:ext cx="5915160" cy="423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6160" y="1599840"/>
            <a:ext cx="44006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ерб города Лысков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C:\Users\HOME\Desktop\gerb-goroda-lyskovo-nizhegorodskaya-oblast-0006916569-preview.jpg"/>
          <p:cNvPicPr/>
          <p:nvPr/>
        </p:nvPicPr>
        <p:blipFill>
          <a:blip r:embed="rId1"/>
          <a:srcRect l="2811" t="3207" r="12918" b="4548"/>
          <a:stretch/>
        </p:blipFill>
        <p:spPr>
          <a:xfrm>
            <a:off x="714240" y="785880"/>
            <a:ext cx="3571920" cy="49291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4572000"/>
            <a:ext cx="822960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ород расположен на правом берегу Волги, в 89 км к востоку от Нижнего Новгорода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C:\Users\HOME\Desktop\3187043.jpg"/>
          <p:cNvPicPr/>
          <p:nvPr/>
        </p:nvPicPr>
        <p:blipFill>
          <a:blip r:embed="rId1"/>
          <a:stretch/>
        </p:blipFill>
        <p:spPr>
          <a:xfrm>
            <a:off x="1428840" y="142920"/>
            <a:ext cx="6470640" cy="42847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139680" y="433440"/>
            <a:ext cx="8553600" cy="23889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2"/>
          <a:stretch/>
        </p:blipFill>
        <p:spPr>
          <a:xfrm>
            <a:off x="214200" y="2857680"/>
            <a:ext cx="4299120" cy="2447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достопримечательности Лыскова"/>
          <p:cNvPicPr/>
          <p:nvPr/>
        </p:nvPicPr>
        <p:blipFill>
          <a:blip r:embed="rId3"/>
          <a:stretch/>
        </p:blipFill>
        <p:spPr>
          <a:xfrm>
            <a:off x="3286080" y="4000680"/>
            <a:ext cx="4191120" cy="3017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tourprom.ru/site_media/cache/a2/d6/a2d63583bf8fb11653d5e2d8b32931f3.jpg"/>
          <p:cNvPicPr/>
          <p:nvPr/>
        </p:nvPicPr>
        <p:blipFill>
          <a:blip r:embed="rId4"/>
          <a:stretch/>
        </p:blipFill>
        <p:spPr>
          <a:xfrm>
            <a:off x="6215040" y="2286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335736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ысково издавна славилось своими умельцами. Мастера своего дела были известны далеко за пределами нашего края. За их изделиями купцы приезжали со всей России и скупали полностью всю продукц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C:\Users\HOME\Desktop\-4Лысково19век.jpg"/>
          <p:cNvPicPr/>
          <p:nvPr/>
        </p:nvPicPr>
        <p:blipFill>
          <a:blip r:embed="rId1"/>
          <a:stretch/>
        </p:blipFill>
        <p:spPr>
          <a:xfrm>
            <a:off x="1571760" y="214200"/>
            <a:ext cx="6215040" cy="3149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357192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чиная с XVII века, Лысково уже славилось как торгово-промысловое село: Кузнецы, слесари, жестянщики, кровельщики. Кирпичники, гончары, печники, столяры, плотники, пекари, сапожники, портные, кружевницы, мыловары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C:\Users\HOME\Desktop\ETNO13.JPG"/>
          <p:cNvPicPr/>
          <p:nvPr/>
        </p:nvPicPr>
        <p:blipFill>
          <a:blip r:embed="rId1"/>
          <a:stretch/>
        </p:blipFill>
        <p:spPr>
          <a:xfrm>
            <a:off x="142920" y="142920"/>
            <a:ext cx="4522680" cy="292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HOME\Desktop\600px-Kustari_060_Proizsvodstvo_melkih_metallicheskih_izsdelij.jpg"/>
          <p:cNvPicPr/>
          <p:nvPr/>
        </p:nvPicPr>
        <p:blipFill>
          <a:blip r:embed="rId2"/>
          <a:srcRect l="10177" t="10021" r="8484" b="15927"/>
          <a:stretch/>
        </p:blipFill>
        <p:spPr>
          <a:xfrm>
            <a:off x="4643280" y="82440"/>
            <a:ext cx="4286520" cy="33037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3:34:31Z</dcterms:created>
  <dc:creator>luser</dc:creator>
  <dc:description/>
  <dc:language>en-US</dc:language>
  <cp:lastModifiedBy>МБОУ КОШ</cp:lastModifiedBy>
  <dcterms:modified xsi:type="dcterms:W3CDTF">2017-08-24T06:14:55Z</dcterms:modified>
  <cp:revision>50</cp:revision>
  <dc:subject/>
  <dc:title>Царь колокол</dc:title>
</cp:coreProperties>
</file>