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F582-00D5-4472-800F-92E10D1C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609E-134E-48BB-9EC0-CF51CD80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ED4-7FAC-4650-8D0A-8F127B56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935-71F9-4177-AC85-417762B4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1987-58A5-4C5C-9729-438A973B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E3EF-B6CB-440F-AF04-505756EE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B145-5F51-48A8-B706-3444A93C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BD19-0BF9-4E5E-98E2-8FB8FE0C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6577-8C8F-4C65-8BF3-3346071F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D7BD-91E8-49E6-A7E2-6FAAFD85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DE1-1416-4189-8859-1F799342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E79-5688-4757-95E6-304D7CB3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7B15-0363-442E-8D5A-2688F95895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304920" y="706320"/>
            <a:ext cx="8729640" cy="221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429160" y="4285800"/>
            <a:ext cx="3286080" cy="20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1000080" y="128592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вуковые файлы: Православный портал Пред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predanie.ru/music/Kolokolnye_zvony/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1143000" y="242892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хначев Ю.В. Колокол. Наше наследие. 1991. №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ttp://www.trinitas.ru/rus/002/a0217001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785960" y="28584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мая 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476360" y="458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а: Галузина 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Кузнецова О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HOME\Desktop\img7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468360" y="4762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zateevo.ru/userfiles/image/WatIsWhat/Car_Kolokol/carcolocol04.jpg"/>
          <p:cNvPicPr/>
          <p:nvPr/>
        </p:nvPicPr>
        <p:blipFill>
          <a:blip r:embed="rId1"/>
          <a:stretch/>
        </p:blipFill>
        <p:spPr>
          <a:xfrm>
            <a:off x="395280" y="404640"/>
            <a:ext cx="4048200" cy="5477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8" name="Picture 5" descr="http://zateevo.ru/userfiles/image/WatIsWhat/Car_Kolokol/carcolocol05.jpg"/>
          <p:cNvPicPr/>
          <p:nvPr/>
        </p:nvPicPr>
        <p:blipFill>
          <a:blip r:embed="rId2"/>
          <a:stretch/>
        </p:blipFill>
        <p:spPr>
          <a:xfrm>
            <a:off x="5003640" y="981000"/>
            <a:ext cx="3768840" cy="5432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0"/>
          <a:ext cx="9144000" cy="4572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HOME\Desktop\img7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C:\Users\HOME\Desktop\img3.jpg"/>
          <p:cNvPicPr/>
          <p:nvPr/>
        </p:nvPicPr>
        <p:blipFill>
          <a:blip r:embed="rId1"/>
          <a:stretch/>
        </p:blipFill>
        <p:spPr>
          <a:xfrm>
            <a:off x="0" y="106200"/>
            <a:ext cx="9001080" cy="67518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HOME\Desktop\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Users\HOME\Desktop\img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571680" y="500040"/>
            <a:ext cx="3357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арь-колокол в Москве не имеет аналогов в мире. Он остается самым большим и восхищает своими гигантскими размерами и весом посетителей Московского Крем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1" descr="Царь-колокол"/>
          <p:cNvPicPr/>
          <p:nvPr/>
        </p:nvPicPr>
        <p:blipFill>
          <a:blip r:embed="rId1"/>
          <a:stretch/>
        </p:blipFill>
        <p:spPr>
          <a:xfrm>
            <a:off x="4071960" y="428760"/>
            <a:ext cx="4776840" cy="555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HOME\Desktop\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3:34:31Z</dcterms:created>
  <dc:creator>luser</dc:creator>
  <dc:description/>
  <dc:language>en-US</dc:language>
  <cp:lastModifiedBy>МБОУ КОШ</cp:lastModifiedBy>
  <dcterms:modified xsi:type="dcterms:W3CDTF">2017-08-24T06:21:06Z</dcterms:modified>
  <cp:revision>42</cp:revision>
  <dc:subject/>
  <dc:title>Царь колокол</dc:title>
</cp:coreProperties>
</file>