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81A9-A5EB-45ED-A2DC-8C20B5918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0959-6069-46D4-8083-AA05D08D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F35A-4349-48FD-9C65-F8F11B8DD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A9C9-3FCC-4A9D-BD38-1F8503715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6F2E-46AC-4A1E-BAE6-D1FBD651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2967-AD9D-4CC4-9824-D0A0FBF0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A754-D826-4D57-B318-E7EABC96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16A6-B2D3-4136-AE1E-27CDE674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3AD9-3212-44CA-9359-89847008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590B-2680-4B33-9C76-B3903634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1F47-1C0D-4F33-9A71-18C5D2F4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EA91-DBE1-45CA-A71F-4DF0E440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8DB0-38DD-445D-8C71-6304016EB0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304920" y="706320"/>
            <a:ext cx="8729640" cy="2219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5429160" y="4285800"/>
            <a:ext cx="3286080" cy="20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1000080" y="128592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вуковые файлы: Православный портал Пред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predanie.ru/music/Kolokolnye_zvony/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"/>
          <p:cNvSpPr/>
          <p:nvPr/>
        </p:nvSpPr>
        <p:spPr>
          <a:xfrm>
            <a:off x="1143000" y="242892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ухначев Ю.В. Колокол. Наше наследие. 1991. №3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ttp://www.trinitas.ru/rus/002/a0217001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1785960" y="28584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емая литерату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1476360" y="458136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ю подготовила: Галузина 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: Кузнецова О.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HOME\Desktop\img7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468360" y="476280"/>
            <a:ext cx="78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http://zateevo.ru/userfiles/image/WatIsWhat/Car_Kolokol/carcolocol04.jpg"/>
          <p:cNvPicPr/>
          <p:nvPr/>
        </p:nvPicPr>
        <p:blipFill>
          <a:blip r:embed="rId1"/>
          <a:stretch/>
        </p:blipFill>
        <p:spPr>
          <a:xfrm>
            <a:off x="395280" y="404640"/>
            <a:ext cx="4048200" cy="5477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8" name="Picture 5" descr="http://zateevo.ru/userfiles/image/WatIsWhat/Car_Kolokol/carcolocol05.jpg"/>
          <p:cNvPicPr/>
          <p:nvPr/>
        </p:nvPicPr>
        <p:blipFill>
          <a:blip r:embed="rId2"/>
          <a:stretch/>
        </p:blipFill>
        <p:spPr>
          <a:xfrm>
            <a:off x="5003640" y="981000"/>
            <a:ext cx="3768840" cy="5432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4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0"/>
          <a:ext cx="9144000" cy="4572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HOME\Desktop\img7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C:\Users\HOME\Desktop\img3.jpg"/>
          <p:cNvPicPr/>
          <p:nvPr/>
        </p:nvPicPr>
        <p:blipFill>
          <a:blip r:embed="rId1"/>
          <a:stretch/>
        </p:blipFill>
        <p:spPr>
          <a:xfrm>
            <a:off x="0" y="106200"/>
            <a:ext cx="9001080" cy="67518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HOME\Desktop\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C:\Users\HOME\Desktop\img4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571680" y="500040"/>
            <a:ext cx="3357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арь-колокол в Москве не имеет аналогов в мире. Он остается самым большим и восхищает своими гигантскими размерами и весом посетителей Московского Крем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1" descr="Царь-колокол"/>
          <p:cNvPicPr/>
          <p:nvPr/>
        </p:nvPicPr>
        <p:blipFill>
          <a:blip r:embed="rId1"/>
          <a:stretch/>
        </p:blipFill>
        <p:spPr>
          <a:xfrm>
            <a:off x="4071960" y="428760"/>
            <a:ext cx="4776840" cy="5559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HOME\Desktop\img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03:34:31Z</dcterms:created>
  <dc:creator>luser</dc:creator>
  <dc:description/>
  <dc:language>en-US</dc:language>
  <cp:lastModifiedBy>МБОУ КОШ</cp:lastModifiedBy>
  <dcterms:modified xsi:type="dcterms:W3CDTF">2017-08-24T06:21:06Z</dcterms:modified>
  <cp:revision>42</cp:revision>
  <dc:subject/>
  <dc:title>Царь колокол</dc:title>
</cp:coreProperties>
</file>