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DDB-C16D-4C39-BF73-F10CB317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2FF-7908-4884-AF16-B757FA7D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16F-524D-4F91-B1A8-1E7DA154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8B4-06EA-41D6-B792-B7D5C61B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96EB-16B8-4080-9DBC-80A4A30D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868A-0D41-40DB-A36F-AC3B7FE2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F9E7-3D0B-40B5-AB25-87C5D29A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9A76-2D26-4C3E-B63B-4546B3B9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1F47-56A9-4677-9CC7-F79451FE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F388-C2A2-4F7F-AAA0-ED5EF8FD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E1F7-D91C-4E03-9681-E3667C3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FE0-224F-499B-987A-1B0EA99F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56A5-F7F2-43C0-B34D-C75D9A7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1436-E3F5-414C-B283-EE9C8E8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A1F3-23BA-4F52-A944-D07998D1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7460-F65A-4540-9A56-943ADBBA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263A-269B-4F80-893A-34A0962E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997-79FE-4BF6-A476-C6DAF3DD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975-B851-45A2-972E-786EDED6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83D-D7FD-42EF-B8AD-3D6C2078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FC7-5225-4DFD-9CD5-1FFE40AA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FDE-4AF8-414E-A305-A5EB91EF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C7F-B106-41DE-90AE-E19F0F50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F70-B23C-4EA6-9BFE-75CE9E2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0158-2073-4148-ACA1-06F440DF136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6BF0-8167-46C3-B0AD-B7EC317559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11280" y="3860640"/>
            <a:ext cx="7192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ъединение «Академия творчеств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узнецова Светлана Васильевна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51280" y="1341360"/>
            <a:ext cx="448956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257720" cy="5715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2353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635280" y="2997360"/>
            <a:ext cx="4219560" cy="3657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14760" cy="4276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788000" y="404640"/>
            <a:ext cx="331128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6408720" cy="437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516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5280" y="1019160"/>
            <a:ext cx="4897440" cy="344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51280" y="2965320"/>
            <a:ext cx="529272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5042160" cy="412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211640" y="3274920"/>
            <a:ext cx="43210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«Фенька"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роизошло от  английского слова"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ng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" – это создаваемый вручную с помощью бисера, кожи, шнура, проволоки или других материалов плетеный браслет (или просто самодельное украшение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47200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Американские индей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6121440" cy="3973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24368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Американские индей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24000" y="1914480"/>
            <a:ext cx="53276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79280" y="151920"/>
            <a:ext cx="5576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Хипп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295800" cy="439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rcRect l="0" t="0" r="17018" b="0"/>
          <a:stretch/>
        </p:blipFill>
        <p:spPr>
          <a:xfrm>
            <a:off x="539640" y="260280"/>
            <a:ext cx="3167280" cy="286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09800" y="1828800"/>
            <a:ext cx="3771720" cy="1752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50920" y="3284640"/>
            <a:ext cx="48099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omic Sans MS"/>
              </a:rPr>
              <a:t>"Фенька" - это талисман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759280" cy="4308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omic Sans MS"/>
              </a:rPr>
              <a:t>"Фенька" - это талисман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608640" cy="482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330120"/>
            <a:ext cx="3960720" cy="3395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006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4562640" cy="3047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41814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28:50Z</dcterms:created>
  <dc:creator>Елена Флавьяновна</dc:creator>
  <dc:description/>
  <dc:language>en-US</dc:language>
  <cp:lastModifiedBy>LAN_OS</cp:lastModifiedBy>
  <dcterms:modified xsi:type="dcterms:W3CDTF">2007-01-01T19:04:51Z</dcterms:modified>
  <cp:revision>5</cp:revision>
  <dc:subject/>
  <dc:title>Проектно-исследовательская работа «Фенечки»</dc:title>
</cp:coreProperties>
</file>