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18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26.wmf" ContentType="image/x-wmf"/>
  <Override PartName="/ppt/media/image1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F2A6-C9FE-40CE-89A5-C5D7B8BF4D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E8ED-4AAB-4C86-8063-9FCE1B1D4D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53B1-821B-48E9-B6E2-ECE709C106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42B-41CB-430B-AD2C-7239D4ED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8C2-CA9B-4753-95E8-7BE12255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BA3-FEE2-4C14-AC7E-3E62C4AA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FEC-B190-49F0-B15C-FEEA4678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4234-E465-437F-BC93-7B111A01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D8AD-5615-4402-9E72-C6B2AA4A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BB77-12C5-4706-9027-83071847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D05C-050A-4D75-8E32-4AC6AB7F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DBB9-7A39-4706-9967-5B6B8416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DADE-1748-4428-BEB6-18C0C278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273F-248A-4AC4-BA04-1F460452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2FB-3A2C-441F-9A78-073BE005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B6DB-5A3C-4FF0-BAB8-44F64ECB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3FC5-0943-430F-B8BE-10765F20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ED9A-C5AE-4A36-A0E4-0C6E0888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E731-6404-4960-BDE5-A2C9E6F9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949A-835B-4621-B88A-F5B8AC1F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A1BD6-BE12-4047-B78F-599D8A72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193D7-0160-442E-9655-E0230EA6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C840-E0AE-47EF-BA26-1CE1B9E1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09B4F-DA5C-4C85-8375-AB6608E6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3B8D-E2F7-4C58-8117-FB8F34B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9B5-C02F-4D04-B522-850DCC72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5E1B-79A7-411E-8FCF-2BDA0B7E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C6D1-8E15-4404-B241-210BE0E6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5A0C0-0E21-436F-BDA8-243EBC1B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8A20F-600C-439F-ACC7-2E4D88CB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90F8-43FC-4A77-8069-1F7FF212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9684-583A-49AE-B611-8A49A1C0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44D8-C12C-4C97-A1CD-EEBCA5F1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8252-A524-4650-944D-9E73E727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456A-06DE-4BFC-962F-DE66EA6C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33402-A8C6-44AB-84FD-CD17ACF1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30E-2831-40E2-8D8B-8724599F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A4EDC-139B-40ED-ADE6-31571CD1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5CB8-5541-43F2-99F4-6FE5B763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2181B-239E-4735-870C-8A4E231F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973D3-229A-404B-BF3B-7C493C8A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068D0-7F03-4764-B692-B0A69F6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81AE-C179-4CDB-B76F-C4948953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6D17-E3A1-488A-AAE3-B68A079A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954C0-BFFB-4045-9B46-A04B02FA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65C1-F774-4A75-B609-A56FB2E1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24D7-583A-43ED-93EA-C48293CA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C33-66E0-4C97-BBC5-EE2E9E29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B0E57-5DCA-463C-98A7-4590E2F1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FD1C-B6CD-40DC-B572-549C84AF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CD92E-2DA1-4C2E-B7AE-E7106673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DDDF9-07CB-4AC6-9480-27BBEF85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01AC9-669F-4A95-BD05-CBC27381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C0A65-FEBD-4F16-8052-4B2A90E5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4329B-5F90-4E4C-A64D-5AE168A6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AC593-77AB-4F72-A982-E78B7346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DC46F-B617-4995-B029-292993E0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733FF-5E5F-43CA-8598-E7C4ADF6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91A-2814-4260-AB74-678EBD27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90F0C-CFBC-4CE0-9DE6-B1DE6E05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44F13-0336-42D3-9B9D-E02F6E12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94656-762C-4679-AB43-07EF1D6D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36C15-B119-4E1C-9825-AE05A82F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667AD-039C-4021-AB58-5A3AE767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85CDB-EF0B-4207-BCA7-6ADA5FB3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18011-D60C-4856-A616-C9D45FAF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86BC6-EC4E-43FB-9931-AE1EF47F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0A734-7218-44B7-A48B-EFB914C8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5BB34-F85A-4F9B-BC5C-28563770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5A8-EFE9-4AF9-9FE9-FBD8EFE2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96DE-6315-471A-9B76-2A1DC3CE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F92F1-C51B-4F7E-813E-159F9373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66DD5-4901-4E14-83CE-514F8119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603-301C-4726-A5A3-9DA651A9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A63-ABD2-49D0-BE2E-0C9BEC3A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446B-A15C-404C-BD9C-E23FD8E42B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6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39A1-4B47-42B6-A6AF-308EA32B620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DD78-BCE2-4DA2-AA5E-026DB5D66B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6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AC1D-4F20-44F1-B60F-149A6034C49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0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B8B0-2D22-42FE-BE71-824EA4017B8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7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12EC-AB2B-463B-AE11-CCEB8B4A1D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530280" y="237960"/>
            <a:ext cx="7864560" cy="25545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371600" y="4500720"/>
            <a:ext cx="712944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                                      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1" name="Рисунок 3" descr="1-4.jpg"/>
          <p:cNvPicPr/>
          <p:nvPr/>
        </p:nvPicPr>
        <p:blipFill>
          <a:blip r:embed="rId2"/>
          <a:stretch/>
        </p:blipFill>
        <p:spPr>
          <a:xfrm>
            <a:off x="1763640" y="2421000"/>
            <a:ext cx="58104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611280" y="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город Красноярского края – это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Красноярс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autotravel.ru/phalbum/90299/170.jpg"/>
          <p:cNvPicPr/>
          <p:nvPr/>
        </p:nvPicPr>
        <p:blipFill>
          <a:blip r:embed="rId1"/>
          <a:stretch/>
        </p:blipFill>
        <p:spPr>
          <a:xfrm>
            <a:off x="1547640" y="1484280"/>
            <a:ext cx="70567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1697760" y="404640"/>
            <a:ext cx="638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живем в городе Зеленогорск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http://stolitca24.ru/upload/iblock/15f/15ff119454fceead54d3bef2aa857a7a.jpg"/>
          <p:cNvPicPr/>
          <p:nvPr/>
        </p:nvPicPr>
        <p:blipFill>
          <a:blip r:embed="rId1"/>
          <a:stretch/>
        </p:blipFill>
        <p:spPr>
          <a:xfrm>
            <a:off x="1403280" y="1557360"/>
            <a:ext cx="66103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1"/>
          <p:cNvSpPr/>
          <p:nvPr/>
        </p:nvSpPr>
        <p:spPr>
          <a:xfrm>
            <a:off x="2106360" y="404640"/>
            <a:ext cx="58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расположен на реке Ка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http://zelenogorsk24.ru/images/photos/medium/20a079b79f39e91ea8d3fedfac2cf10d.jpg"/>
          <p:cNvPicPr/>
          <p:nvPr/>
        </p:nvPicPr>
        <p:blipFill>
          <a:blip r:embed="rId1"/>
          <a:stretch/>
        </p:blipFill>
        <p:spPr>
          <a:xfrm>
            <a:off x="2050920" y="1628640"/>
            <a:ext cx="5977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2195640" y="0"/>
            <a:ext cx="552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городе много улиц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главная - эта улица Ми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http://www.atomic-energy.ru/files/styles/center/public/images/2014/07/zelenogorsk-admim.jpg?itok=RJsIo_4i"/>
          <p:cNvPicPr/>
          <p:nvPr/>
        </p:nvPicPr>
        <p:blipFill>
          <a:blip r:embed="rId1"/>
          <a:stretch/>
        </p:blipFill>
        <p:spPr>
          <a:xfrm>
            <a:off x="1042920" y="1341360"/>
            <a:ext cx="3241800" cy="2646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http://www.zeladmin.ru/upload/e3/95/da0d6121834c3efe104550a17618.jpeg"/>
          <p:cNvPicPr/>
          <p:nvPr/>
        </p:nvPicPr>
        <p:blipFill>
          <a:blip r:embed="rId2"/>
          <a:stretch/>
        </p:blipFill>
        <p:spPr>
          <a:xfrm>
            <a:off x="5364000" y="1484280"/>
            <a:ext cx="2965680" cy="252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ttp://www.asiacinema.ru/img/images/customers/original/27.jpg"/>
          <p:cNvPicPr/>
          <p:nvPr/>
        </p:nvPicPr>
        <p:blipFill>
          <a:blip r:embed="rId3"/>
          <a:stretch/>
        </p:blipFill>
        <p:spPr>
          <a:xfrm>
            <a:off x="2771640" y="4221000"/>
            <a:ext cx="36356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2202480" y="404640"/>
            <a:ext cx="54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я нашего го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://my.krskstate.ru/upload/iblock/a04/01.jpg"/>
          <p:cNvPicPr/>
          <p:nvPr/>
        </p:nvPicPr>
        <p:blipFill>
          <a:blip r:embed="rId1"/>
          <a:stretch/>
        </p:blipFill>
        <p:spPr>
          <a:xfrm>
            <a:off x="324000" y="1628640"/>
            <a:ext cx="4032000" cy="2462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http://blog.myabc.ru/2010/06/zelenogorsk_16.jpg"/>
          <p:cNvPicPr/>
          <p:nvPr/>
        </p:nvPicPr>
        <p:blipFill>
          <a:blip r:embed="rId2"/>
          <a:stretch/>
        </p:blipFill>
        <p:spPr>
          <a:xfrm>
            <a:off x="5003640" y="2781360"/>
            <a:ext cx="3753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2556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-360" y="1267920"/>
            <a:ext cx="421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сударственный ФЛА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сударственный ГЕР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сударственный ГИМ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4" name="Picture 2" descr="F:\презентация\fdd3264ed752a693bf3e7c4f498a7eae.jpg"/>
          <p:cNvPicPr/>
          <p:nvPr/>
        </p:nvPicPr>
        <p:blipFill>
          <a:blip r:embed="rId2"/>
          <a:stretch/>
        </p:blipFill>
        <p:spPr>
          <a:xfrm>
            <a:off x="5364000" y="765000"/>
            <a:ext cx="2783160" cy="1874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F:\презентация\0_2649a_46951b5a_L.jpg"/>
          <p:cNvPicPr/>
          <p:nvPr/>
        </p:nvPicPr>
        <p:blipFill>
          <a:blip r:embed="rId3"/>
          <a:stretch/>
        </p:blipFill>
        <p:spPr>
          <a:xfrm>
            <a:off x="5796000" y="2637000"/>
            <a:ext cx="1743120" cy="194436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7"/>
          <p:cNvSpPr/>
          <p:nvPr/>
        </p:nvSpPr>
        <p:spPr>
          <a:xfrm>
            <a:off x="4284720" y="4653000"/>
            <a:ext cx="46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ссия — священная наша держава,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ссия — любимая наша страна.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гучая воля, великая слава —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воё достоянье на все времена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 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28760" y="192888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Ф. Глин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9" name="Picture 2" descr="F:\презентация\1307953934_moskau-haupt.jpg"/>
          <p:cNvPicPr/>
          <p:nvPr/>
        </p:nvPicPr>
        <p:blipFill>
          <a:blip r:embed="rId2"/>
          <a:srcRect l="0" t="0" r="-10797" b="0"/>
          <a:stretch/>
        </p:blipFill>
        <p:spPr>
          <a:xfrm>
            <a:off x="2195640" y="1557360"/>
            <a:ext cx="6049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information_items_1328000168"/>
          <p:cNvPicPr/>
          <p:nvPr/>
        </p:nvPicPr>
        <p:blipFill>
          <a:blip r:embed="rId2"/>
          <a:stretch/>
        </p:blipFill>
        <p:spPr>
          <a:xfrm>
            <a:off x="2917800" y="1935000"/>
            <a:ext cx="330840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F:\презентация\PARAD 9 05.jpg"/>
          <p:cNvPicPr/>
          <p:nvPr/>
        </p:nvPicPr>
        <p:blipFill>
          <a:blip r:embed="rId3"/>
          <a:stretch/>
        </p:blipFill>
        <p:spPr>
          <a:xfrm>
            <a:off x="1285920" y="1928880"/>
            <a:ext cx="67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осковский кремль               Собор Василия Блаженного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7" name="Picture 2" descr="F:\презентация\x_8b3d8bd5.jpg"/>
          <p:cNvPicPr/>
          <p:nvPr/>
        </p:nvPicPr>
        <p:blipFill>
          <a:blip r:embed="rId2"/>
          <a:stretch/>
        </p:blipFill>
        <p:spPr>
          <a:xfrm>
            <a:off x="500040" y="2428920"/>
            <a:ext cx="3857760" cy="4429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F:\презентация\moskva.jpeg"/>
          <p:cNvPicPr/>
          <p:nvPr/>
        </p:nvPicPr>
        <p:blipFill>
          <a:blip r:embed="rId3"/>
          <a:stretch/>
        </p:blipFill>
        <p:spPr>
          <a:xfrm>
            <a:off x="4932360" y="1989000"/>
            <a:ext cx="3382920" cy="4389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F:\презентация\x_8b3d8bd5.jpg"/>
          <p:cNvPicPr/>
          <p:nvPr/>
        </p:nvPicPr>
        <p:blipFill>
          <a:blip r:embed="rId4"/>
          <a:stretch/>
        </p:blipFill>
        <p:spPr>
          <a:xfrm>
            <a:off x="539640" y="1989000"/>
            <a:ext cx="38577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4" descr="Карта 2.JPG"/>
          <p:cNvPicPr/>
          <p:nvPr/>
        </p:nvPicPr>
        <p:blipFill>
          <a:blip r:embed="rId1"/>
          <a:stretch/>
        </p:blipFill>
        <p:spPr>
          <a:xfrm>
            <a:off x="5076720" y="1700280"/>
            <a:ext cx="3083040" cy="4522680"/>
          </a:xfrm>
          <a:prstGeom prst="rect">
            <a:avLst/>
          </a:prstGeom>
          <a:ln w="0">
            <a:noFill/>
          </a:ln>
        </p:spPr>
      </p:pic>
      <p:pic>
        <p:nvPicPr>
          <p:cNvPr id="341" name="Заголовок 3" descr=""/>
          <p:cNvPicPr/>
          <p:nvPr/>
        </p:nvPicPr>
        <p:blipFill>
          <a:blip r:embed="rId2"/>
          <a:stretch/>
        </p:blipFill>
        <p:spPr>
          <a:xfrm>
            <a:off x="609480" y="0"/>
            <a:ext cx="8894880" cy="115236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10" descr="flag2.tif"/>
          <p:cNvPicPr/>
          <p:nvPr/>
        </p:nvPicPr>
        <p:blipFill>
          <a:blip r:embed="rId3"/>
          <a:stretch/>
        </p:blipFill>
        <p:spPr>
          <a:xfrm>
            <a:off x="684360" y="1413000"/>
            <a:ext cx="3000240" cy="18637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1"/>
          <p:cNvSpPr/>
          <p:nvPr/>
        </p:nvSpPr>
        <p:spPr>
          <a:xfrm>
            <a:off x="5292720" y="4437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3"/>
          <p:cNvSpPr txBox="1"/>
          <p:nvPr/>
        </p:nvSpPr>
        <p:spPr>
          <a:xfrm>
            <a:off x="5435640" y="3933720"/>
            <a:ext cx="24289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644e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75 лет</a:t>
            </a:r>
            <a:endParaRPr b="1" lang="en-US" sz="1800" spc="1" strike="noStrike">
              <a:ln w="9360">
                <a:solidFill>
                  <a:srgbClr val="a5644e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pic>
        <p:nvPicPr>
          <p:cNvPr id="345" name="Рисунок 5" descr="75.JPG"/>
          <p:cNvPicPr/>
          <p:nvPr/>
        </p:nvPicPr>
        <p:blipFill>
          <a:blip r:embed="rId4"/>
          <a:stretch/>
        </p:blipFill>
        <p:spPr>
          <a:xfrm>
            <a:off x="7201080" y="624852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1"/>
          <p:cNvSpPr/>
          <p:nvPr/>
        </p:nvSpPr>
        <p:spPr>
          <a:xfrm>
            <a:off x="1835280" y="0"/>
            <a:ext cx="564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край располагается на берегу реки Енисей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http://www.tuva.asia/uploads/posts/2011-08/1313765127_verhovya-eniseya.-erzhey.jpg"/>
          <p:cNvPicPr/>
          <p:nvPr/>
        </p:nvPicPr>
        <p:blipFill>
          <a:blip r:embed="rId1"/>
          <a:stretch/>
        </p:blipFill>
        <p:spPr>
          <a:xfrm>
            <a:off x="2050920" y="1628640"/>
            <a:ext cx="554220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611280" y="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юге Красноярского края располагаются Саянские горы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http://static.tonkosti.ru/images/0/09/%D0%9C%D0%B0%D1%81%D1%81%D0%B8%D0%B2_%D0%9C%D0%B0%D0%BD%D1%81%D0%BA%D0%B0%D1%8F_%D0%91%D0%B0%D0%B1%D0%B0,_%D0%9A%D1%80%D0%B0%D1%81%D0%BD%D0%BE%D1%8F%D1%80%D1%81%D0%BA%D0%B8%D0%B5_%D0%A1%D1%82%D0%BE%D0%BB%D0%B1%D1%8B.jpg"/>
          <p:cNvPicPr/>
          <p:nvPr/>
        </p:nvPicPr>
        <p:blipFill>
          <a:blip r:embed="rId1"/>
          <a:stretch/>
        </p:blipFill>
        <p:spPr>
          <a:xfrm>
            <a:off x="250920" y="2349360"/>
            <a:ext cx="4305240" cy="285768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1122120" y="177336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оведник Столб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5148360" y="4076640"/>
            <a:ext cx="2438280" cy="22287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"/>
          <p:cNvPicPr/>
          <p:nvPr/>
        </p:nvPicPr>
        <p:blipFill>
          <a:blip r:embed="rId3"/>
          <a:stretch/>
        </p:blipFill>
        <p:spPr>
          <a:xfrm>
            <a:off x="6588000" y="2133720"/>
            <a:ext cx="2330640" cy="17366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7"/>
          <p:cNvSpPr/>
          <p:nvPr/>
        </p:nvSpPr>
        <p:spPr>
          <a:xfrm>
            <a:off x="6521400" y="1700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ев руч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23:52:14Z</dcterms:created>
  <dc:creator>COMP</dc:creator>
  <dc:description/>
  <dc:language>en-US</dc:language>
  <cp:lastModifiedBy>ola Skaskevich</cp:lastModifiedBy>
  <dcterms:modified xsi:type="dcterms:W3CDTF">2017-08-24T18:02:12Z</dcterms:modified>
  <cp:revision>52</cp:revision>
  <dc:subject/>
  <dc:title>Слайд 1</dc:title>
</cp:coreProperties>
</file>