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8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8748-1198-4F9F-BAE2-8939E09CC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BA0-9CE3-47F1-AF41-2C69AD274D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7AC-CE1E-4012-B01D-AA97F5236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30A-0457-4CEB-AAF9-49CEB61F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7EA-1B46-4548-BFDD-3C3998E0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80E-C607-4EAC-A190-3F48E852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EE7-0D9B-460E-A716-6C79CC87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F01-B6CF-45D4-99A7-4F14E73D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83FF-209C-4A1C-B033-020BCF6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899A-898C-4842-A476-A161A31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BFA0-D7CC-4CA0-8B76-7665781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FE40-75D3-4303-AF2A-B26561A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E3D4-F80A-438A-B45A-A358FBDC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4D8F-33E5-455F-A83F-1FA1478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7CB-9BCC-4E0F-BDB9-8FE63C93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4C7-66D6-442B-802B-EFC4D77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508-16AC-4349-BD89-72F313A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A66D-56A6-4862-AB08-810B795A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F2C-08CD-4DE4-AD66-277E2EA3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3B4C-CFC0-47DF-9270-4D7BA73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1DB4-2F36-4EA5-8D9E-A261862B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04B8-6E5F-4505-ADF0-897B9B7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7AC3-1D44-41B3-B6FA-B622701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70BA-0132-4855-BB64-DA73B39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43C0-AE3E-4477-9C58-1E481DE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23C-B05D-4F69-AE54-7C446BD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535A-C42D-4E7A-AF4F-490DD668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B561-E242-430B-B6D7-9B7A6FD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3B89-E5B1-42FA-A0F8-07FD907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8C7B-0CD3-4E9D-8D24-17CC8CE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9032-08D5-490B-BF72-94A3459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85C7-2A59-4915-9EF2-AF895BC3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0FDD-4452-48BE-841E-9F921C6F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8B47-1D52-4BAE-9778-67EE248E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AA06-62D0-469F-8089-DF1165E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DA2E-9681-4DCC-AFFF-C250E949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830-AFF8-4941-9AFD-42FB40D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C160-DCD8-4867-A98B-91258BB8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6004-74CB-4717-9A69-6B63562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3F1E-03D0-4C3A-86CD-A945ADB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4A1F-27B1-469E-B7C1-894657F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C472-9D4D-4815-8FB3-DBD8CB0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4B24-7856-4F0A-9F62-DB05B9B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5000-FA30-4398-B8B6-791AFBD4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C37A-AFA8-4AED-864A-1BD855F8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6B59-26BB-4023-9196-D3174EC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FBB3-5351-49A4-83B9-9462968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6F1-FEB2-4D03-8B47-5D19C67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6FABC-2107-4694-ADFF-C3D39EBC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6E73-9A8F-4EFA-B879-2A19A90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BB7FB-D6DF-4B23-AFDE-7223151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B251-133E-42B0-AA99-B9A5D634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2853-2608-4A7A-8B47-F6867C2A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46BC-9EC9-4F39-90EA-6155BE8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2E90-0B53-4D94-AC55-D51EA75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B181-4AE8-4AAE-A183-DC6FD72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A5C3-3A01-4305-B024-923050E6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8970-190D-43E4-90C5-595AECB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1CD-C6CF-46E1-B578-9A37BE9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73F6-6903-48F3-812E-5DA9595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3C37-E204-4569-AF0E-430FDA41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3891F-A719-4C21-B7D0-CA0DF31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2295-5463-4D1A-9A87-D4A2E5A5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85A2-5F1D-4297-BE11-B6AE4015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6EAF-B075-4181-BCD7-1833A13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0BE7-C586-40B7-9895-19A7B786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189F-32BE-48B1-85F7-03CFE6A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DC0E-E732-4FE5-882A-6D2ED2C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2C38-6849-4CB4-86F2-A95E0B8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1B3-BE34-438C-9686-9015FE3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01E8D-FBC7-4BAD-BA46-911DBBA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D457D-98F6-41C6-AD55-5A2BAE8A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398E-3D7D-4E4B-86C3-C2B33517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630-2D4D-467B-978F-582A00DA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66E-B28A-4B23-9EBE-B64C2C2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FC2-8D1A-4BA9-A535-D913D17814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6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D75-4EC2-4DE1-83C8-66D24EEAC0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9569-182C-420A-A534-22E0A409B1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6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D70-B480-4975-8F35-0CDF7E79D0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0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BA25-EF24-4AFA-BAE6-6D59F9C7EA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7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12AA-5EE6-467E-8A76-70ED0EE897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530280" y="237960"/>
            <a:ext cx="7864560" cy="25545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71600" y="4500720"/>
            <a:ext cx="71294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                                      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1" name="Рисунок 3" descr="1-4.jpg"/>
          <p:cNvPicPr/>
          <p:nvPr/>
        </p:nvPicPr>
        <p:blipFill>
          <a:blip r:embed="rId2"/>
          <a:stretch/>
        </p:blipFill>
        <p:spPr>
          <a:xfrm>
            <a:off x="1763640" y="2421000"/>
            <a:ext cx="5810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611280" y="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город Красноярского края – э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Красноярс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autotravel.ru/phalbum/90299/170.jpg"/>
          <p:cNvPicPr/>
          <p:nvPr/>
        </p:nvPicPr>
        <p:blipFill>
          <a:blip r:embed="rId1"/>
          <a:stretch/>
        </p:blipFill>
        <p:spPr>
          <a:xfrm>
            <a:off x="1547640" y="1484280"/>
            <a:ext cx="70567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697760" y="404640"/>
            <a:ext cx="63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ем в городе Зеленогорс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http://stolitca24.ru/upload/iblock/15f/15ff119454fceead54d3bef2aa857a7a.jpg"/>
          <p:cNvPicPr/>
          <p:nvPr/>
        </p:nvPicPr>
        <p:blipFill>
          <a:blip r:embed="rId1"/>
          <a:stretch/>
        </p:blipFill>
        <p:spPr>
          <a:xfrm>
            <a:off x="1403280" y="1557360"/>
            <a:ext cx="66103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2106360" y="404640"/>
            <a:ext cx="58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на реке Ка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http://zelenogorsk24.ru/images/photos/medium/20a079b79f39e91ea8d3fedfac2cf10d.jpg"/>
          <p:cNvPicPr/>
          <p:nvPr/>
        </p:nvPicPr>
        <p:blipFill>
          <a:blip r:embed="rId1"/>
          <a:stretch/>
        </p:blipFill>
        <p:spPr>
          <a:xfrm>
            <a:off x="2050920" y="1628640"/>
            <a:ext cx="5977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195640" y="0"/>
            <a:ext cx="55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городе много улиц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главная - эта улица Ми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://www.atomic-energy.ru/files/styles/center/public/images/2014/07/zelenogorsk-admim.jpg?itok=RJsIo_4i"/>
          <p:cNvPicPr/>
          <p:nvPr/>
        </p:nvPicPr>
        <p:blipFill>
          <a:blip r:embed="rId1"/>
          <a:stretch/>
        </p:blipFill>
        <p:spPr>
          <a:xfrm>
            <a:off x="1042920" y="1341360"/>
            <a:ext cx="3241800" cy="2646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zeladmin.ru/upload/e3/95/da0d6121834c3efe104550a17618.jpeg"/>
          <p:cNvPicPr/>
          <p:nvPr/>
        </p:nvPicPr>
        <p:blipFill>
          <a:blip r:embed="rId2"/>
          <a:stretch/>
        </p:blipFill>
        <p:spPr>
          <a:xfrm>
            <a:off x="5364000" y="1484280"/>
            <a:ext cx="2965680" cy="252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asiacinema.ru/img/images/customers/original/27.jpg"/>
          <p:cNvPicPr/>
          <p:nvPr/>
        </p:nvPicPr>
        <p:blipFill>
          <a:blip r:embed="rId3"/>
          <a:stretch/>
        </p:blipFill>
        <p:spPr>
          <a:xfrm>
            <a:off x="2771640" y="4221000"/>
            <a:ext cx="363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2202480" y="40464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 нашего го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://my.krskstate.ru/upload/iblock/a04/01.jpg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2462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http://blog.myabc.ru/2010/06/zelenogorsk_16.jpg"/>
          <p:cNvPicPr/>
          <p:nvPr/>
        </p:nvPicPr>
        <p:blipFill>
          <a:blip r:embed="rId2"/>
          <a:stretch/>
        </p:blipFill>
        <p:spPr>
          <a:xfrm>
            <a:off x="5003640" y="2781360"/>
            <a:ext cx="3753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55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-360" y="1267920"/>
            <a:ext cx="421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ФЛА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ГЕР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сударственный ГИМ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4" name="Picture 2" descr="F:\презентация\fdd3264ed752a693bf3e7c4f498a7eae.jpg"/>
          <p:cNvPicPr/>
          <p:nvPr/>
        </p:nvPicPr>
        <p:blipFill>
          <a:blip r:embed="rId2"/>
          <a:stretch/>
        </p:blipFill>
        <p:spPr>
          <a:xfrm>
            <a:off x="5364000" y="765000"/>
            <a:ext cx="2783160" cy="187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F:\презентация\0_2649a_46951b5a_L.jpg"/>
          <p:cNvPicPr/>
          <p:nvPr/>
        </p:nvPicPr>
        <p:blipFill>
          <a:blip r:embed="rId3"/>
          <a:stretch/>
        </p:blipFill>
        <p:spPr>
          <a:xfrm>
            <a:off x="5796000" y="2637000"/>
            <a:ext cx="1743120" cy="19443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7"/>
          <p:cNvSpPr/>
          <p:nvPr/>
        </p:nvSpPr>
        <p:spPr>
          <a:xfrm>
            <a:off x="4284720" y="465300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 — священная наша держава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 — любимая наша страна.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гучая воля, великая слава —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28760" y="192888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Ф. Глин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9" name="Picture 2" descr="F:\презентация\1307953934_moskau-haupt.jpg"/>
          <p:cNvPicPr/>
          <p:nvPr/>
        </p:nvPicPr>
        <p:blipFill>
          <a:blip r:embed="rId2"/>
          <a:srcRect l="0" t="0" r="-10797" b="0"/>
          <a:stretch/>
        </p:blipFill>
        <p:spPr>
          <a:xfrm>
            <a:off x="2195640" y="1557360"/>
            <a:ext cx="6049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information_items_1328000168"/>
          <p:cNvPicPr/>
          <p:nvPr/>
        </p:nvPicPr>
        <p:blipFill>
          <a:blip r:embed="rId2"/>
          <a:stretch/>
        </p:blipFill>
        <p:spPr>
          <a:xfrm>
            <a:off x="2917800" y="1935000"/>
            <a:ext cx="330840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F:\презентация\PARAD 9 05.jpg"/>
          <p:cNvPicPr/>
          <p:nvPr/>
        </p:nvPicPr>
        <p:blipFill>
          <a:blip r:embed="rId3"/>
          <a:stretch/>
        </p:blipFill>
        <p:spPr>
          <a:xfrm>
            <a:off x="1285920" y="1928880"/>
            <a:ext cx="67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сковский кремль               Собор Василия Блаженног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7" name="Picture 2" descr="F:\презентация\x_8b3d8bd5.jpg"/>
          <p:cNvPicPr/>
          <p:nvPr/>
        </p:nvPicPr>
        <p:blipFill>
          <a:blip r:embed="rId2"/>
          <a:stretch/>
        </p:blipFill>
        <p:spPr>
          <a:xfrm>
            <a:off x="500040" y="2428920"/>
            <a:ext cx="3857760" cy="442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F:\презентация\moskva.jpeg"/>
          <p:cNvPicPr/>
          <p:nvPr/>
        </p:nvPicPr>
        <p:blipFill>
          <a:blip r:embed="rId3"/>
          <a:stretch/>
        </p:blipFill>
        <p:spPr>
          <a:xfrm>
            <a:off x="4932360" y="1989000"/>
            <a:ext cx="3382920" cy="4389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F:\презентация\x_8b3d8bd5.jpg"/>
          <p:cNvPicPr/>
          <p:nvPr/>
        </p:nvPicPr>
        <p:blipFill>
          <a:blip r:embed="rId4"/>
          <a:stretch/>
        </p:blipFill>
        <p:spPr>
          <a:xfrm>
            <a:off x="539640" y="1989000"/>
            <a:ext cx="38577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Карта 2.JPG"/>
          <p:cNvPicPr/>
          <p:nvPr/>
        </p:nvPicPr>
        <p:blipFill>
          <a:blip r:embed="rId1"/>
          <a:stretch/>
        </p:blipFill>
        <p:spPr>
          <a:xfrm>
            <a:off x="5076720" y="1700280"/>
            <a:ext cx="3083040" cy="4522680"/>
          </a:xfrm>
          <a:prstGeom prst="rect">
            <a:avLst/>
          </a:prstGeom>
          <a:ln w="0">
            <a:noFill/>
          </a:ln>
        </p:spPr>
      </p:pic>
      <p:pic>
        <p:nvPicPr>
          <p:cNvPr id="341" name="Заголовок 3" descr=""/>
          <p:cNvPicPr/>
          <p:nvPr/>
        </p:nvPicPr>
        <p:blipFill>
          <a:blip r:embed="rId2"/>
          <a:stretch/>
        </p:blipFill>
        <p:spPr>
          <a:xfrm>
            <a:off x="609480" y="0"/>
            <a:ext cx="8894880" cy="115236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10" descr="flag2.tif"/>
          <p:cNvPicPr/>
          <p:nvPr/>
        </p:nvPicPr>
        <p:blipFill>
          <a:blip r:embed="rId3"/>
          <a:stretch/>
        </p:blipFill>
        <p:spPr>
          <a:xfrm>
            <a:off x="684360" y="1413000"/>
            <a:ext cx="3000240" cy="18637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5292720" y="4437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3"/>
          <p:cNvSpPr txBox="1"/>
          <p:nvPr/>
        </p:nvSpPr>
        <p:spPr>
          <a:xfrm>
            <a:off x="5435640" y="3933720"/>
            <a:ext cx="2428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644e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75 лет</a:t>
            </a:r>
            <a:endParaRPr b="1" lang="en-US" sz="1800" spc="1" strike="noStrike">
              <a:ln w="9360">
                <a:solidFill>
                  <a:srgbClr val="a5644e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345" name="Рисунок 5" descr="75.JPG"/>
          <p:cNvPicPr/>
          <p:nvPr/>
        </p:nvPicPr>
        <p:blipFill>
          <a:blip r:embed="rId4"/>
          <a:stretch/>
        </p:blipFill>
        <p:spPr>
          <a:xfrm>
            <a:off x="7201080" y="624852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835280" y="0"/>
            <a:ext cx="56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рай располагается на берегу реки Енисей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www.tuva.asia/uploads/posts/2011-08/1313765127_verhovya-eniseya.-erzhey.jpg"/>
          <p:cNvPicPr/>
          <p:nvPr/>
        </p:nvPicPr>
        <p:blipFill>
          <a:blip r:embed="rId1"/>
          <a:stretch/>
        </p:blipFill>
        <p:spPr>
          <a:xfrm>
            <a:off x="2050920" y="1628640"/>
            <a:ext cx="55422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611280" y="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 Красноярского края располагаются Саянские гор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http://static.tonkosti.ru/images/0/09/%D0%9C%D0%B0%D1%81%D1%81%D0%B8%D0%B2_%D0%9C%D0%B0%D0%BD%D1%81%D0%BA%D0%B0%D1%8F_%D0%91%D0%B0%D0%B1%D0%B0,_%D0%9A%D1%80%D0%B0%D1%81%D0%BD%D0%BE%D1%8F%D1%80%D1%81%D0%BA%D0%B8%D0%B5_%D0%A1%D1%82%D0%BE%D0%BB%D0%B1%D1%8B.jpg"/>
          <p:cNvPicPr/>
          <p:nvPr/>
        </p:nvPicPr>
        <p:blipFill>
          <a:blip r:embed="rId1"/>
          <a:stretch/>
        </p:blipFill>
        <p:spPr>
          <a:xfrm>
            <a:off x="250920" y="2349360"/>
            <a:ext cx="4305240" cy="28576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122120" y="177336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ведник Столб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2438280" cy="2228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330640" cy="17366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7"/>
          <p:cNvSpPr/>
          <p:nvPr/>
        </p:nvSpPr>
        <p:spPr>
          <a:xfrm>
            <a:off x="6521400" y="1700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ев руч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3:52:14Z</dcterms:created>
  <dc:creator>COMP</dc:creator>
  <dc:description/>
  <dc:language>en-US</dc:language>
  <cp:lastModifiedBy>ola Skaskevich</cp:lastModifiedBy>
  <dcterms:modified xsi:type="dcterms:W3CDTF">2017-08-24T18:02:12Z</dcterms:modified>
  <cp:revision>52</cp:revision>
  <dc:subject/>
  <dc:title>Слайд 1</dc:title>
</cp:coreProperties>
</file>