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0F04-27E4-4C1F-BFB0-EC368726E5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3926-828D-4EB4-AE56-AF34F89D2FE2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BE0-17E8-4EFC-AAB3-F43B09DC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6C6-E6B0-4BC0-918B-16FF1724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C127A-745C-47F1-9C98-07650853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084D0-942D-4CAE-978B-4B135F2A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F03AF-D2AE-4BD7-8C40-58A272A6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C7C00-B35F-4CC3-BCC6-49C3D621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5945A-A3C6-4BE2-81C9-7FBFF74A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300C5-E941-480C-9E79-5A04F92E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07ABD-8A1C-4CE9-A685-6D9EE6B2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FE341-41E1-4EBA-B9EB-0CA4E176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4249D-E384-4050-9FAE-E15A967C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28BDE-3E58-4B6A-BFFB-8F117F7E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2FE-1A24-4C0B-8117-6B5BDD23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6D408-2747-436F-8BCE-8A381894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DA98F-5976-46CD-85DA-20C1BB64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E9ACB-61D6-4FF6-BDC4-A432802F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A4BC7-5763-49B6-9E2A-5D501BC4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EF920-30EE-4C9A-AAD0-A53A4852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13641-E287-4F06-90B4-D14AA022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358D2-2D45-4F36-BB16-A32CC17C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5F814-C631-4094-BFA0-7BF126D3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75923-33FA-47E6-8208-88EF43B9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605E6-E344-474B-90E2-1D03AB1B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4FC-3116-4024-AF7E-892156EC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49774-7CA7-406B-AD7C-10C9CF32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C77E8-F267-40B9-8347-3D7292FF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6B41D-5F3F-4FD3-80F5-731502EA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DFC3C-8024-4F0B-BDB4-C57B63EA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1CE19-BADD-4C4D-99B2-A2DBB35B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524C8-6452-4E38-89AB-9DDC7EB3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6D7F2-8148-4A1E-8BBB-4EF481F3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F4F0C-135C-4C21-A15B-A20947E8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BF4F7-C215-47C8-BF2F-BA42DB54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75BC4-D4D8-4457-8D90-F4938663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5015-2E75-4DFF-927D-1A3D66CB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DDC94-BF63-4375-99AF-800A3495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ABA1B-FA62-472C-B32E-62776729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40017-EFAE-4F31-AE35-1E0249AE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2F105-E6B2-4033-B743-CDE1A8B6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DF427-DED1-49C7-B6D6-2AF30E88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73218-D17C-4CDC-8D93-03D229B4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9BCCB-D25C-48DC-9EC8-2EA9D8ED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98893-9A28-470B-B0A5-8EA5C49A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BACCD-696D-48E5-A486-F9555902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BD448-0B5D-4430-ADC4-9736284B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5770-F2A8-40C4-8C61-31796D3C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13D88-237C-4607-9429-E54C5E96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66AE5-E7BC-4024-B3C4-A9491B64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C4F1B-4ACC-457C-9387-EF89C884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EAEE1-E68E-4285-B44A-799209B3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E48C8-A6FC-4971-9B5D-908AA209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6F69-CC4D-42E7-B5C8-6AA6F4F0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7D57-87FB-439E-875B-EDB2E1D8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8208-F1B2-4315-BD2D-A7E6F876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341A-9678-4CDF-9B32-E260AB61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CEC6-8307-45B8-A7CF-6C367E20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9CC-A389-430A-A64E-A5648107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D5C0-487E-46E4-9715-3C0D476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B1BD-9CFE-4F2F-A41F-C21BECE5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A4F9-01A3-43E5-B3CD-50CF8247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35EA-55C1-4573-B2C7-424CCB4F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CC4F-5DA5-478A-B2CA-9631B09B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61640-5C60-4067-99A3-66BEA4E2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2F7AC-E055-4488-BB56-A5C0CE5E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FED43-8307-454A-8C05-AFAA4E11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508C0-8CEA-4504-ADE2-517D2077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3D5C-723A-4D60-8D23-F2E86E80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055-93E6-47BA-8ECF-451A19F4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BD3E7-1935-4C1F-B325-480901E7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28DC3-E2E9-4AEE-A35F-D82C8D96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F54CE-F596-4C84-8604-85E41DB8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C66D3-1675-4C31-8679-FD5728C8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21BD2-58F5-4EA7-AC17-7A0B7A03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C88A-C09B-4978-BC2B-5559C26A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D86A-313C-4624-B0EE-C861CB5C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1FFD6-B024-4B64-80C1-7B1ECE98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C37D-26D9-4B41-BB58-EE76A6FD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A175D-EFF6-48D7-8129-4D1ED24B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9FF-9C1E-4C4C-966A-E0CAE2FE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2C511-834C-4341-89B1-251AACE5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585E8-4191-4EF7-93FA-44480B4E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4C296-A3D3-41BA-9BBE-9515FC3D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912F6-63AA-4E74-BE77-91605717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B1977-7D72-4083-92AC-8EC339F2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F88DE-8664-42DE-87A7-4B87987D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D752B-2593-468B-95EC-1609CD36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F3D86-4B18-4D32-91AC-EF4D71BA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A2363-4C40-4FF4-954E-2704A571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1AD00-720D-42F2-A04C-FFC0A45B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54A-8714-4DE8-9497-E7153375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550D6-A748-4A54-8E12-BC3284C0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3D107-1C73-427F-92EE-B5875831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0D94D-7B50-4D16-B74C-7D3BD176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A1487-4931-4BBF-A231-25A771DB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B02ED-09B0-4A01-973B-EABEB49A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7D205-D642-43E8-A605-8AFBF97D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ED0E6-7F77-4CCF-8E7E-E45F33F6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6B6DE-D9A8-4A04-B5C9-4E264B88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7A66A-B463-41E8-909E-7BAFED4F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96593-7361-400F-B91A-C4A07D03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16A-2D4F-489A-97CE-DFBCACA0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A2BF4-B85A-4653-A6C7-F712C10E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931E9-5F04-4B8D-9DD1-CDE688ED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78963-F9B4-4947-8380-ED4965F8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51901-A009-4E53-B0B1-7AF7074B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2C9C6-B61A-4479-9232-16D25B8E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DDDD2-7BFF-4607-85FF-66149A45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B54D3-DAAC-4554-B997-7F6CFCC9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410FA-DB13-4559-9465-EAF33B9A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36536-E23F-4FF9-A31F-AB3D3452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082F7-B686-488B-93DE-8B0318B5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B16-106F-4767-B907-D7A12378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604ED-1B88-4187-9B51-D427824E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44CB1-AC7A-409B-B9F6-4F1B9383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90599-AC3F-44C4-84FC-AC8449D2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26FAC-A718-4C7B-9AC4-6CEEAC96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94B14-8207-4BB8-9A30-D3912C4C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862C9-5E8A-4C63-B9EF-7AF151E5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16D2D-2F08-4A95-B204-652092F6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C9250-EDB8-4E7C-BBDE-3E675892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A130C-E3FA-44AA-9D9A-D14D42C6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C2B2B-05F4-4B80-8DCF-C4350DC3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8BDC-2B0F-40FC-BF0A-E36A9906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F4D4B-A3EB-45D0-8FF3-CFF1A28F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B272D-0DC8-4164-8F4E-B9045970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B0557-A118-49FA-9A9E-9B58C54F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1E625-7736-416B-B1EB-46B9D381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80BA6-8D92-476D-954E-2E119239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77698-0D99-4AAC-B571-74EA6F0E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71E28-9653-4D31-BDE3-89CBC95D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A9528-0FB9-4C18-93C6-4115F280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9CC3E-5D63-4C96-967C-CF87610D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61596-AD04-4897-927A-C0D10822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21C-4994-4919-81C3-6475F40D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A7F4F-2505-4DF8-8B6A-7AF8BFB8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A7B97-EB1E-4B40-A742-F831812C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2C5F4-A306-4E0D-9304-99BC4292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F238C-543F-4533-AB63-D071AFF3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2F98F-12B9-4414-8C93-2A6A4B52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5F741-7E45-4856-AF8E-1A069BA0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30CD7-FB7B-4AFC-8AF1-ACB32670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EE250-2BD4-43A1-9DAC-7FEFA73B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0DBED-8294-4DAC-BFB2-6AAB04F1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F566C-73DC-470D-B425-F09F131D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3599-6602-46A3-907C-E2B0C999CAB5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39B9-B520-4348-A005-78D4003F6644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6063-F7ED-4D08-8E75-64EC8088872A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08B0-E921-4BA7-AF00-26319AE38228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1DF2-B8BB-44A7-A1C7-22E57E6F3A89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993A-6377-40CF-B523-9794D8EAE88B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A9BB-7633-4986-9E9E-73A143C6DE9E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5565-4C34-4129-BDF9-321EE06329E1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28BB-B365-4208-B7F7-DAFE8C49774F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AA31-7A72-4188-8A99-FECA643D48A2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64BF-A56C-47ED-8548-E38266983F43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9448-3270-4C1F-AF30-99452D945AB8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сегда дарить надо то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что хотел бы получит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ам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542520" y="476280"/>
            <a:ext cx="50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7030a0"/>
                </a:solidFill>
                <a:latin typeface="Times New Roman"/>
              </a:rPr>
              <a:t>ДЕКУПАЖ</a:t>
            </a:r>
            <a:endParaRPr b="0" lang="en-US" sz="7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187280" y="191628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</a:rPr>
              <a:t>Новогодняя игрушка в технике «Декупаж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6869160" y="494172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13" name="Picture 10" descr="line22"/>
          <p:cNvPicPr/>
          <p:nvPr/>
        </p:nvPicPr>
        <p:blipFill>
          <a:blip r:embed="rId1"/>
          <a:stretch/>
        </p:blipFill>
        <p:spPr>
          <a:xfrm>
            <a:off x="539640" y="6165720"/>
            <a:ext cx="8352000" cy="34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74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030a0"/>
                </a:solidFill>
                <a:latin typeface="Times New Roman"/>
              </a:rPr>
              <a:t>Так что же такое – декупаж?</a:t>
            </a:r>
            <a:r>
              <a:rPr b="0" lang="en-GB" sz="4000" spc="-1" strike="noStrike">
                <a:solidFill>
                  <a:srgbClr val="7030a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4392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Декупаж - это вид прикладного творчества представляющий  собой технику декорирования разнообразных поверхностей с помощью нанесения напечатанных полиграфическим способом картинок с последующей лакировкой полученного изображения для защиты от внешних воздействий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62294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Техника безопасност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68360" y="981000"/>
            <a:ext cx="475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облюдать правила техники безопасности при работе с ножницами, клеем, кистью, акрилом, феном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Алгоритм работы в команд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7892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одготовить поверхность изделия для отделки(нанести акриловый грунт)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одготовка рисунка(выбрать мотив для декорирования изделия и вырезать ножницами)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тделить слои салфетки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екорируем поверхность изделия(приклеить мотив при помощи кисти)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ыполнить сушку изделия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64278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Подведение итог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50560" y="1125000"/>
            <a:ext cx="511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522" name="Объект 1"/>
          <p:cNvGraphicFramePr/>
          <p:nvPr/>
        </p:nvGraphicFramePr>
        <p:xfrm>
          <a:off x="324000" y="1125360"/>
          <a:ext cx="5948280" cy="494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5948280" cy="49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асибо за работ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40:43Z</dcterms:created>
  <dc:creator>123</dc:creator>
  <dc:description/>
  <dc:language>en-US</dc:language>
  <cp:lastModifiedBy>Марина Силивря</cp:lastModifiedBy>
  <dcterms:modified xsi:type="dcterms:W3CDTF">2017-08-17T05:54:32Z</dcterms:modified>
  <cp:revision>72</cp:revision>
  <dc:subject/>
  <dc:title>Слайд 1</dc:title>
</cp:coreProperties>
</file>