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F273-81C4-40D1-B868-B7FDB03C6E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2530-3DFF-4EDE-9ED9-2C9D551D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C9C7-29E8-4CBD-86ED-751D57F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2EDC-0608-4DA8-97FF-CFBCA29F48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7B89-089D-47C7-A4E0-CF7B24F1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ADF3-3AA6-4525-9F95-82967D0D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5BE5-929B-434C-8845-CB815CDA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E4D5-2344-4659-B9CE-B0258AC5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4924-547D-4F7E-AB9B-E0CF4D63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5352-A838-484D-BF07-E99D6A4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E7E6-4C68-4717-A2F5-6B7C3356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8D37-7F81-476F-82AA-66A214F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4D70A-8C5D-4C17-8007-F103E9DAC39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236160" cy="731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Сюжетно-ролевая игра 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«Салон красоты «Тюльпанчик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3860640"/>
            <a:ext cx="6400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логжина А.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31640"/>
            <a:ext cx="9229680" cy="7302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6360" y="576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 формирование умения играть в сюжетно-ролевую игру «Салон красоты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ть умению самостоятельно распределять рол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сюжет игры на основе полученных знаний, выполняя ролевые действ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ть навыки культуры поведения, умение общаться со сверстниками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ть уважение к работникам салон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20720" y="647640"/>
            <a:ext cx="3527280" cy="23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84720" y="64764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36720" y="338472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111640" y="3240000"/>
            <a:ext cx="2664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24000" y="411120"/>
            <a:ext cx="316872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472000" y="1368360"/>
            <a:ext cx="3168720" cy="36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368360" y="3384720"/>
            <a:ext cx="2952720" cy="30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2T12:10:29Z</dcterms:created>
  <dc:creator>user pk</dc:creator>
  <dc:description/>
  <dc:language>en-US</dc:language>
  <cp:lastModifiedBy>user pk</cp:lastModifiedBy>
  <dcterms:modified xsi:type="dcterms:W3CDTF">2017-03-22T12:41:20Z</dcterms:modified>
  <cp:revision>6</cp:revision>
  <dc:subject/>
  <dc:title>Сюжетно-ролевая игра  «Салон красоты «Тюльпанчик»»</dc:title>
</cp:coreProperties>
</file>