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8BE6-04A2-4275-A916-7FA7FF4FA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ABE2-7A59-4502-A0A7-DA426DE1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C713-1EFF-4086-B478-F969ECE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EAF4-300C-4F63-971A-46C0DCADD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FE76-C255-4247-BDB7-557FFAC3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ED6B-92BE-4DBC-AC9D-0A7CBB20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929A-9B6F-440E-B04E-41D23ED5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D6CE-986B-41AD-B4BD-2DAF7F7D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5B0E-A672-4777-8BA4-7A5086BC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EC73-A4EE-4679-8927-610168F3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4010-786E-4EED-BA5A-6B844469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6F62-27A4-43C9-855B-3644FD5A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1BD00-80D4-4C19-B138-8CEB43CBECF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236160" cy="731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Сюжетно-ролевая игра 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«Салон красоты «Тюльпанчик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3860640"/>
            <a:ext cx="6400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логжина А.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31640"/>
            <a:ext cx="9229680" cy="7302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6360" y="576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 формирование умения играть в сюжетно-ролевую игру «Салон красоты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ть умению самостоятельно распределять рол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сюжет игры на основе полученных знаний, выполняя ролевые действ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ть навыки культуры поведения, умение общаться со сверстниками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ть уважение к работникам салон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20720" y="647640"/>
            <a:ext cx="3527280" cy="23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84720" y="64764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36720" y="338472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111640" y="3240000"/>
            <a:ext cx="2664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24000" y="411120"/>
            <a:ext cx="316872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472000" y="1368360"/>
            <a:ext cx="3168720" cy="36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368360" y="3384720"/>
            <a:ext cx="2952720" cy="30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2T12:10:29Z</dcterms:created>
  <dc:creator>user pk</dc:creator>
  <dc:description/>
  <dc:language>en-US</dc:language>
  <cp:lastModifiedBy>user pk</cp:lastModifiedBy>
  <dcterms:modified xsi:type="dcterms:W3CDTF">2017-03-22T12:41:20Z</dcterms:modified>
  <cp:revision>6</cp:revision>
  <dc:subject/>
  <dc:title>Сюжетно-ролевая игра  «Салон красоты «Тюльпанчик»»</dc:title>
</cp:coreProperties>
</file>