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AFB-EA34-4EB7-9D24-60BEE5F3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CF3-BDDE-4068-8A8C-3E7F2D19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8B709-5D04-4EE3-9308-21F5B6D6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8C2D44-68EE-41EB-85F9-07D208C5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A37131-B28E-4819-941F-ACE53A21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B4308-EB39-4DFA-B9EC-07A3885B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16C9F5-8BA2-4B81-A130-8668E413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E41302-7CDF-4612-9D5B-7F93FFAF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B9636-9BC9-443F-A4D4-2AE0E348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3D43EE-841F-4FA9-81CA-27ACDAEB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882303-E4AC-486D-9E05-36DB624A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F2929-5713-4154-854C-65352ACE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B919-0C88-46EF-A60F-78088471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D519C5-C366-4F15-9DDD-CA08E79A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D1C300-7484-443E-91D2-89F2CFD8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0EF18F-1D50-4781-82FC-FD466643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94EAC9-7AC9-47B6-A943-F10AB3C2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3163C5-68DC-4B75-8746-A63DDEEB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ABC4F-62AB-45BA-8ADA-6AB236BA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0CE079-0157-4659-BDB9-8888A1D7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7406FE-1A07-48C9-A4CC-2D229766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2587C7-28B2-450C-B6D8-EC70D89A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A5980D-99C1-408A-BC21-2A8374FB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0C86-EB02-4C5A-8F35-0A224FF2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E7699-C091-4CE2-91C1-08A4D5CF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5035D-8DB9-44DA-A7FE-24F73305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E2D9E-7105-470D-A2F6-52A1415B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1D39D-EB59-458C-8564-52F19F81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87A5A-DDAF-45F1-B630-1312C842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182F0-F6BE-4666-9A66-BBA24B6B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D266B-8C67-43F1-B413-045914C3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1EACD-2646-4A9A-8E57-F005FF6F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FA127-8534-4BA4-A344-DEFC9588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E838D-5520-4C86-8FC4-70F7E467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349D-415C-438B-91A8-7BC1BC8E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0CBCB-3C52-4653-A9F9-09499D52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AB502-5886-4722-AC7D-8C96EB94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3F67D-2E76-433E-9F14-0DF84136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F30146-9A7C-4F7A-A0AE-BB65E418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B7D554-DA88-4423-8037-D024AA41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04F6A-858A-4043-8DCF-2511D659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C5AD21-BCD4-4CF5-A790-2640CEC7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9937D-EF8F-4547-8A59-BF916BAB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F08D3-666A-4EDF-B85D-86769181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854142-FD63-49F7-9DC5-D687A1AB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44E1-B1A6-4167-BF65-3483E549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AB9013-D38D-4C7B-9D25-1E6669CD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0A1E96-3341-40C1-842F-17041371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FE000F-03C4-4567-B972-3C0389FD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3E0D70-6B45-41E6-8F78-38DD2A4B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5247E-942A-4712-9DF4-E5440E9B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D58B-5BFF-4D4E-8A25-E6483AE8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BFB4-9C3F-4126-81C3-15B0FB77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CACD-3373-424A-8A2D-BD6B75B5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E8A9-3BAD-4E6F-9888-513153BB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2B89-EAEA-4671-8117-BE795B86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60CB-5A76-43A8-81BB-4EAE966D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3FE3-D306-422C-AF45-462BFB43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0850-0B46-4383-A15A-1BC68F29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62BA-6CEA-42E4-A73C-DA97D351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1C1D-9349-44E9-B38A-52E99817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E71A-7F99-4D7B-A0A9-743DEB10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82F67-7B64-4EA9-8F5F-96FDE5C4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827F9-61CB-4AE4-9920-CD7B5A0B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307F8-7CD5-4E7A-9B86-3FDEED31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44F65-FE05-4937-9E81-AA85D19F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BAEE7-5925-42EC-AABA-42F348A8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7E8E-C6BE-4F4A-8045-1D1D6F4A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E9E42-05C3-4B12-83F4-B9C67781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0E7D3-42D5-486A-89E3-970CAEA9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848F5-CBF2-420A-AAC9-6CAE0DDD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97221-E411-4719-9FA5-5429704B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E2C20-E5CA-4E5C-8A2A-8C177138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5727B-2E16-47E9-B1D3-71014BA6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F73AB-9EED-4879-B7A6-6499C5D2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B971A-87AC-4850-A291-18BC1023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02CD3-28E6-43CE-8960-41DD0F08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A5146-6A30-48F5-AA1B-F7F46F58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E35-5F64-4C91-8983-19547D45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80109-13EB-4A0B-BCF3-AF556053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5C333-D464-4AEE-B433-80FC3500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059EA-9CBD-40CD-BABB-EF40B24D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C7E0F-1424-4AF0-841F-5620224C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57B45-0A1E-4E76-8EFF-65173152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8CB9E-72BA-4410-9281-17468BA8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B7DEA-6452-4A3D-8ADA-EBC6A702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2C977-E6BF-473D-8AEF-D06CEFFB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1B2BC-F2C3-45A0-99D8-6F50EABE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605F3-9A4B-4B6E-8061-134CC901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08B3-3E9F-484C-A054-C19CBC60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05D10-A445-4C78-ACB8-D57043D9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DB851-7781-48C8-9B6C-A9AEF066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2348E-81E5-440B-A55C-EF1E9E20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C2128-17A2-4F55-AE2E-BAFFEC73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54C5C-D5B8-47F2-B9AF-081236EC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741DA-5FA8-415C-A2A1-8C88C09C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82A15-745D-4579-B50F-AA097AA2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B601A-D8D7-4D7A-9EEC-6536E295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B761B-E0B0-4183-99AE-D5201AF9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FBBD0-DA66-44A5-904E-5EDA9725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6E5-EB4C-44D8-87A4-27D0C1D7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0E0A1-16E3-4CAC-A612-7047D4F7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59897-F5E1-4D8D-BB53-CD1E994D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7B9BF-487B-4324-8D56-3E6D32B2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5D6AC-76DB-497D-9DEF-EF0F3DB4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D2C67-6D4C-479E-B62A-BC69C5CA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FAE9E-9EF0-4CEC-B1AD-D4ACB8A0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1D980-0DB3-4944-A005-E0DBB302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B5C9B-1FBD-4B5A-9AE8-E51C6E42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43D8E-F676-41DF-8102-F2040C79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C7F81-3A91-465B-B495-EDFE150F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709-BD0D-4F2F-8C84-24CFBED8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0FA37-BD2F-460F-A11E-95B974AF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CD7DA-CE7A-475B-9C94-81B562CE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3C90C-A40E-46D6-9B7E-86379DF8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D5B14-7DFA-470B-A715-6223A89D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D238A-C677-4FA9-928E-0EF78D04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8EEC8-13D3-4609-AD12-FA4B8F70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C137B-845E-4C61-AF00-913BDC77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D9E2A-6326-4E16-A9D6-D4DBEF89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2F551-220D-428E-B539-0840F62B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2DAD9-7CE6-41CB-B455-6A752B4C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29C4-E85F-4CB5-92C9-3703958E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397DF-EECC-4220-8CAD-080C2A8A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028F7-E023-4469-B171-F3B3DCDC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B9AF4-A0AE-48C4-AC8C-CF0CB6B0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35C89-4D25-40C2-A7D8-301291CA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E3EDA-09BF-4BF8-8D44-AD908983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69682-3D3C-4AD2-B0E3-B1B2C2BE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E969D-0708-4003-BC1C-57C7DA2F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0A020-4148-41AB-84B5-1E6D75C7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6DCDD-95D5-4783-BC6B-BB233CF1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6F0A9-658E-4D2A-B35E-AD923437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1E68-80A8-4254-A8F4-E0C4B369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EE32E-8370-4E6D-A4C3-E3FE8AB9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1CA04-6D03-4934-93E8-C034183B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FD0BE-BBD1-425D-9F6B-D76DCBA9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D9D4E-9758-4CDB-8DD3-3CF8EE47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DAE42-E486-466B-9D97-A96FADA1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7541C-36A4-4FCF-B02E-69017510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E58F4-9126-432E-A77F-1ABC3C66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116D7-98DE-4ED6-89B8-BB4AAA28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964BA-E7FD-4C7C-AFD0-A00DB886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0E47D-A0EA-402C-9317-78C21E05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0C6D-3799-4B2B-90B0-21C3B28E5EE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0B22-9C80-4D1B-9233-F190A5CED19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D1E7-D22E-4B9E-879F-255661A5DDC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60F2-623C-4ADB-9B17-BEE12223916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A79E-118C-4674-B949-C5DD7249DF0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74D9-1017-45D3-A8FF-943075CE560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B23C-50C4-4A78-A206-A4832663A36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E78E-EADC-4338-8533-C6D6B650299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7763-E1E2-457E-9701-2487A9306E9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997D-36B8-4777-A2A5-CEE34EB6181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199A-39F3-4480-AE17-67AC4E2FBE95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CC38-BA1A-42BF-87D3-BD87E9F9AAB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55640" y="2565000"/>
            <a:ext cx="7772400" cy="25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d16349"/>
                </a:solidFill>
                <a:latin typeface="Georgia"/>
              </a:rPr>
              <a:t>Исследовательская деятельность</a:t>
            </a:r>
            <a:br>
              <a:rPr sz="4200"/>
            </a:b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1" lang="ru-RU" sz="4200" spc="-1" strike="noStrike">
                <a:solidFill>
                  <a:srgbClr val="d16349"/>
                </a:solidFill>
                <a:latin typeface="Georgia"/>
              </a:rPr>
              <a:t>«Чудесный мир бумаги».</a:t>
            </a:r>
            <a:br>
              <a:rPr sz="4200"/>
            </a:b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Прямоугольник 3"/>
          <p:cNvSpPr/>
          <p:nvPr/>
        </p:nvSpPr>
        <p:spPr>
          <a:xfrm>
            <a:off x="1116000" y="4724280"/>
            <a:ext cx="7429680" cy="79236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Авторы:Воспитатели: Курьерова Г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Габ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4"/>
          <p:cNvSpPr/>
          <p:nvPr/>
        </p:nvSpPr>
        <p:spPr>
          <a:xfrm>
            <a:off x="1692360" y="5950080"/>
            <a:ext cx="6000840" cy="47772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"/>
          <p:cNvSpPr/>
          <p:nvPr/>
        </p:nvSpPr>
        <p:spPr>
          <a:xfrm>
            <a:off x="685800" y="453960"/>
            <a:ext cx="72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№92 общеразвивающего ви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45" descr=""/>
          <p:cNvPicPr/>
          <p:nvPr/>
        </p:nvPicPr>
        <p:blipFill>
          <a:blip r:embed="rId1"/>
          <a:stretch/>
        </p:blipFill>
        <p:spPr>
          <a:xfrm>
            <a:off x="4230720" y="1557360"/>
            <a:ext cx="2050920" cy="27352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6" descr=""/>
          <p:cNvPicPr/>
          <p:nvPr/>
        </p:nvPicPr>
        <p:blipFill>
          <a:blip r:embed="rId2"/>
          <a:stretch/>
        </p:blipFill>
        <p:spPr>
          <a:xfrm>
            <a:off x="2268360" y="3500280"/>
            <a:ext cx="2108520" cy="28116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е способы работы с бумагой.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3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2695320" cy="20210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44" descr=""/>
          <p:cNvPicPr/>
          <p:nvPr/>
        </p:nvPicPr>
        <p:blipFill>
          <a:blip r:embed="rId4"/>
          <a:stretch/>
        </p:blipFill>
        <p:spPr>
          <a:xfrm>
            <a:off x="6804000" y="1628640"/>
            <a:ext cx="2052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394920" y="3068640"/>
            <a:ext cx="8280360" cy="1512720"/>
          </a:xfrm>
          <a:prstGeom prst="rect">
            <a:avLst/>
          </a:prstGeom>
          <a:noFill/>
          <a:ln w="28440">
            <a:solidFill>
              <a:srgbClr val="d16349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 ИНТЕРЕС К ИСТОРИИ СОЗДАНИЯ БУМАГИ. ПОЗНАКОМИТЬ С ПРОЦЕССОМ ПРИГОТОВЛЕНИЯ БУМАГИ ВРУЧНУЮ В УСЛОВИЯХ ДЕТСКОГО САД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395280" y="380520"/>
            <a:ext cx="8353440" cy="600120"/>
          </a:xfrm>
          <a:prstGeom prst="rect">
            <a:avLst/>
          </a:prstGeom>
          <a:solidFill>
            <a:srgbClr val="ff7b21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eorgia"/>
              </a:rPr>
              <a:t>Реализация исследования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Прямоугольник 8"/>
          <p:cNvSpPr/>
          <p:nvPr/>
        </p:nvSpPr>
        <p:spPr>
          <a:xfrm>
            <a:off x="395280" y="1341360"/>
            <a:ext cx="8353440" cy="64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Задач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10" descr=""/>
          <p:cNvPicPr/>
          <p:nvPr/>
        </p:nvPicPr>
        <p:blipFill>
          <a:blip r:embed="rId1"/>
          <a:stretch/>
        </p:blipFill>
        <p:spPr>
          <a:xfrm>
            <a:off x="3059280" y="4005360"/>
            <a:ext cx="3120840" cy="234144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34160" cy="830160"/>
          </a:xfrm>
          <a:prstGeom prst="rect">
            <a:avLst/>
          </a:prstGeom>
          <a:solidFill>
            <a:srgbClr val="ff7b21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цесс приготовления бумаги вручную на практике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Прямоугольник 10"/>
          <p:cNvSpPr/>
          <p:nvPr/>
        </p:nvSpPr>
        <p:spPr>
          <a:xfrm>
            <a:off x="900000" y="1557360"/>
            <a:ext cx="366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змельчител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7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8" descr=""/>
          <p:cNvPicPr/>
          <p:nvPr/>
        </p:nvPicPr>
        <p:blipFill>
          <a:blip r:embed="rId3"/>
          <a:stretch/>
        </p:blipFill>
        <p:spPr>
          <a:xfrm>
            <a:off x="5724360" y="2421000"/>
            <a:ext cx="31212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3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Бассейн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5" name="Picture 6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4225680" cy="3168720"/>
          </a:xfrm>
          <a:prstGeom prst="rect">
            <a:avLst/>
          </a:prstGeom>
          <a:ln w="0">
            <a:noFill/>
          </a:ln>
        </p:spPr>
      </p:pic>
      <p:pic>
        <p:nvPicPr>
          <p:cNvPr id="656" name="Объект 6" descr=""/>
          <p:cNvPicPr/>
          <p:nvPr/>
        </p:nvPicPr>
        <p:blipFill>
          <a:blip r:embed="rId2"/>
          <a:stretch/>
        </p:blipFill>
        <p:spPr>
          <a:xfrm>
            <a:off x="4800600" y="28684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999880" y="502884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8" name="Объект 7" descr=""/>
          <p:cNvPicPr/>
          <p:nvPr/>
        </p:nvPicPr>
        <p:blipFill>
          <a:blip r:embed="rId1"/>
          <a:stretch/>
        </p:blipFill>
        <p:spPr>
          <a:xfrm>
            <a:off x="2987640" y="1413000"/>
            <a:ext cx="5867280" cy="426708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2438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Мешалк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Объект 7" descr=""/>
          <p:cNvPicPr/>
          <p:nvPr/>
        </p:nvPicPr>
        <p:blipFill>
          <a:blip r:embed="rId1"/>
          <a:stretch/>
        </p:blipFill>
        <p:spPr>
          <a:xfrm>
            <a:off x="4788000" y="2781360"/>
            <a:ext cx="3936960" cy="295128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тбеливание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2" name="Picture 7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128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Объект 6" descr=""/>
          <p:cNvPicPr/>
          <p:nvPr/>
        </p:nvPicPr>
        <p:blipFill>
          <a:blip r:embed="rId1"/>
          <a:stretch/>
        </p:blipFill>
        <p:spPr>
          <a:xfrm>
            <a:off x="301680" y="2865600"/>
            <a:ext cx="4041720" cy="303048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Склеив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5" name="Picture 7" descr=""/>
          <p:cNvPicPr/>
          <p:nvPr/>
        </p:nvPicPr>
        <p:blipFill>
          <a:blip r:embed="rId2"/>
          <a:stretch/>
        </p:blipFill>
        <p:spPr>
          <a:xfrm>
            <a:off x="4932360" y="2852640"/>
            <a:ext cx="3838680" cy="288000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69" name="Объект 6" descr=""/>
          <p:cNvPicPr/>
          <p:nvPr/>
        </p:nvPicPr>
        <p:blipFill>
          <a:blip r:embed="rId1"/>
          <a:stretch/>
        </p:blipFill>
        <p:spPr>
          <a:xfrm>
            <a:off x="301680" y="286560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670" name="Объект 7" descr=""/>
          <p:cNvPicPr/>
          <p:nvPr/>
        </p:nvPicPr>
        <p:blipFill>
          <a:blip r:embed="rId2"/>
          <a:stretch/>
        </p:blipFill>
        <p:spPr>
          <a:xfrm>
            <a:off x="4800600" y="28684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Формов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74" name="Объект 7" descr=""/>
          <p:cNvPicPr/>
          <p:nvPr/>
        </p:nvPicPr>
        <p:blipFill>
          <a:blip r:embed="rId1"/>
          <a:stretch/>
        </p:blipFill>
        <p:spPr>
          <a:xfrm>
            <a:off x="301680" y="286560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675" name="Объект 6" descr=""/>
          <p:cNvPicPr/>
          <p:nvPr/>
        </p:nvPicPr>
        <p:blipFill>
          <a:blip r:embed="rId2"/>
          <a:stretch/>
        </p:blipFill>
        <p:spPr>
          <a:xfrm>
            <a:off x="4800600" y="28684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Пресов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Изделие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0" name="Picture 7" descr=""/>
          <p:cNvPicPr/>
          <p:nvPr/>
        </p:nvPicPr>
        <p:blipFill>
          <a:blip r:embed="rId1"/>
          <a:stretch/>
        </p:blipFill>
        <p:spPr>
          <a:xfrm>
            <a:off x="301680" y="286560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9" descr=""/>
          <p:cNvPicPr/>
          <p:nvPr/>
        </p:nvPicPr>
        <p:blipFill>
          <a:blip r:embed="rId2"/>
          <a:stretch/>
        </p:blipFill>
        <p:spPr>
          <a:xfrm>
            <a:off x="4800600" y="28684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ff7b21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d0d0d"/>
                </a:solidFill>
                <a:latin typeface="Georgia"/>
              </a:rPr>
              <a:t>Актуальность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ы любим рисовать, раскрашивать, делать различные аппликации. Нам нравится читать интересные книги и журналы. На занятиях мы пишем в рабочих тетрадях.  Все то, о чем мы написали, связано с бумагой. Именно бумаге посвящена наша исследовательская работа.  Бумага – один из самых доступных материалов, который есть практически везде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умага нужна всем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ОТК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301680" y="286560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3" descr=""/>
          <p:cNvPicPr/>
          <p:nvPr/>
        </p:nvPicPr>
        <p:blipFill>
          <a:blip r:embed="rId2"/>
          <a:stretch/>
        </p:blipFill>
        <p:spPr>
          <a:xfrm>
            <a:off x="4800600" y="28684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Объект 6" descr=""/>
          <p:cNvPicPr/>
          <p:nvPr/>
        </p:nvPicPr>
        <p:blipFill>
          <a:blip r:embed="rId1"/>
          <a:stretch/>
        </p:blipFill>
        <p:spPr>
          <a:xfrm>
            <a:off x="3924360" y="414972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 txBox="1"/>
          <p:nvPr/>
        </p:nvSpPr>
        <p:spPr>
          <a:xfrm>
            <a:off x="324000" y="2349360"/>
            <a:ext cx="8478720" cy="4003920"/>
          </a:xfrm>
          <a:prstGeom prst="rect">
            <a:avLst/>
          </a:prstGeom>
          <a:noFill/>
          <a:ln w="28440">
            <a:solidFill>
              <a:srgbClr val="d16349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гровая деятельно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ff7b21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Подтверждение гипотез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0" name="Прямоугольник 8"/>
          <p:cNvSpPr/>
          <p:nvPr/>
        </p:nvSpPr>
        <p:spPr>
          <a:xfrm>
            <a:off x="971640" y="1557360"/>
            <a:ext cx="7456320" cy="431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умага используется в различных област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2" descr=""/>
          <p:cNvPicPr/>
          <p:nvPr/>
        </p:nvPicPr>
        <p:blipFill>
          <a:blip r:embed="rId2"/>
          <a:stretch/>
        </p:blipFill>
        <p:spPr>
          <a:xfrm>
            <a:off x="6021360" y="249228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692" name="Объект 2" descr=""/>
          <p:cNvPicPr/>
          <p:nvPr/>
        </p:nvPicPr>
        <p:blipFill>
          <a:blip r:embed="rId3"/>
          <a:srcRect l="0" t="-2760" r="0" b="0"/>
          <a:stretch/>
        </p:blipFill>
        <p:spPr>
          <a:xfrm>
            <a:off x="755640" y="2781360"/>
            <a:ext cx="27511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Объект 4" descr=""/>
          <p:cNvPicPr/>
          <p:nvPr/>
        </p:nvPicPr>
        <p:blipFill>
          <a:blip r:embed="rId1"/>
          <a:stretch/>
        </p:blipFill>
        <p:spPr>
          <a:xfrm>
            <a:off x="4884840" y="2932200"/>
            <a:ext cx="3870360" cy="29001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4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2794320" cy="3724200"/>
          </a:xfrm>
          <a:prstGeom prst="rect">
            <a:avLst/>
          </a:prstGeom>
          <a:ln w="0">
            <a:noFill/>
          </a:ln>
        </p:spPr>
      </p:pic>
      <p:sp>
        <p:nvSpPr>
          <p:cNvPr id="695" name="Прямоугольник 5"/>
          <p:cNvSpPr/>
          <p:nvPr/>
        </p:nvSpPr>
        <p:spPr>
          <a:xfrm>
            <a:off x="5508720" y="1557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оугольник 6"/>
          <p:cNvSpPr/>
          <p:nvPr/>
        </p:nvSpPr>
        <p:spPr>
          <a:xfrm>
            <a:off x="179280" y="148428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- эстетическ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4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360600" cy="25210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3" descr=""/>
          <p:cNvPicPr/>
          <p:nvPr/>
        </p:nvPicPr>
        <p:blipFill>
          <a:blip r:embed="rId2"/>
          <a:stretch/>
        </p:blipFill>
        <p:spPr>
          <a:xfrm>
            <a:off x="5580000" y="1484280"/>
            <a:ext cx="3301920" cy="24782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2" descr=""/>
          <p:cNvPicPr/>
          <p:nvPr/>
        </p:nvPicPr>
        <p:blipFill>
          <a:blip r:embed="rId3"/>
          <a:stretch/>
        </p:blipFill>
        <p:spPr>
          <a:xfrm>
            <a:off x="3203640" y="2781360"/>
            <a:ext cx="2620800" cy="34941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536400"/>
          </a:xfrm>
          <a:prstGeom prst="rect">
            <a:avLst/>
          </a:prstGeom>
          <a:solidFill>
            <a:srgbClr val="d16349"/>
          </a:solidFill>
          <a:ln w="9360">
            <a:solidFill>
              <a:srgbClr val="a9432b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развитие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ff7b21"/>
          </a:solidFill>
          <a:ln w="9360">
            <a:solidFill>
              <a:srgbClr val="ff66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Заключе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Цель, поставленную перед выполнением исследовательской работы, считаю достигнутой. Задачи, поставленные перед выполнением исследовательской работы, выполнен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Бумага занимает исключительное место в жизни людей. Её открытие, как и изобретение колеса, - чудо, одно из величайших завоеваний человеческого разума. Появившись однажды, бумага прочно утвердилась на Земле и, не зная конкурентов, победно идёт через столет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процессе исследовательской работы мы выполнили с бумагой много опытов и изготовили самые разные поделки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ким образом,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можно сделать вывод о том, что выдвинутая нами гипотеза нашла свое подтверждение в процессе исследовательской  работы: бумагу  можно изготовить в условиях детского сада без специального заводского оборудован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ff7b21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d0d0d"/>
                </a:solidFill>
                <a:latin typeface="Georgia"/>
              </a:rPr>
              <a:t>Гипотеза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Мы предположили, что бумагу можно изготовить в условиях детского сада без специального оборудования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ff7b21"/>
          </a:solidFill>
          <a:ln w="9360">
            <a:solidFill>
              <a:srgbClr val="2a373d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d0d0d"/>
                </a:solidFill>
                <a:latin typeface="Georgia"/>
              </a:rPr>
              <a:t>Цель и задачи исследования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Целью данного 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является выяснение свойств бумаг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Задачи исследования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 Познакомиться с видами бумаг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Исследовать историю появления бумаг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Провести ряд опытов с бумагой, основываясь на ее свойствах. Сравнить пластиковую палочку с палочкой из газет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 Изготовить различные поделки, изучить разные способы работы с бумаго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. Познакомиться с процессом приготовления бумаги вручную на практик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fa7d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d0d0d"/>
                </a:solidFill>
                <a:latin typeface="Georgia"/>
              </a:rPr>
              <a:t>Этапы исследовательской деятельности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Прямоугольник 3"/>
          <p:cNvSpPr/>
          <p:nvPr/>
        </p:nvSpPr>
        <p:spPr>
          <a:xfrm>
            <a:off x="428760" y="1500120"/>
            <a:ext cx="8429400" cy="1285920"/>
          </a:xfrm>
          <a:prstGeom prst="rect">
            <a:avLst/>
          </a:prstGeom>
          <a:solidFill>
            <a:srgbClr val="ffb66d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Georgia"/>
              </a:rPr>
              <a:t>I – </a:t>
            </a:r>
            <a:r>
              <a:rPr b="1" lang="ru-RU" sz="2000" spc="-1" strike="noStrike">
                <a:solidFill>
                  <a:srgbClr val="0d0d0d"/>
                </a:solidFill>
                <a:latin typeface="Georgia"/>
              </a:rPr>
              <a:t>подготовительный </a:t>
            </a:r>
            <a:r>
              <a:rPr b="0" lang="ru-RU" sz="2000" spc="-1" strike="noStrike">
                <a:solidFill>
                  <a:srgbClr val="0d0d0d"/>
                </a:solidFill>
                <a:latin typeface="Georgia"/>
              </a:rPr>
              <a:t>–Определение целей, задач, изучение литературы, подбор оптимальных методов и приёмов, составление плана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714240" y="2928960"/>
            <a:ext cx="8143920" cy="1000080"/>
          </a:xfrm>
          <a:prstGeom prst="rect">
            <a:avLst/>
          </a:prstGeom>
          <a:solidFill>
            <a:srgbClr val="ff7b21"/>
          </a:solidFill>
          <a:ln w="11520">
            <a:solidFill>
              <a:srgbClr val="994733"/>
            </a:solidFill>
            <a:prstDash val="sysDash"/>
            <a:miter/>
          </a:ln>
        </p:spPr>
        <p:txBody>
          <a:bodyPr anchor="ctr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Georgia"/>
              </a:rPr>
              <a:t>II –</a:t>
            </a:r>
            <a:r>
              <a:rPr b="1" lang="ru-RU" sz="2200" spc="-1" strike="noStrike">
                <a:solidFill>
                  <a:srgbClr val="0d0d0d"/>
                </a:solidFill>
                <a:latin typeface="Georgia"/>
              </a:rPr>
              <a:t> основной  - </a:t>
            </a:r>
            <a:r>
              <a:rPr b="0" lang="ru-RU" sz="2200" spc="-1" strike="noStrike">
                <a:solidFill>
                  <a:srgbClr val="0d0d0d"/>
                </a:solidFill>
                <a:latin typeface="Georgia"/>
              </a:rPr>
              <a:t>практическая деятельность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Прямоугольник 5"/>
          <p:cNvSpPr/>
          <p:nvPr/>
        </p:nvSpPr>
        <p:spPr>
          <a:xfrm>
            <a:off x="1714680" y="5286240"/>
            <a:ext cx="7143480" cy="1071720"/>
          </a:xfrm>
          <a:prstGeom prst="rect">
            <a:avLst/>
          </a:prstGeom>
          <a:solidFill>
            <a:srgbClr val="fa7d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Georgia"/>
              </a:rPr>
              <a:t>IV –</a:t>
            </a:r>
            <a:r>
              <a:rPr b="0" lang="ru-RU" sz="2000" spc="-1" strike="noStrike">
                <a:solidFill>
                  <a:srgbClr val="0d0d0d"/>
                </a:solidFill>
                <a:latin typeface="Georgia"/>
              </a:rPr>
              <a:t>итог. Презентация проекта, выставка коллекции бумаги.</a:t>
            </a:r>
            <a:r>
              <a:rPr b="0" lang="en-US" sz="2000" spc="-1" strike="noStrike">
                <a:solidFill>
                  <a:srgbClr val="0d0d0d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6"/>
          <p:cNvSpPr/>
          <p:nvPr/>
        </p:nvSpPr>
        <p:spPr>
          <a:xfrm>
            <a:off x="1214280" y="4071960"/>
            <a:ext cx="7643880" cy="1000080"/>
          </a:xfrm>
          <a:prstGeom prst="rect">
            <a:avLst/>
          </a:prstGeom>
          <a:solidFill>
            <a:srgbClr val="ffb66d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Georgia"/>
              </a:rPr>
              <a:t>III –</a:t>
            </a:r>
            <a:r>
              <a:rPr b="1" lang="ru-RU" sz="2000" spc="-1" strike="noStrike">
                <a:solidFill>
                  <a:srgbClr val="0d0d0d"/>
                </a:solidFill>
                <a:latin typeface="Georgia"/>
              </a:rPr>
              <a:t> анал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Georgia"/>
              </a:rPr>
              <a:t>Соотношение полученных результатов с поставленными задач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394920" y="2819520"/>
            <a:ext cx="8280360" cy="2265120"/>
          </a:xfrm>
          <a:prstGeom prst="rect">
            <a:avLst/>
          </a:prstGeom>
          <a:noFill/>
          <a:ln w="28440">
            <a:solidFill>
              <a:srgbClr val="d16349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ДЕТЕЙ СО СВОЙСТВАМИ И ОСОБЕННОСТЯМИ БУМАГИ И РАЗЛИЧНЫХ ИЗДЕЛИЙ, ИЗГОТОВЛЕННЫХ  ИЗ БУМАГ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ВОЗМОЖНОСТЯМИ ИСПОЛЬЗОВАНИЯ БУМАГ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title"/>
          </p:nvPr>
        </p:nvSpPr>
        <p:spPr>
          <a:xfrm>
            <a:off x="468000" y="380520"/>
            <a:ext cx="8280360" cy="816120"/>
          </a:xfrm>
          <a:prstGeom prst="rect">
            <a:avLst/>
          </a:prstGeom>
          <a:solidFill>
            <a:srgbClr val="ff7b21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eorgia"/>
              </a:rPr>
              <a:t>Реализация исследования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Прямоугольник 8"/>
          <p:cNvSpPr/>
          <p:nvPr/>
        </p:nvSpPr>
        <p:spPr>
          <a:xfrm>
            <a:off x="468360" y="1557360"/>
            <a:ext cx="8280360" cy="57636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Задач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и особенности бумаг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5" name="Объект 3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985840" cy="223200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4" descr=""/>
          <p:cNvPicPr/>
          <p:nvPr/>
        </p:nvPicPr>
        <p:blipFill>
          <a:blip r:embed="rId2"/>
          <a:stretch/>
        </p:blipFill>
        <p:spPr>
          <a:xfrm>
            <a:off x="3708360" y="1413000"/>
            <a:ext cx="2016000" cy="2697120"/>
          </a:xfrm>
          <a:prstGeom prst="rect">
            <a:avLst/>
          </a:prstGeom>
          <a:ln w="0">
            <a:noFill/>
          </a:ln>
        </p:spPr>
      </p:pic>
      <p:pic>
        <p:nvPicPr>
          <p:cNvPr id="627" name="Рисунок 6" descr=""/>
          <p:cNvPicPr/>
          <p:nvPr/>
        </p:nvPicPr>
        <p:blipFill>
          <a:blip r:embed="rId3"/>
          <a:stretch/>
        </p:blipFill>
        <p:spPr>
          <a:xfrm>
            <a:off x="250920" y="3981600"/>
            <a:ext cx="3025800" cy="22618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6" descr=""/>
          <p:cNvPicPr/>
          <p:nvPr/>
        </p:nvPicPr>
        <p:blipFill>
          <a:blip r:embed="rId4"/>
          <a:stretch/>
        </p:blipFill>
        <p:spPr>
          <a:xfrm>
            <a:off x="5978520" y="148428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7" descr=""/>
          <p:cNvPicPr/>
          <p:nvPr/>
        </p:nvPicPr>
        <p:blipFill>
          <a:blip r:embed="rId5"/>
          <a:stretch/>
        </p:blipFill>
        <p:spPr>
          <a:xfrm>
            <a:off x="6875640" y="3645000"/>
            <a:ext cx="1973160" cy="26305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" descr=""/>
          <p:cNvPicPr/>
          <p:nvPr/>
        </p:nvPicPr>
        <p:blipFill>
          <a:blip r:embed="rId6"/>
          <a:stretch/>
        </p:blipFill>
        <p:spPr>
          <a:xfrm>
            <a:off x="3851280" y="4149720"/>
            <a:ext cx="28224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324000" y="2923920"/>
            <a:ext cx="8496000" cy="1546200"/>
          </a:xfrm>
          <a:prstGeom prst="rect">
            <a:avLst/>
          </a:prstGeom>
          <a:noFill/>
          <a:ln w="28440">
            <a:solidFill>
              <a:srgbClr val="d16349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РАЗЛИЧНЫХ ПОДЕЛОК, ИЗУЧЕНИЕ РАЗНЫХ СПОСОБОВ РАБОТЫ С БУМАГОЙ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395280" y="380520"/>
            <a:ext cx="8424720" cy="816120"/>
          </a:xfrm>
          <a:prstGeom prst="rect">
            <a:avLst/>
          </a:prstGeom>
          <a:solidFill>
            <a:srgbClr val="ff7b21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eorgia"/>
              </a:rPr>
              <a:t>Реализация исследования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Прямоугольник 8"/>
          <p:cNvSpPr/>
          <p:nvPr/>
        </p:nvSpPr>
        <p:spPr>
          <a:xfrm>
            <a:off x="395280" y="1557360"/>
            <a:ext cx="8424720" cy="5857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Задач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Georgia"/>
              </a:rPr>
              <a:t>Поделки из бумаг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Рисунок 5" descr=""/>
          <p:cNvPicPr/>
          <p:nvPr/>
        </p:nvPicPr>
        <p:blipFill>
          <a:blip r:embed="rId1"/>
          <a:stretch/>
        </p:blipFill>
        <p:spPr>
          <a:xfrm>
            <a:off x="614520" y="4221000"/>
            <a:ext cx="3165480" cy="2367000"/>
          </a:xfrm>
          <a:prstGeom prst="rect">
            <a:avLst/>
          </a:prstGeom>
          <a:ln w="0">
            <a:noFill/>
          </a:ln>
        </p:spPr>
      </p:pic>
      <p:pic>
        <p:nvPicPr>
          <p:cNvPr id="636" name="Рисунок 7" descr=""/>
          <p:cNvPicPr/>
          <p:nvPr/>
        </p:nvPicPr>
        <p:blipFill>
          <a:blip r:embed="rId2"/>
          <a:stretch/>
        </p:blipFill>
        <p:spPr>
          <a:xfrm>
            <a:off x="5219640" y="1584360"/>
            <a:ext cx="3311640" cy="2487600"/>
          </a:xfrm>
          <a:prstGeom prst="rect">
            <a:avLst/>
          </a:prstGeom>
          <a:ln w="0">
            <a:noFill/>
          </a:ln>
        </p:spPr>
      </p:pic>
      <p:pic>
        <p:nvPicPr>
          <p:cNvPr id="637" name="Объект 9" descr=""/>
          <p:cNvPicPr/>
          <p:nvPr/>
        </p:nvPicPr>
        <p:blipFill>
          <a:blip r:embed="rId3"/>
          <a:stretch/>
        </p:blipFill>
        <p:spPr>
          <a:xfrm>
            <a:off x="684360" y="169704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638" name="Рисунок 10" descr=""/>
          <p:cNvPicPr/>
          <p:nvPr/>
        </p:nvPicPr>
        <p:blipFill>
          <a:blip r:embed="rId4"/>
          <a:stretch/>
        </p:blipFill>
        <p:spPr>
          <a:xfrm>
            <a:off x="5222880" y="4206960"/>
            <a:ext cx="33480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елемакс1</dc:creator>
  <dc:description/>
  <dc:language>en-US</dc:language>
  <cp:lastModifiedBy>детсад92</cp:lastModifiedBy>
  <dcterms:modified xsi:type="dcterms:W3CDTF">2017-08-25T12:08:58Z</dcterms:modified>
  <cp:revision>76</cp:revision>
  <dc:subject/>
  <dc:title>Исследовательский проект «Интересная бумага».</dc:title>
</cp:coreProperties>
</file>