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2B82-1167-4382-89BD-60E75BD9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9A9B-94C1-4A10-9CC3-B32F6B25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3FD81A-46B7-4833-BECA-BA010646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6CC894-3590-47B9-A8F0-D5644A4E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D21C76-B142-43C6-B848-FA125548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FEF0DE-209E-4AE1-AF50-621E5983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B24C40-61E0-43BE-9C7D-922BD8D9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78B424-EA8A-41E4-B9C6-8E08E8BD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9E91A3-D168-4621-9F56-AB53DC9B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9A25F1-EE3F-49A2-BFBB-4D41913E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B4B2BA-CDDD-4408-9370-92685FB0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8C69B1-1894-4337-860E-F9A4A8BF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7401-AD05-4CD9-88C0-ECBD694F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D7A00D-A309-4BFF-9DC7-BC2B183E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6E2160-DCB1-4F6E-B247-A4D3321D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54FD83-FFBD-40C4-9418-FC7B92DE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5F595C-4262-49B1-8D65-275E9EE0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AC637D-4289-4A73-AA55-EAF55182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04EA60-C71C-46D6-828C-E0A54400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979535-1BAB-4F3B-B7CC-90886135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60B45A-2A34-4A90-AB9C-9347B6D0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26543D-58D6-4BA1-905D-6D98927D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F398A2-5A6B-46DB-912F-1F232A47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C8E6-0090-4F3F-8748-8DBA7679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121B1C-B2DD-4083-9E75-A31E0412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7AF0B-7073-4F81-A1B9-CF403573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61CB2-B710-4D0F-82E3-7516052A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AF295-7995-4B19-AFDF-2268D03B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5A950-5664-4901-B3BD-7FE5C53B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1934E-724A-4F8D-9ECB-72F8F744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6B22B-F2FA-4CAE-9B2E-0939E8EF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D6BDE-C7E6-47DF-9647-90ABB22F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EB3DA-9776-4073-AA72-9CE7460E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10F1D-2743-4A01-A14D-36B6D4A5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1BD4-72A3-40B5-8516-55930C65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12BAF-672F-49F5-97DC-5927A7C7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1D9FD-E192-4281-8056-E4B9D08A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CA9EE-853A-4FC2-A8FC-76B52C6B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72E54E-95B4-4C52-B194-0B52447B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ECD53E-334B-46C8-9BCC-DA335CED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E35460-1871-4624-9047-E71FA043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610EDD-705B-47EB-A0E9-4A1424CB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6D6309-5055-4211-8DBE-05FB30AE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3ACBA8-2017-40E7-BF7C-C362B91D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85A312-18A1-438E-BCA3-CF392BF4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B74A-821E-48DD-85B9-F620F52A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E379E2-E80B-4DCC-90D6-12C5DC9D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31931A-F8D2-4DDD-A0CE-44ED26C9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F0CDDF-724C-4C45-BF07-4F4CC55C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9F2B19-D3A3-4EF7-8B2B-0C9B01CD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E21516-362C-4B83-AC31-0B6D1712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B732-9F76-4916-94C4-9A94B9BD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45C2-C6C4-4B57-9993-0EC4954C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E5B6-62B8-451F-9A18-17C485E6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EE06-2EB6-459C-84DD-A053D743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1041-D3ED-4625-BCCE-D2AA0725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C375-81DE-4107-B516-7F2BB2B0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3E6C-1476-45B8-8266-1AF5E561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4BF3-641F-4562-81B9-F008212F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B7DE-94EA-4A2D-B22C-006889AF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A8FA-105B-4050-A60B-EA0565CF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D830-6C8F-4444-96FA-43DBBF8B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1D76E-C43B-4FFA-AFAA-5F0EAF46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8FB48-8F40-4842-A89A-858570F9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6B9A5-A1DD-4AE4-91BA-7F727DFD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F35DC-C7E4-464A-B229-009F3B06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9620F-97EE-426C-BB84-5F906077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5F64-A463-4D9C-A804-9D4F744D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8F0AE-FE44-4021-93F9-8E7D530D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6B0C1-3AAA-4FD1-B36E-D7AD8755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7F3FB-B3E9-4B11-9C54-B0E7BA32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D6F41-2BA7-4374-AF32-1AE894C6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DE83A-1351-4D92-A60A-5E48A60E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D588C-5FD9-4B80-8E95-1E0F6357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B6388-768C-4F44-ADD7-323CB958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C7842-6E0D-43FF-848A-040B4BC3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4C906-BBB1-4DC8-89DE-0C41066F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8E8A9-145A-485C-ACBA-B29DA589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9283-F8F4-419B-8F20-F981BD73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A6DCB-0A7E-455B-B44D-48A46167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8E57F-1891-441D-B0A2-FD56F23B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964E6-07B6-4BE0-8E51-916E667A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08BA1-A7DB-44D6-89D7-A69DAA97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1FC09-4290-4726-A2CC-BEE597C6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AB1B1-3DEC-42FB-A15C-586EACE2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E6758-F52B-47D5-9C8D-6D8D8A24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24CF0-4776-4568-816C-90902ED3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4A188-232B-479A-97D6-EBEADFD8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D8209-9FAF-4772-8D1D-C69922BD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15EF-0471-4C61-B74A-22037313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77CD1-1002-471F-B5AB-EDEE0AD0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FA7B7-AF6C-45B4-9F2F-BBEB3BDE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39542-4B67-4244-9A00-E8BCDBDD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28199-15FF-4D38-AEDC-BB9D0F79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97241-EB1A-417D-978A-C2B4330A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A175C-AC20-4698-8189-C84EC7D5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AD0C8-FF53-4152-9745-3457D670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4D378-F93C-4342-B613-2BAAA979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323DA-BDEE-4107-B493-91399152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9127C-17EE-4815-8430-A044DF468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D060-D757-46FA-958A-8C6976D7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40760-BF3A-45FB-A915-68C58486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0B844-02A5-42FC-9397-796FE3B3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91C97-55FC-4CC2-9831-97C783D3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61F67-9D0D-464E-92C9-DA62BFD3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AA8EF-0652-4BCC-93C6-0227B0CA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0FD51-D27B-4FA3-8426-24428B1B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8ACCA-FE88-48C3-87C2-A0C87B21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560E3-C811-4E32-B112-83A4CA48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46CCF-8A48-4C99-8BBD-C499F357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ADE28-D53F-4C62-ADED-2BA57FF0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1F9E-7D45-4206-B379-26955278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1E28D-0F02-496A-A195-DC5B5502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AE80E-4CFC-4838-99F5-91FBC7D3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D7D06-3DB2-4A25-81EC-E62B1001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AD52F-5385-4F76-9F54-86ED769D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B2A89-D46D-43AB-B386-92908A5E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9940B-8F2F-4EB6-8139-CF8BC981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018D9-CEAD-4674-B0D5-4CA689FC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FB0F2-8EAD-4661-B6FF-22A30933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6D9E7-FC40-40B1-A5D9-E9010C16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867A7-20DF-43D0-AA5C-5F7656A8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C039-1323-4914-9D4A-8E79F201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5B5C5-50C9-4540-8916-434B5D66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5223D-8CF4-49E4-9053-C61CABA9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5F83D-8605-40A1-95A3-963DFD48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52EF0-53F1-44E0-A3F5-25C0A6EA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3B45C-9A18-4F3E-8A74-6545406D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0FD81-DE5D-4031-9993-3FD589F2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A76DC-9692-43FF-8AE2-BC7C4F8E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8CA30-0D8E-43FF-92E0-385298CF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CD32C-1F45-467E-947D-153F7EA3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FC282-4702-4CF0-A701-8CF8EDB0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DEAE-81B1-4987-8737-ED965A4A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71E0F-2856-4871-BF2D-2B754447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A5398-36A3-474A-BCCD-98D0C677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75DE9-1477-4716-85F9-A8E1697B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16025-35A8-4872-B3C2-7E3B7FC6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9D19A-BFA3-4EC3-AD32-6E94E492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95F44-BB7C-4BD2-9EDA-54D706A4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AD6B6-C618-425E-9A25-7CCF7120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40C1A0-F42F-44A9-B395-E7C810EF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43FCA1-2F84-4BB0-9F9F-4310843B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253A85-3476-4C76-8C9D-4EDBE36D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C111-D2FB-44C4-AEA0-387BD147318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AD45-DFA6-4624-8728-E72062AEE99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FEAC-50B7-4B54-B905-B39E12478CB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91D6-26C0-4C27-A69C-89BFBA57420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273C-A48B-48E4-8BA9-8A24A39C526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E70E-80D4-46A1-A1F8-848BE5D9D6E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C29C-178C-45FF-A0A2-680CAC223A6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D783-4B45-4E79-BA88-C7003E1F43C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7FD3-3A4A-4D43-8A3C-C184607DAC2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5F88-4EE3-4988-8978-7530709F998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ABD8-C0D9-4D99-A673-19FBCE113F0B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C6C4-EACA-4192-943B-28D45413D9D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55640" y="2565000"/>
            <a:ext cx="7772400" cy="25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d16349"/>
                </a:solidFill>
                <a:latin typeface="Georgia"/>
              </a:rPr>
              <a:t>Исследовательская деятельность</a:t>
            </a:r>
            <a:br>
              <a:rPr sz="4200"/>
            </a:b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1" lang="ru-RU" sz="4200" spc="-1" strike="noStrike">
                <a:solidFill>
                  <a:srgbClr val="d16349"/>
                </a:solidFill>
                <a:latin typeface="Georgia"/>
              </a:rPr>
              <a:t>«Чудесный мир бумаги».</a:t>
            </a:r>
            <a:br>
              <a:rPr sz="4200"/>
            </a:b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Прямоугольник 3"/>
          <p:cNvSpPr/>
          <p:nvPr/>
        </p:nvSpPr>
        <p:spPr>
          <a:xfrm>
            <a:off x="1116000" y="4724280"/>
            <a:ext cx="7429680" cy="79236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Авторы:Воспитатели: Курьерова Г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Габо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4"/>
          <p:cNvSpPr/>
          <p:nvPr/>
        </p:nvSpPr>
        <p:spPr>
          <a:xfrm>
            <a:off x="1692360" y="5950080"/>
            <a:ext cx="6000840" cy="47772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20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1"/>
          <p:cNvSpPr/>
          <p:nvPr/>
        </p:nvSpPr>
        <p:spPr>
          <a:xfrm>
            <a:off x="685800" y="453960"/>
            <a:ext cx="72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№92 общеразвивающего ви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45" descr=""/>
          <p:cNvPicPr/>
          <p:nvPr/>
        </p:nvPicPr>
        <p:blipFill>
          <a:blip r:embed="rId1"/>
          <a:stretch/>
        </p:blipFill>
        <p:spPr>
          <a:xfrm>
            <a:off x="4230720" y="1557360"/>
            <a:ext cx="2050920" cy="27352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46" descr=""/>
          <p:cNvPicPr/>
          <p:nvPr/>
        </p:nvPicPr>
        <p:blipFill>
          <a:blip r:embed="rId2"/>
          <a:stretch/>
        </p:blipFill>
        <p:spPr>
          <a:xfrm>
            <a:off x="2268360" y="3500280"/>
            <a:ext cx="2108520" cy="281160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е способы работы с бумагой.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2" name="Picture 23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2695320" cy="20210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44" descr=""/>
          <p:cNvPicPr/>
          <p:nvPr/>
        </p:nvPicPr>
        <p:blipFill>
          <a:blip r:embed="rId4"/>
          <a:stretch/>
        </p:blipFill>
        <p:spPr>
          <a:xfrm>
            <a:off x="6804000" y="1628640"/>
            <a:ext cx="2052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394920" y="3068640"/>
            <a:ext cx="8280360" cy="1512720"/>
          </a:xfrm>
          <a:prstGeom prst="rect">
            <a:avLst/>
          </a:prstGeom>
          <a:noFill/>
          <a:ln w="28440">
            <a:solidFill>
              <a:srgbClr val="d16349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 ИНТЕРЕС К ИСТОРИИ СОЗДАНИЯ БУМАГИ. ПОЗНАКОМИТЬ С ПРОЦЕССОМ ПРИГОТОВЛЕНИЯ БУМАГИ ВРУЧНУЮ В УСЛОВИЯХ ДЕТСКОГО САД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395280" y="380520"/>
            <a:ext cx="8353440" cy="600120"/>
          </a:xfrm>
          <a:prstGeom prst="rect">
            <a:avLst/>
          </a:prstGeom>
          <a:solidFill>
            <a:srgbClr val="ff7b21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eorgia"/>
              </a:rPr>
              <a:t>Реализация исследования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Прямоугольник 8"/>
          <p:cNvSpPr/>
          <p:nvPr/>
        </p:nvSpPr>
        <p:spPr>
          <a:xfrm>
            <a:off x="395280" y="1341360"/>
            <a:ext cx="8353440" cy="64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Задач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10" descr=""/>
          <p:cNvPicPr/>
          <p:nvPr/>
        </p:nvPicPr>
        <p:blipFill>
          <a:blip r:embed="rId1"/>
          <a:stretch/>
        </p:blipFill>
        <p:spPr>
          <a:xfrm>
            <a:off x="3059280" y="4005360"/>
            <a:ext cx="3120840" cy="234144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34160" cy="830160"/>
          </a:xfrm>
          <a:prstGeom prst="rect">
            <a:avLst/>
          </a:prstGeom>
          <a:solidFill>
            <a:srgbClr val="ff7b21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цесс приготовления бумаги вручную на практике.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Прямоугольник 10"/>
          <p:cNvSpPr/>
          <p:nvPr/>
        </p:nvSpPr>
        <p:spPr>
          <a:xfrm>
            <a:off x="900000" y="1557360"/>
            <a:ext cx="3667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змельчител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7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8" descr=""/>
          <p:cNvPicPr/>
          <p:nvPr/>
        </p:nvPicPr>
        <p:blipFill>
          <a:blip r:embed="rId3"/>
          <a:stretch/>
        </p:blipFill>
        <p:spPr>
          <a:xfrm>
            <a:off x="5724360" y="2421000"/>
            <a:ext cx="312120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32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Бассейн</a:t>
            </a: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5" name="Picture 6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4225680" cy="3168720"/>
          </a:xfrm>
          <a:prstGeom prst="rect">
            <a:avLst/>
          </a:prstGeom>
          <a:ln w="0">
            <a:noFill/>
          </a:ln>
        </p:spPr>
      </p:pic>
      <p:pic>
        <p:nvPicPr>
          <p:cNvPr id="656" name="Объект 6" descr=""/>
          <p:cNvPicPr/>
          <p:nvPr/>
        </p:nvPicPr>
        <p:blipFill>
          <a:blip r:embed="rId2"/>
          <a:stretch/>
        </p:blipFill>
        <p:spPr>
          <a:xfrm>
            <a:off x="4800600" y="28684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999880" y="502884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8" name="Объект 7" descr=""/>
          <p:cNvPicPr/>
          <p:nvPr/>
        </p:nvPicPr>
        <p:blipFill>
          <a:blip r:embed="rId1"/>
          <a:stretch/>
        </p:blipFill>
        <p:spPr>
          <a:xfrm>
            <a:off x="2987640" y="1413000"/>
            <a:ext cx="5867280" cy="426708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2438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Мешалка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Объект 7" descr=""/>
          <p:cNvPicPr/>
          <p:nvPr/>
        </p:nvPicPr>
        <p:blipFill>
          <a:blip r:embed="rId1"/>
          <a:stretch/>
        </p:blipFill>
        <p:spPr>
          <a:xfrm>
            <a:off x="4788000" y="2781360"/>
            <a:ext cx="3936960" cy="295128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Отбеливание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2" name="Picture 7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41288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Объект 6" descr=""/>
          <p:cNvPicPr/>
          <p:nvPr/>
        </p:nvPicPr>
        <p:blipFill>
          <a:blip r:embed="rId1"/>
          <a:stretch/>
        </p:blipFill>
        <p:spPr>
          <a:xfrm>
            <a:off x="301680" y="2865600"/>
            <a:ext cx="4041720" cy="303048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Склеива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5" name="Picture 7" descr=""/>
          <p:cNvPicPr/>
          <p:nvPr/>
        </p:nvPicPr>
        <p:blipFill>
          <a:blip r:embed="rId2"/>
          <a:stretch/>
        </p:blipFill>
        <p:spPr>
          <a:xfrm>
            <a:off x="4932360" y="2852640"/>
            <a:ext cx="3838680" cy="288000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 txBox="1"/>
          <p:nvPr/>
        </p:nvSpPr>
        <p:spPr>
          <a:xfrm>
            <a:off x="4800600" y="247176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69" name="Объект 6" descr=""/>
          <p:cNvPicPr/>
          <p:nvPr/>
        </p:nvPicPr>
        <p:blipFill>
          <a:blip r:embed="rId1"/>
          <a:stretch/>
        </p:blipFill>
        <p:spPr>
          <a:xfrm>
            <a:off x="301680" y="2865600"/>
            <a:ext cx="4041720" cy="3030480"/>
          </a:xfrm>
          <a:prstGeom prst="rect">
            <a:avLst/>
          </a:prstGeom>
          <a:ln w="0">
            <a:noFill/>
          </a:ln>
        </p:spPr>
      </p:pic>
      <p:pic>
        <p:nvPicPr>
          <p:cNvPr id="670" name="Объект 7" descr=""/>
          <p:cNvPicPr/>
          <p:nvPr/>
        </p:nvPicPr>
        <p:blipFill>
          <a:blip r:embed="rId2"/>
          <a:stretch/>
        </p:blipFill>
        <p:spPr>
          <a:xfrm>
            <a:off x="4800600" y="28684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Формов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74" name="Объект 7" descr=""/>
          <p:cNvPicPr/>
          <p:nvPr/>
        </p:nvPicPr>
        <p:blipFill>
          <a:blip r:embed="rId1"/>
          <a:stretch/>
        </p:blipFill>
        <p:spPr>
          <a:xfrm>
            <a:off x="301680" y="2865600"/>
            <a:ext cx="4041720" cy="3030480"/>
          </a:xfrm>
          <a:prstGeom prst="rect">
            <a:avLst/>
          </a:prstGeom>
          <a:ln w="0">
            <a:noFill/>
          </a:ln>
        </p:spPr>
      </p:pic>
      <p:pic>
        <p:nvPicPr>
          <p:cNvPr id="675" name="Объект 6" descr=""/>
          <p:cNvPicPr/>
          <p:nvPr/>
        </p:nvPicPr>
        <p:blipFill>
          <a:blip r:embed="rId2"/>
          <a:stretch/>
        </p:blipFill>
        <p:spPr>
          <a:xfrm>
            <a:off x="4800600" y="28684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676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Пресов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Изделие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0" name="Picture 7" descr=""/>
          <p:cNvPicPr/>
          <p:nvPr/>
        </p:nvPicPr>
        <p:blipFill>
          <a:blip r:embed="rId1"/>
          <a:stretch/>
        </p:blipFill>
        <p:spPr>
          <a:xfrm>
            <a:off x="301680" y="2865600"/>
            <a:ext cx="4041720" cy="303048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9" descr=""/>
          <p:cNvPicPr/>
          <p:nvPr/>
        </p:nvPicPr>
        <p:blipFill>
          <a:blip r:embed="rId2"/>
          <a:stretch/>
        </p:blipFill>
        <p:spPr>
          <a:xfrm>
            <a:off x="4800600" y="28684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ff7b21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d0d0d"/>
                </a:solidFill>
                <a:latin typeface="Georgia"/>
              </a:rPr>
              <a:t>Актуальность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ы любим рисовать, раскрашивать, делать различные аппликации. Нам нравится читать интересные книги и журналы. На занятиях мы пишем в рабочих тетрадях.  Все то, о чем мы написали, связано с бумагой. Именно бумаге посвящена наша исследовательская работа.  Бумага – один из самых доступных материалов, который есть практически везде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умага нужна всем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ОТК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5" name="Picture 2" descr=""/>
          <p:cNvPicPr/>
          <p:nvPr/>
        </p:nvPicPr>
        <p:blipFill>
          <a:blip r:embed="rId1"/>
          <a:stretch/>
        </p:blipFill>
        <p:spPr>
          <a:xfrm>
            <a:off x="301680" y="2865600"/>
            <a:ext cx="4041720" cy="303048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3" descr=""/>
          <p:cNvPicPr/>
          <p:nvPr/>
        </p:nvPicPr>
        <p:blipFill>
          <a:blip r:embed="rId2"/>
          <a:stretch/>
        </p:blipFill>
        <p:spPr>
          <a:xfrm>
            <a:off x="4800600" y="28684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Объект 6" descr=""/>
          <p:cNvPicPr/>
          <p:nvPr/>
        </p:nvPicPr>
        <p:blipFill>
          <a:blip r:embed="rId1"/>
          <a:stretch/>
        </p:blipFill>
        <p:spPr>
          <a:xfrm>
            <a:off x="3924360" y="414972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 txBox="1"/>
          <p:nvPr/>
        </p:nvSpPr>
        <p:spPr>
          <a:xfrm>
            <a:off x="324000" y="2349360"/>
            <a:ext cx="8478720" cy="4003920"/>
          </a:xfrm>
          <a:prstGeom prst="rect">
            <a:avLst/>
          </a:prstGeom>
          <a:noFill/>
          <a:ln w="28440">
            <a:solidFill>
              <a:srgbClr val="d16349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гровая деятельнос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ff7b21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Подтверждение гипотез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0" name="Прямоугольник 8"/>
          <p:cNvSpPr/>
          <p:nvPr/>
        </p:nvSpPr>
        <p:spPr>
          <a:xfrm>
            <a:off x="971640" y="1557360"/>
            <a:ext cx="7456320" cy="431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умага используется в различных област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2" descr=""/>
          <p:cNvPicPr/>
          <p:nvPr/>
        </p:nvPicPr>
        <p:blipFill>
          <a:blip r:embed="rId2"/>
          <a:stretch/>
        </p:blipFill>
        <p:spPr>
          <a:xfrm>
            <a:off x="6021360" y="249228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692" name="Объект 2" descr=""/>
          <p:cNvPicPr/>
          <p:nvPr/>
        </p:nvPicPr>
        <p:blipFill>
          <a:blip r:embed="rId3"/>
          <a:srcRect l="0" t="-2760" r="0" b="0"/>
          <a:stretch/>
        </p:blipFill>
        <p:spPr>
          <a:xfrm>
            <a:off x="755640" y="2781360"/>
            <a:ext cx="27511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Объект 4" descr=""/>
          <p:cNvPicPr/>
          <p:nvPr/>
        </p:nvPicPr>
        <p:blipFill>
          <a:blip r:embed="rId1"/>
          <a:stretch/>
        </p:blipFill>
        <p:spPr>
          <a:xfrm>
            <a:off x="4884840" y="2932200"/>
            <a:ext cx="3870360" cy="290016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4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2794320" cy="3724200"/>
          </a:xfrm>
          <a:prstGeom prst="rect">
            <a:avLst/>
          </a:prstGeom>
          <a:ln w="0">
            <a:noFill/>
          </a:ln>
        </p:spPr>
      </p:pic>
      <p:sp>
        <p:nvSpPr>
          <p:cNvPr id="695" name="Прямоугольник 5"/>
          <p:cNvSpPr/>
          <p:nvPr/>
        </p:nvSpPr>
        <p:spPr>
          <a:xfrm>
            <a:off x="5508720" y="1557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Прямоугольник 6"/>
          <p:cNvSpPr/>
          <p:nvPr/>
        </p:nvSpPr>
        <p:spPr>
          <a:xfrm>
            <a:off x="179280" y="1484280"/>
            <a:ext cx="43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- эстетическое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icture 4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360600" cy="25210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3" descr=""/>
          <p:cNvPicPr/>
          <p:nvPr/>
        </p:nvPicPr>
        <p:blipFill>
          <a:blip r:embed="rId2"/>
          <a:stretch/>
        </p:blipFill>
        <p:spPr>
          <a:xfrm>
            <a:off x="5580000" y="1484280"/>
            <a:ext cx="3301920" cy="24782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2" descr=""/>
          <p:cNvPicPr/>
          <p:nvPr/>
        </p:nvPicPr>
        <p:blipFill>
          <a:blip r:embed="rId3"/>
          <a:stretch/>
        </p:blipFill>
        <p:spPr>
          <a:xfrm>
            <a:off x="3203640" y="2781360"/>
            <a:ext cx="2620800" cy="34941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536400"/>
          </a:xfrm>
          <a:prstGeom prst="rect">
            <a:avLst/>
          </a:prstGeom>
          <a:solidFill>
            <a:srgbClr val="d16349"/>
          </a:solidFill>
          <a:ln w="9360">
            <a:solidFill>
              <a:srgbClr val="a9432b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развитие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ff7b21"/>
          </a:solidFill>
          <a:ln w="9360">
            <a:solidFill>
              <a:srgbClr val="ff66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Заключе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Цель, поставленную перед выполнением исследовательской работы, считаю достигнутой. Задачи, поставленные перед выполнением исследовательской работы, выполнен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Бумага занимает исключительное место в жизни людей. Её открытие, как и изобретение колеса, - чудо, одно из величайших завоеваний человеческого разума. Появившись однажды, бумага прочно утвердилась на Земле и, не зная конкурентов, победно идёт через столети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процессе исследовательской работы мы выполнили с бумагой много опытов и изготовили самые разные поделки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Таким образом,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можно сделать вывод о том, что выдвинутая нами гипотеза нашла свое подтверждение в процессе исследовательской  работы: бумагу  можно изготовить в условиях детского сада без специального заводского оборудовани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ff7b21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d0d0d"/>
                </a:solidFill>
                <a:latin typeface="Georgia"/>
              </a:rPr>
              <a:t>Гипотеза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Мы предположили, что бумагу можно изготовить в условиях детского сада без специального оборудования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ff7b21"/>
          </a:solidFill>
          <a:ln w="9360">
            <a:solidFill>
              <a:srgbClr val="2a373d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d0d0d"/>
                </a:solidFill>
                <a:latin typeface="Georgia"/>
              </a:rPr>
              <a:t>Цель и задачи исследования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Целью данного исследования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является выяснение свойств бумаг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Задачи исследования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 Познакомиться с видами бумаг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 Исследовать историю появления бумаг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 Провести ряд опытов с бумагой, основываясь на ее свойствах. Сравнить пластиковую палочку с палочкой из газеты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. Изготовить различные поделки, изучить разные способы работы с бумаго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5. Познакомиться с процессом приготовления бумаги вручную на практик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fa7d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d0d0d"/>
                </a:solidFill>
                <a:latin typeface="Georgia"/>
              </a:rPr>
              <a:t>Этапы исследовательской деятельности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Прямоугольник 3"/>
          <p:cNvSpPr/>
          <p:nvPr/>
        </p:nvSpPr>
        <p:spPr>
          <a:xfrm>
            <a:off x="428760" y="1500120"/>
            <a:ext cx="8429400" cy="1285920"/>
          </a:xfrm>
          <a:prstGeom prst="rect">
            <a:avLst/>
          </a:prstGeom>
          <a:solidFill>
            <a:srgbClr val="ffb66d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Georgia"/>
              </a:rPr>
              <a:t>I – </a:t>
            </a:r>
            <a:r>
              <a:rPr b="1" lang="ru-RU" sz="2000" spc="-1" strike="noStrike">
                <a:solidFill>
                  <a:srgbClr val="0d0d0d"/>
                </a:solidFill>
                <a:latin typeface="Georgia"/>
              </a:rPr>
              <a:t>подготовительный </a:t>
            </a:r>
            <a:r>
              <a:rPr b="0" lang="ru-RU" sz="2000" spc="-1" strike="noStrike">
                <a:solidFill>
                  <a:srgbClr val="0d0d0d"/>
                </a:solidFill>
                <a:latin typeface="Georgia"/>
              </a:rPr>
              <a:t>–Определение целей, задач, изучение литературы, подбор оптимальных методов и приёмов, составление плана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714240" y="2928960"/>
            <a:ext cx="8143920" cy="1000080"/>
          </a:xfrm>
          <a:prstGeom prst="rect">
            <a:avLst/>
          </a:prstGeom>
          <a:solidFill>
            <a:srgbClr val="ff7b21"/>
          </a:solidFill>
          <a:ln w="11520">
            <a:solidFill>
              <a:srgbClr val="994733"/>
            </a:solidFill>
            <a:prstDash val="sysDash"/>
            <a:miter/>
          </a:ln>
        </p:spPr>
        <p:txBody>
          <a:bodyPr anchor="ctr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Georgia"/>
              </a:rPr>
              <a:t>II –</a:t>
            </a:r>
            <a:r>
              <a:rPr b="1" lang="ru-RU" sz="2200" spc="-1" strike="noStrike">
                <a:solidFill>
                  <a:srgbClr val="0d0d0d"/>
                </a:solidFill>
                <a:latin typeface="Georgia"/>
              </a:rPr>
              <a:t> основной  - </a:t>
            </a:r>
            <a:r>
              <a:rPr b="0" lang="ru-RU" sz="2200" spc="-1" strike="noStrike">
                <a:solidFill>
                  <a:srgbClr val="0d0d0d"/>
                </a:solidFill>
                <a:latin typeface="Georgia"/>
              </a:rPr>
              <a:t>практическая деятельность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Прямоугольник 5"/>
          <p:cNvSpPr/>
          <p:nvPr/>
        </p:nvSpPr>
        <p:spPr>
          <a:xfrm>
            <a:off x="1714680" y="5286240"/>
            <a:ext cx="7143480" cy="1071720"/>
          </a:xfrm>
          <a:prstGeom prst="rect">
            <a:avLst/>
          </a:prstGeom>
          <a:solidFill>
            <a:srgbClr val="fa7d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Georgia"/>
              </a:rPr>
              <a:t>IV –</a:t>
            </a:r>
            <a:r>
              <a:rPr b="0" lang="ru-RU" sz="2000" spc="-1" strike="noStrike">
                <a:solidFill>
                  <a:srgbClr val="0d0d0d"/>
                </a:solidFill>
                <a:latin typeface="Georgia"/>
              </a:rPr>
              <a:t>итог. Презентация проекта, выставка коллекции бумаги.</a:t>
            </a:r>
            <a:r>
              <a:rPr b="0" lang="en-US" sz="2000" spc="-1" strike="noStrike">
                <a:solidFill>
                  <a:srgbClr val="0d0d0d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6"/>
          <p:cNvSpPr/>
          <p:nvPr/>
        </p:nvSpPr>
        <p:spPr>
          <a:xfrm>
            <a:off x="1214280" y="4071960"/>
            <a:ext cx="7643880" cy="1000080"/>
          </a:xfrm>
          <a:prstGeom prst="rect">
            <a:avLst/>
          </a:prstGeom>
          <a:solidFill>
            <a:srgbClr val="ffb66d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Georgia"/>
              </a:rPr>
              <a:t>III –</a:t>
            </a:r>
            <a:r>
              <a:rPr b="1" lang="ru-RU" sz="2000" spc="-1" strike="noStrike">
                <a:solidFill>
                  <a:srgbClr val="0d0d0d"/>
                </a:solidFill>
                <a:latin typeface="Georgia"/>
              </a:rPr>
              <a:t> анал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Georgia"/>
              </a:rPr>
              <a:t>Соотношение полученных результатов с поставленными задач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394920" y="2819520"/>
            <a:ext cx="8280360" cy="2265120"/>
          </a:xfrm>
          <a:prstGeom prst="rect">
            <a:avLst/>
          </a:prstGeom>
          <a:noFill/>
          <a:ln w="28440">
            <a:solidFill>
              <a:srgbClr val="d16349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ДЕТЕЙ СО СВОЙСТВАМИ И ОСОБЕННОСТЯМИ БУМАГИ И РАЗЛИЧНЫХ ИЗДЕЛИЙ, ИЗГОТОВЛЕННЫХ  ИЗ БУМАГ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С ВОЗМОЖНОСТЯМИ ИСПОЛЬЗОВАНИЯ БУМАГ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title"/>
          </p:nvPr>
        </p:nvSpPr>
        <p:spPr>
          <a:xfrm>
            <a:off x="468000" y="380520"/>
            <a:ext cx="8280360" cy="816120"/>
          </a:xfrm>
          <a:prstGeom prst="rect">
            <a:avLst/>
          </a:prstGeom>
          <a:solidFill>
            <a:srgbClr val="ff7b21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eorgia"/>
              </a:rPr>
              <a:t>Реализация исследования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Прямоугольник 8"/>
          <p:cNvSpPr/>
          <p:nvPr/>
        </p:nvSpPr>
        <p:spPr>
          <a:xfrm>
            <a:off x="468360" y="1557360"/>
            <a:ext cx="8280360" cy="57636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Задач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 и особенности бумаг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5" name="Объект 3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985840" cy="2232000"/>
          </a:xfrm>
          <a:prstGeom prst="rect">
            <a:avLst/>
          </a:prstGeom>
          <a:ln w="0">
            <a:noFill/>
          </a:ln>
        </p:spPr>
      </p:pic>
      <p:pic>
        <p:nvPicPr>
          <p:cNvPr id="626" name="Рисунок 4" descr=""/>
          <p:cNvPicPr/>
          <p:nvPr/>
        </p:nvPicPr>
        <p:blipFill>
          <a:blip r:embed="rId2"/>
          <a:stretch/>
        </p:blipFill>
        <p:spPr>
          <a:xfrm>
            <a:off x="3708360" y="1413000"/>
            <a:ext cx="2016000" cy="2697120"/>
          </a:xfrm>
          <a:prstGeom prst="rect">
            <a:avLst/>
          </a:prstGeom>
          <a:ln w="0">
            <a:noFill/>
          </a:ln>
        </p:spPr>
      </p:pic>
      <p:pic>
        <p:nvPicPr>
          <p:cNvPr id="627" name="Рисунок 6" descr=""/>
          <p:cNvPicPr/>
          <p:nvPr/>
        </p:nvPicPr>
        <p:blipFill>
          <a:blip r:embed="rId3"/>
          <a:stretch/>
        </p:blipFill>
        <p:spPr>
          <a:xfrm>
            <a:off x="250920" y="3981600"/>
            <a:ext cx="3025800" cy="22618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6" descr=""/>
          <p:cNvPicPr/>
          <p:nvPr/>
        </p:nvPicPr>
        <p:blipFill>
          <a:blip r:embed="rId4"/>
          <a:stretch/>
        </p:blipFill>
        <p:spPr>
          <a:xfrm>
            <a:off x="5978520" y="1484280"/>
            <a:ext cx="2976480" cy="22320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7" descr=""/>
          <p:cNvPicPr/>
          <p:nvPr/>
        </p:nvPicPr>
        <p:blipFill>
          <a:blip r:embed="rId5"/>
          <a:stretch/>
        </p:blipFill>
        <p:spPr>
          <a:xfrm>
            <a:off x="6875640" y="3645000"/>
            <a:ext cx="1973160" cy="26305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8" descr=""/>
          <p:cNvPicPr/>
          <p:nvPr/>
        </p:nvPicPr>
        <p:blipFill>
          <a:blip r:embed="rId6"/>
          <a:stretch/>
        </p:blipFill>
        <p:spPr>
          <a:xfrm>
            <a:off x="3851280" y="4149720"/>
            <a:ext cx="282240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324000" y="2923920"/>
            <a:ext cx="8496000" cy="1546200"/>
          </a:xfrm>
          <a:prstGeom prst="rect">
            <a:avLst/>
          </a:prstGeom>
          <a:noFill/>
          <a:ln w="28440">
            <a:solidFill>
              <a:srgbClr val="d16349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РАЗЛИЧНЫХ ПОДЕЛОК, ИЗУЧЕНИЕ РАЗНЫХ СПОСОБОВ РАБОТЫ С БУМАГОЙ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395280" y="380520"/>
            <a:ext cx="8424720" cy="816120"/>
          </a:xfrm>
          <a:prstGeom prst="rect">
            <a:avLst/>
          </a:prstGeom>
          <a:solidFill>
            <a:srgbClr val="ff7b21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eorgia"/>
              </a:rPr>
              <a:t>Реализация исследования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Прямоугольник 8"/>
          <p:cNvSpPr/>
          <p:nvPr/>
        </p:nvSpPr>
        <p:spPr>
          <a:xfrm>
            <a:off x="395280" y="1557360"/>
            <a:ext cx="8424720" cy="5857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Задач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Georgia"/>
              </a:rPr>
              <a:t>Поделки из бумаг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5" name="Рисунок 5" descr=""/>
          <p:cNvPicPr/>
          <p:nvPr/>
        </p:nvPicPr>
        <p:blipFill>
          <a:blip r:embed="rId1"/>
          <a:stretch/>
        </p:blipFill>
        <p:spPr>
          <a:xfrm>
            <a:off x="614520" y="4221000"/>
            <a:ext cx="3165480" cy="2367000"/>
          </a:xfrm>
          <a:prstGeom prst="rect">
            <a:avLst/>
          </a:prstGeom>
          <a:ln w="0">
            <a:noFill/>
          </a:ln>
        </p:spPr>
      </p:pic>
      <p:pic>
        <p:nvPicPr>
          <p:cNvPr id="636" name="Рисунок 7" descr=""/>
          <p:cNvPicPr/>
          <p:nvPr/>
        </p:nvPicPr>
        <p:blipFill>
          <a:blip r:embed="rId2"/>
          <a:stretch/>
        </p:blipFill>
        <p:spPr>
          <a:xfrm>
            <a:off x="5219640" y="1584360"/>
            <a:ext cx="3311640" cy="2487600"/>
          </a:xfrm>
          <a:prstGeom prst="rect">
            <a:avLst/>
          </a:prstGeom>
          <a:ln w="0">
            <a:noFill/>
          </a:ln>
        </p:spPr>
      </p:pic>
      <p:pic>
        <p:nvPicPr>
          <p:cNvPr id="637" name="Объект 9" descr=""/>
          <p:cNvPicPr/>
          <p:nvPr/>
        </p:nvPicPr>
        <p:blipFill>
          <a:blip r:embed="rId3"/>
          <a:stretch/>
        </p:blipFill>
        <p:spPr>
          <a:xfrm>
            <a:off x="684360" y="169704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638" name="Рисунок 10" descr=""/>
          <p:cNvPicPr/>
          <p:nvPr/>
        </p:nvPicPr>
        <p:blipFill>
          <a:blip r:embed="rId4"/>
          <a:stretch/>
        </p:blipFill>
        <p:spPr>
          <a:xfrm>
            <a:off x="5222880" y="4206960"/>
            <a:ext cx="33480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елемакс1</dc:creator>
  <dc:description/>
  <dc:language>en-US</dc:language>
  <cp:lastModifiedBy>детсад92</cp:lastModifiedBy>
  <dcterms:modified xsi:type="dcterms:W3CDTF">2017-08-25T12:08:58Z</dcterms:modified>
  <cp:revision>76</cp:revision>
  <dc:subject/>
  <dc:title>Исследовательский проект «Интересная бумага».</dc:title>
</cp:coreProperties>
</file>