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D4E-D53B-4266-BBB9-EF213507D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EC2-0926-4A03-957C-0DB5F29D6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375-8B59-4E98-A338-8C209BF9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9CC-4630-4E90-B473-197FEEB8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CCE-EED5-4812-90DC-74D2A65A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D17-4878-4268-9A63-A7EEDB5D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62D0-0F3B-4669-B59D-2FDC6FB3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9B07-40B9-4447-BFA7-2417DDF5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133D-7BAF-4F8F-86F3-726ADCF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83D2-67CE-4766-9F05-25779AD9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21DC-7D7E-4D2F-B983-68C2D45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90A-28CE-4965-9434-41EED2A0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412-4F9D-48D8-ADB8-804A779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1C2-9469-486F-93BA-D5326B6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E65A-C8D2-414C-A24E-D87C1CFA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48D-7CD5-4A85-9851-22427A8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CD2-EF12-43BF-9B65-DDB3E34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B4EB-B7B5-4D9C-9FE9-3DE1BB87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B9B-F07E-47D1-83D6-8CCBF732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256-01C3-4D84-8D8C-1BE2ABBE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467-3F4F-4D93-8D13-738F831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983-B027-4371-97D7-AB9B131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931-2FDD-4B9D-85B7-7C2A31D4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C78-C08B-4294-9E06-EB0132F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61A-44B3-4502-9C1B-96ECA02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2C4-6BA0-4F92-AE0F-91DC606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96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9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A81-4906-415F-BFFD-AC0E363804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96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9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A32-0181-4B5B-9888-39D55865EF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Monotype Corsiva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1981080" y="2057400"/>
            <a:ext cx="66294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дисциплине: «ЕН.04 Информационные технологии в профессион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ме: «Представление о программных средах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пециальнос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2.02.01 Рекл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нкова Татьяна Анатольевна  преподаватель Информационных технологи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сква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440" y="3047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тров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рактальная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D граф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992840" y="3968640"/>
            <a:ext cx="3340080" cy="285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Компьютерная график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828800" y="187920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мпьютерная графика – 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852640" y="4471920"/>
            <a:ext cx="2895840" cy="2401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76280" y="4443480"/>
            <a:ext cx="2479680" cy="3517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590560" cy="196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05120" y="190476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именяется при разработке электронных и полиграфических издани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Интернете применяются только растровые иллюстр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715000" y="4473720"/>
            <a:ext cx="2916360" cy="2522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Растровая граф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81080" y="19807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ным элементом растрового изображения является точ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изображение экранное, то эта точка называется пикселе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иксель-наименьший элемент растрового из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971800" cy="1432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614920" y="5257800"/>
            <a:ext cx="2722680" cy="1546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0628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екторная граф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28800" y="19807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ным элементом векторного изображения является контур (линия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200400" y="5110200"/>
            <a:ext cx="1878120" cy="1736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5562720" y="5369040"/>
            <a:ext cx="1865160" cy="124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бласти примен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тров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05120" y="1980720"/>
            <a:ext cx="312408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 разработке электронных (мультимедийных) и полиграфических изда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Интернет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4324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екторн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723920" y="1980720"/>
            <a:ext cx="404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рекламных агентства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дизайнерских бюр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редакциях и издательства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растровой и векторной граф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057400" y="2166840"/>
            <a:ext cx="6781680" cy="415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бласти применения компьютерной граф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905120" y="1980720"/>
            <a:ext cx="64022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учн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ловая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структорская  граф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пользуется в работе инженеров-конструкторов, изобретателей новой техник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администратор</cp:lastModifiedBy>
  <dcterms:modified xsi:type="dcterms:W3CDTF">2017-08-25T07:43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