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4500-D7FB-4F40-83C9-F58D288D9E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98CB-2570-4E60-8EEB-F112AB317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CF5-E8C3-415C-86DB-854249E4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375-1B0D-4A4E-8DC5-30FEC37F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6C1-1D85-49C5-8CE6-34A7734D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18C-FD36-45D5-9DA6-8C2989AE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03F0-AE49-4116-AFC1-3BC5EDB6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96F4-1FEB-4F5C-B909-6471DAA6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A5CA-371D-4ADD-870A-EBAFEDE3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0221-AA97-4396-8DC1-7BA2BC95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FA80-24D5-488B-A219-A88AE6E4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BBB7-D04A-4216-8E43-D5866AEB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7933-2CD6-4172-A672-0AB7BB85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590-540A-4DCF-90B1-6D9B08F6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5405-F21A-41BC-BC11-A62D9976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A6A4-8455-48EA-8C18-EF8A3032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F27B-27BD-468D-9C7A-E7289E42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678E-5154-4EF2-8C58-9A73E1E1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AF95-8C55-4BF6-9E08-0D8CC7ED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01F-96AA-4F11-8F08-901820BB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296-2EB8-4FAF-AC7F-BE2E85EA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3FAC-5564-4287-8525-0BCA990F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824-6AF9-4132-BF63-705BD094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117-CB9E-450B-AB88-19A963DB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E30-AD29-4D78-B6C8-0791EBF8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2A0-7653-4659-A3D8-873B594A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ff96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ff96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77CA-1895-4C3E-B27F-F487C3B8E0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ff96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ff96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3B17-1295-4B52-B9C9-0072468C36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Monotype Corsiva"/>
              </a:rPr>
              <a:t>Компьютерная графи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оугольник 1"/>
          <p:cNvSpPr/>
          <p:nvPr/>
        </p:nvSpPr>
        <p:spPr>
          <a:xfrm>
            <a:off x="1981080" y="2057400"/>
            <a:ext cx="6629400" cy="75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дисциплине: «ЕН.04 Информационные технологии в профессиональной деятельност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теме: «Представление о программных средах компьютерной граф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специальност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42.02.01 Рекла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зентацию подготовил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нкова Татьяна Анатольевна  преподаватель Информационных технологи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осква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28440" y="30477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иды компьютерной графи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астровая график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екторная график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Фрактальная график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D график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992840" y="3968640"/>
            <a:ext cx="3340080" cy="2859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Компьютерная график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828800" y="187920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омпьютерная графика – это область информатики, занимающаяся проблемами получения различных изображений (чертежей, рисунков, мультипликаций) на компьютер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2852640" y="4471920"/>
            <a:ext cx="2895840" cy="2401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476280" y="4443480"/>
            <a:ext cx="2479680" cy="3517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2590560" cy="1966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астровая граф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905120" y="190476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именяется при разработке электронных и полиграфических изданий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Большинство редакторов ориентированы не столько на создание изображений, сколько на их обработку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 Интернете применяются только растровые иллюстраци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5715000" y="4473720"/>
            <a:ext cx="2916360" cy="2522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Растровая графи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981080" y="198072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сновным элементом растрового изображения является точк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Если изображение экранное, то эта точка называется пикселе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иксель-наименьший элемент растрового изображ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2133720" y="5257800"/>
            <a:ext cx="2971800" cy="1432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5614920" y="5257800"/>
            <a:ext cx="2722680" cy="1546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00628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Векторная графи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828800" y="198072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едназначена для создания иллюстраций с применением шрифтов и простейших геометрических объектов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сновным элементом векторного изображения является контур (линия)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3200400" y="5110200"/>
            <a:ext cx="1878120" cy="1736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5562720" y="5369040"/>
            <a:ext cx="1865160" cy="1242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Области примене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05120" y="16761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астровая график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905120" y="1980720"/>
            <a:ext cx="3124080" cy="39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и разработке электронных (мультимедийных) и полиграфических издани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Интернете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ывод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Большинство графических редакторов, предназначенных для работы с растровыми иллюстрациями, ориентированы не столько на создание изображений, сколько на их обработку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943240" y="1905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екторная график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723920" y="1980720"/>
            <a:ext cx="4041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рекламных агентствах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дизайнерских бюро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редакциях и издательствах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ывод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Большинство векторных редакторов предназначены, в первую очередь, для создания иллюстраций и в меньшей степени для их обработ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оформительских работах, основанных на применении шрифтов и простейших геометрических элементов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равнительная характеристика растровой и векторной граф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2057400" y="2166840"/>
            <a:ext cx="6781680" cy="4157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бласти применения компьютерной график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905120" y="1980720"/>
            <a:ext cx="640224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аучная график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азначение – визуализация (наглядное изображение) объектов научного исследования, графическая обработка результатов расчётов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еловая график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едназначена для создания иллюстраций, часто используемых в работе учреждений: плановые показатели, статистические сводки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нструкторская  график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спользуется в работе инженеров-конструкторов, изобретателей новой техники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ша</dc:creator>
  <dc:description/>
  <dc:language>en-US</dc:language>
  <cp:lastModifiedBy>администратор</cp:lastModifiedBy>
  <dcterms:modified xsi:type="dcterms:W3CDTF">2017-08-25T07:43:33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