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280-8141-4A24-843D-735C6A04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31A-B825-4F93-9F7E-6ADB62A3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96E-AC10-4D04-92D3-EBF3555C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0ED-3986-4B62-B572-CABDCEE7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D0F-48A4-46BE-AD7E-1FEB8F2B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9B0-7D34-4D68-8F63-8453AA56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64D-CC4F-4676-80D0-87A58631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3E1-400A-419A-84E0-4D155FAD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74A-0F94-41DD-A743-7F2BBC04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550-EB07-4BC0-95E0-2E7B05FD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9E6-B5C0-49A9-BCAE-099F7292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056-42AF-4C15-A484-98BB2EBC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800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CAE3-6874-44D8-A658-3F9FBA3D52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Tahoma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митет по образованию городского округа «Город Калининград»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МДОУ детский сад № 46 компенсирующего вида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ЗОВАТЕЛЬНЫЙ  ПРОЕК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«Волшебны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              превращ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                              Луковички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нител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агоги, воспитанники, родите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ппы №1 «Теремо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184320" y="163440"/>
            <a:ext cx="9586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10" descr="SDC10274"/>
          <p:cNvPicPr/>
          <p:nvPr/>
        </p:nvPicPr>
        <p:blipFill>
          <a:blip r:embed="rId1"/>
          <a:stretch/>
        </p:blipFill>
        <p:spPr>
          <a:xfrm>
            <a:off x="838080" y="1676520"/>
            <a:ext cx="2641680" cy="198108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  <p:pic>
        <p:nvPicPr>
          <p:cNvPr id="46" name="Picture 12" descr="SDC10278"/>
          <p:cNvPicPr/>
          <p:nvPr/>
        </p:nvPicPr>
        <p:blipFill>
          <a:blip r:embed="rId2"/>
          <a:stretch/>
        </p:blipFill>
        <p:spPr>
          <a:xfrm>
            <a:off x="838080" y="3886200"/>
            <a:ext cx="2641680" cy="198108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  <p:pic>
        <p:nvPicPr>
          <p:cNvPr id="47" name="Picture 13" descr="SDC10297"/>
          <p:cNvPicPr/>
          <p:nvPr/>
        </p:nvPicPr>
        <p:blipFill>
          <a:blip r:embed="rId3"/>
          <a:stretch/>
        </p:blipFill>
        <p:spPr>
          <a:xfrm>
            <a:off x="5410080" y="3886200"/>
            <a:ext cx="2641680" cy="198108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  <p:pic>
        <p:nvPicPr>
          <p:cNvPr id="48" name="Picture 15" descr="SDC10307"/>
          <p:cNvPicPr/>
          <p:nvPr/>
        </p:nvPicPr>
        <p:blipFill>
          <a:blip r:embed="rId4"/>
          <a:stretch/>
        </p:blipFill>
        <p:spPr>
          <a:xfrm>
            <a:off x="5410080" y="1752480"/>
            <a:ext cx="2641680" cy="198144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  <p:sp>
        <p:nvSpPr>
          <p:cNvPr id="49" name="Text Box 16"/>
          <p:cNvSpPr/>
          <p:nvPr/>
        </p:nvSpPr>
        <p:spPr>
          <a:xfrm>
            <a:off x="838080" y="12952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гра «4-й лишний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410080" y="1371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гра с пальчик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09480" y="58672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гра «Собери тюльпан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5334120" y="5867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гра «Найди отличи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533520" y="380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занятиях у дефектолог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12" descr="C:\Documents and Settings\Администратор\Рабочий стол\Новая папка\logo.gif"/>
          <p:cNvPicPr/>
          <p:nvPr/>
        </p:nvPicPr>
        <p:blipFill>
          <a:blip r:embed="rId5"/>
          <a:stretch/>
        </p:blipFill>
        <p:spPr>
          <a:xfrm>
            <a:off x="228600" y="228600"/>
            <a:ext cx="801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онструируем цветы с дефектологом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10" descr="SDC10276"/>
          <p:cNvPicPr/>
          <p:nvPr/>
        </p:nvPicPr>
        <p:blipFill>
          <a:blip r:embed="rId1"/>
          <a:stretch/>
        </p:blipFill>
        <p:spPr>
          <a:xfrm>
            <a:off x="1066680" y="1523880"/>
            <a:ext cx="2971800" cy="2229120"/>
          </a:xfrm>
          <a:prstGeom prst="rect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57" name="Picture 14" descr="SDC10308"/>
          <p:cNvPicPr/>
          <p:nvPr/>
        </p:nvPicPr>
        <p:blipFill>
          <a:blip r:embed="rId2"/>
          <a:stretch/>
        </p:blipFill>
        <p:spPr>
          <a:xfrm>
            <a:off x="5181480" y="4038480"/>
            <a:ext cx="2971800" cy="2229120"/>
          </a:xfrm>
          <a:prstGeom prst="rect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58" name="Picture 15" descr="SDC10302"/>
          <p:cNvPicPr/>
          <p:nvPr/>
        </p:nvPicPr>
        <p:blipFill>
          <a:blip r:embed="rId3"/>
          <a:stretch/>
        </p:blipFill>
        <p:spPr>
          <a:xfrm>
            <a:off x="1066680" y="4038480"/>
            <a:ext cx="2971800" cy="2229120"/>
          </a:xfrm>
          <a:prstGeom prst="rect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59" name="Picture 18" descr="SDC10289"/>
          <p:cNvPicPr/>
          <p:nvPr/>
        </p:nvPicPr>
        <p:blipFill>
          <a:blip r:embed="rId4"/>
          <a:stretch/>
        </p:blipFill>
        <p:spPr>
          <a:xfrm>
            <a:off x="5105520" y="1447920"/>
            <a:ext cx="3047760" cy="2286000"/>
          </a:xfrm>
          <a:prstGeom prst="rect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60" name="Picture 12" descr="C:\Documents and Settings\Администратор\Рабочий стол\Новая папка\logo.gif"/>
          <p:cNvPicPr/>
          <p:nvPr/>
        </p:nvPicPr>
        <p:blipFill>
          <a:blip r:embed="rId5"/>
          <a:stretch/>
        </p:blipFill>
        <p:spPr>
          <a:xfrm>
            <a:off x="152280" y="228600"/>
            <a:ext cx="80172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1"/>
          <p:cNvSpPr/>
          <p:nvPr/>
        </p:nvSpPr>
        <p:spPr>
          <a:xfrm>
            <a:off x="1066680" y="62485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схеме из палоче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510552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амостоятельно из прищеп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4952880" y="10666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амостоятельно из палоче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838080" y="11430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относим по цв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исуем с родителям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10" descr="SDC10320"/>
          <p:cNvPicPr/>
          <p:nvPr/>
        </p:nvPicPr>
        <p:blipFill>
          <a:blip r:embed="rId1"/>
          <a:stretch/>
        </p:blipFill>
        <p:spPr>
          <a:xfrm>
            <a:off x="838080" y="1523880"/>
            <a:ext cx="2641680" cy="198144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  <p:pic>
        <p:nvPicPr>
          <p:cNvPr id="67" name="Picture 11" descr="SDC10290"/>
          <p:cNvPicPr/>
          <p:nvPr/>
        </p:nvPicPr>
        <p:blipFill>
          <a:blip r:embed="rId2"/>
          <a:stretch/>
        </p:blipFill>
        <p:spPr>
          <a:xfrm>
            <a:off x="5867280" y="1523880"/>
            <a:ext cx="2641680" cy="198144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  <p:pic>
        <p:nvPicPr>
          <p:cNvPr id="68" name="Picture 12" descr="SDC10281"/>
          <p:cNvPicPr/>
          <p:nvPr/>
        </p:nvPicPr>
        <p:blipFill>
          <a:blip r:embed="rId3"/>
          <a:stretch/>
        </p:blipFill>
        <p:spPr>
          <a:xfrm>
            <a:off x="990720" y="4038480"/>
            <a:ext cx="2641320" cy="198144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  <p:sp>
        <p:nvSpPr>
          <p:cNvPr id="69" name="Text Box 16"/>
          <p:cNvSpPr/>
          <p:nvPr/>
        </p:nvSpPr>
        <p:spPr>
          <a:xfrm>
            <a:off x="3886200" y="17524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Клумб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коло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ом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3886200" y="4495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Букеты цветов  в  магазине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12" descr="C:\Documents and Settings\Администратор\Рабочий стол\Новая папка\logo.gif"/>
          <p:cNvPicPr/>
          <p:nvPr/>
        </p:nvPicPr>
        <p:blipFill>
          <a:blip r:embed="rId4"/>
          <a:stretch/>
        </p:blipFill>
        <p:spPr>
          <a:xfrm>
            <a:off x="152280" y="228600"/>
            <a:ext cx="85572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SDC10340"/>
          <p:cNvPicPr/>
          <p:nvPr/>
        </p:nvPicPr>
        <p:blipFill>
          <a:blip r:embed="rId5"/>
          <a:stretch/>
        </p:blipFill>
        <p:spPr>
          <a:xfrm>
            <a:off x="5867280" y="3962520"/>
            <a:ext cx="2641680" cy="198108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Бал цвет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152280" y="228600"/>
            <a:ext cx="80172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SDC10403"/>
          <p:cNvPicPr/>
          <p:nvPr/>
        </p:nvPicPr>
        <p:blipFill>
          <a:blip r:embed="rId2"/>
          <a:stretch/>
        </p:blipFill>
        <p:spPr>
          <a:xfrm>
            <a:off x="1143000" y="1028880"/>
            <a:ext cx="2895480" cy="217152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76" name="Picture 11" descr="SDC10401"/>
          <p:cNvPicPr/>
          <p:nvPr/>
        </p:nvPicPr>
        <p:blipFill>
          <a:blip r:embed="rId3"/>
          <a:stretch/>
        </p:blipFill>
        <p:spPr>
          <a:xfrm>
            <a:off x="5257800" y="1085760"/>
            <a:ext cx="2819520" cy="211464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77" name="Picture 13" descr="SDC10427"/>
          <p:cNvPicPr/>
          <p:nvPr/>
        </p:nvPicPr>
        <p:blipFill>
          <a:blip r:embed="rId4"/>
          <a:stretch/>
        </p:blipFill>
        <p:spPr>
          <a:xfrm>
            <a:off x="5257800" y="3828960"/>
            <a:ext cx="2819520" cy="211464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sp>
        <p:nvSpPr>
          <p:cNvPr id="78" name="Text Box 14"/>
          <p:cNvSpPr/>
          <p:nvPr/>
        </p:nvSpPr>
        <p:spPr>
          <a:xfrm>
            <a:off x="5164200" y="323856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ставляем цветы стих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990720" y="320040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ем и танцу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057680" y="60580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етем вен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5164920" y="598176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нцуем с мам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11" descr="SDC10422"/>
          <p:cNvPicPr/>
          <p:nvPr/>
        </p:nvPicPr>
        <p:blipFill>
          <a:blip r:embed="rId5"/>
          <a:stretch/>
        </p:blipFill>
        <p:spPr>
          <a:xfrm>
            <a:off x="1155600" y="4114800"/>
            <a:ext cx="2641680" cy="198108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ы представляем учреждени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3" descr="Экпоцентр-стенд"/>
          <p:cNvPicPr/>
          <p:nvPr/>
        </p:nvPicPr>
        <p:blipFill>
          <a:blip r:embed="rId1"/>
          <a:stretch/>
        </p:blipFill>
        <p:spPr>
          <a:xfrm>
            <a:off x="990720" y="1103400"/>
            <a:ext cx="7162560" cy="547848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85" name="Picture 12" descr="C:\Documents and Settings\Администратор\Рабочий стол\Новая папка\logo.gif"/>
          <p:cNvPicPr/>
          <p:nvPr/>
        </p:nvPicPr>
        <p:blipFill>
          <a:blip r:embed="rId2"/>
          <a:stretch/>
        </p:blipFill>
        <p:spPr>
          <a:xfrm>
            <a:off x="228600" y="22860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иды детской деятельност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кспериментир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блюд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ход за растени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ис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п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ппликац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струир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казы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матривание иллюстрац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ушание литературных произвед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гры с дидактическим материал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кскурсии и мини-экскур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228600" y="152280"/>
            <a:ext cx="907920" cy="129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DC10279"/>
          <p:cNvPicPr/>
          <p:nvPr/>
        </p:nvPicPr>
        <p:blipFill>
          <a:blip r:embed="rId2"/>
          <a:stretch/>
        </p:blipFill>
        <p:spPr>
          <a:xfrm>
            <a:off x="4267080" y="1219320"/>
            <a:ext cx="1981440" cy="148572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  <p:pic>
        <p:nvPicPr>
          <p:cNvPr id="90" name="Picture 8" descr="SDC10305"/>
          <p:cNvPicPr/>
          <p:nvPr/>
        </p:nvPicPr>
        <p:blipFill>
          <a:blip r:embed="rId3"/>
          <a:stretch/>
        </p:blipFill>
        <p:spPr>
          <a:xfrm>
            <a:off x="6629400" y="4114800"/>
            <a:ext cx="2209680" cy="165744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  <p:pic>
        <p:nvPicPr>
          <p:cNvPr id="91" name="Picture 9" descr="Садовники"/>
          <p:cNvPicPr/>
          <p:nvPr/>
        </p:nvPicPr>
        <p:blipFill>
          <a:blip r:embed="rId4"/>
          <a:stretch/>
        </p:blipFill>
        <p:spPr>
          <a:xfrm>
            <a:off x="5715000" y="2514600"/>
            <a:ext cx="2273400" cy="170496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0" y="18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0" y="1206360"/>
            <a:ext cx="8894880" cy="3846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5857920" y="5572080"/>
            <a:ext cx="3071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езентацию состави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Малиновская Лина Владимировна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читель-дефектолог МДОУ д\с №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01:15:46Z</dcterms:created>
  <dc:creator>Геннадий</dc:creator>
  <dc:description/>
  <dc:language>en-US</dc:language>
  <cp:lastModifiedBy>ЛИНА</cp:lastModifiedBy>
  <dcterms:modified xsi:type="dcterms:W3CDTF">2017-08-24T21:40:10Z</dcterms:modified>
  <cp:revision>19</cp:revision>
  <dc:subject/>
  <dc:title>                     Комитет по образованию городского округа «Город Калининград»                                             МДОУ детский сад № 46                                                 ОБРАЗОВАТЕЛЬНЫЙ  ПРОЕКТ         «Волшебные превращения луковички»</dc:title>
</cp:coreProperties>
</file>