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27.gif" ContentType="image/gif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4E1-5A51-4F84-8785-59F8D5DB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956A-59A4-4051-B257-F8BB6B43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1699-70B9-40C9-8B6E-291578C0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6229-0729-4F75-8441-56D9F851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EB55-D5AB-4F3C-B1DC-0C2A31B1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FED-3950-43D0-9540-2F2202F3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EF3-4EBE-4B10-A0AD-E01EEFC9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862-6C49-48E0-863F-7759A6DF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F88-E325-416C-8D44-0BA5C6AD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8847-8CC7-4EC3-8D13-E9578CC2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C313-6C74-4F8B-9C1B-5DCB4B0F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735-BB1D-4196-B882-4D3113ED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7D4B-C3BF-4343-BDFC-52E33CEA8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МБДОУ ДС№27г.Кузнецка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едали и ордена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Великой Отечественной войн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941-1945гг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38280" y="3886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4800600"/>
            <a:ext cx="510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полнила: Адиярова И.Р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знецк, 201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5257440" y="91404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рден Отечественной войны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4114800" cy="2895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95080" y="152280"/>
            <a:ext cx="59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рдена Великой Отечественной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724280" y="762120"/>
            <a:ext cx="4038840" cy="2879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24280" y="3733920"/>
            <a:ext cx="4038840" cy="2971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57200" y="373392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4560" y="4419360"/>
            <a:ext cx="8839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04560" y="4419360"/>
            <a:ext cx="8839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96160" y="4940280"/>
            <a:ext cx="224784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Из поколения в поколение передается память народа о героическом прошлом нашей страны, о доблестных защитниках Отечества! Боевые ордена и медали - наши символы, наша история,  может, и грустная, но в своей основе – великая. Не забыть, сохранить все это – наша главная зад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77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С первых дней Великой Отечественной войны отличившиеся в бою воины награждались  орденами и медал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едаль «За отваг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чреждена 17 октября  1938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для награждения вои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а личное мужество и отваг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 боях с врагами Советского Союза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3733560" cy="5257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4114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680" y="-4694400"/>
            <a:ext cx="152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360" y="1676160"/>
            <a:ext cx="75960" cy="75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00600" y="4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едаль «За боевые заслуги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чреждена 17 октября 1938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ручалась за смелые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 бою; за муж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оявленное при защи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государственной границы ССС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4038480" cy="358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8600" y="533520"/>
            <a:ext cx="4267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38880" y="-45565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76920" y="304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едаль «За доблестный труд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еликой Отечественной вой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941 – 1945гг.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чреждена 6 июня 1945 год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ручалась рабочим, обеспечивш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воим доблестным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амоотверженным трудом  побе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оветского Союза над Германией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еликой Отечественной войне.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4038840" cy="3276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4038840" cy="2819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952880" y="3048120"/>
            <a:ext cx="3962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 rot="10800000">
            <a:off x="3276000" y="4038480"/>
            <a:ext cx="7596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76160" y="3047760"/>
            <a:ext cx="75960" cy="152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33920" y="3808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едаль «За оборону Москв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чреждена 1 мая 1944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едаль вручалась всем участни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бороны Моск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 состоянию на 1 января 1995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едалью «За оборону Москвы» награжде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1 028 600 челове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3124080" cy="6019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809880" y="2590920"/>
            <a:ext cx="4953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67280" y="-23317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6094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едаль «За взятие Берл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чреждена 9 июня 1945 года в честь вз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Берлина в ходе Великой Отечеств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ойны. Ею награждались непосредствен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частники героического штурма и вз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Берлина, а также организаторы боев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пераций при взятии этого города.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едалью награждено 1100 000  человек.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562360" y="5486040"/>
            <a:ext cx="152280" cy="74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5105520" cy="3657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715000" y="457200"/>
            <a:ext cx="3048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10280" y="-275076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едаль «За победу над Герман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Великой Отечественной вой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941 – 1945 гг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чреждена 9 мая 1945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 состоянию на 1 января 1995 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этой медалью награжде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иблизительно 14 933 000 челов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38880" y="2666880"/>
            <a:ext cx="152640" cy="76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733920" cy="586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80880" y="2895480"/>
            <a:ext cx="456912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рдена Великой Отечественной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686800" y="16002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666880" y="54864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648320" y="762120"/>
            <a:ext cx="4114800" cy="2895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648320" y="3809880"/>
            <a:ext cx="4114800" cy="2895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80880" y="3809880"/>
            <a:ext cx="4114800" cy="2903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380880" y="762120"/>
            <a:ext cx="41148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ктор</cp:lastModifiedBy>
  <dcterms:modified xsi:type="dcterms:W3CDTF">2017-08-25T13:27:49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