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27.gif" ContentType="image/gif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CC23-CA93-4FED-982A-C500B7F8D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CD39-9394-40D2-9105-D71FFC78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A19A-7DD3-40FE-8788-A1906C507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93BD-1739-41AD-BCE9-C2069EB5A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A8B7-CE32-4390-9CCC-51804D76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7CC9-68B4-4DA8-A268-06851680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1579-4AE9-4E03-B6A1-A97291E2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4785-F6E7-44EA-8896-185BC641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35F4-2531-488A-B4B1-F9CD9762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1E55-4633-4D1B-AF3A-92734E42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CC54-EB65-4347-8CB5-3611D2EA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DB10-C285-49E7-B62E-FACFD67C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5217-9291-4059-A166-167363B3C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МБДОУ ДС№27г.Кузнецка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Медали и ордена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Великой Отечественной войны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941-1945гг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438280" y="388620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33920" y="4800600"/>
            <a:ext cx="5105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полнила: Адиярова И.Р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знецк, 2017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d5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5257440" y="914040"/>
            <a:ext cx="2971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рден Отечественной войны                                         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4114800" cy="2895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495080" y="152280"/>
            <a:ext cx="598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Ордена Великой Отечественной вой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724280" y="762120"/>
            <a:ext cx="4038840" cy="2879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724280" y="3733920"/>
            <a:ext cx="4038840" cy="2971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457200" y="3733920"/>
            <a:ext cx="4114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d5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04560" y="4419360"/>
            <a:ext cx="88390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769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d5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04560" y="4419360"/>
            <a:ext cx="88390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896160" y="4940280"/>
            <a:ext cx="224784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d5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Из поколения в поколение передается память народа о героическом прошлом нашей страны, о доблестных защитниках Отечества! Боевые ордена и медали - наши символы, наша история,  может, и грустная, но в своей основе – великая. Не забыть, сохранить все это – наша главная задач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8077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d5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С первых дней Великой Отечественной войны отличившиеся в бою воины награждались  орденами и медал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114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едаль «За отваг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Учреждена 17 октября  1938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для награждения воин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за личное мужество и отваг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в боях с врагами Советского Союза                       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876920" y="1143000"/>
            <a:ext cx="3733560" cy="5257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28600" y="2743200"/>
            <a:ext cx="4114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d5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09680" y="-4694400"/>
            <a:ext cx="1526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360" y="1676160"/>
            <a:ext cx="75960" cy="759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800600" y="457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едаль «За боевые заслуги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Учреждена 17 октября 1938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Вручалась за смелые дей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В бою; за мужеств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роявленное при защи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государственной границы ССС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800600" y="2438280"/>
            <a:ext cx="4038480" cy="3581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28600" y="533520"/>
            <a:ext cx="4267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d5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238880" y="-455652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876920" y="304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едаль «За доблестный труд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еликой Отечественной вой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941 – 1945гг.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Учреждена 6 июня 1945 года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Вручалась рабочим, обеспечивши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воим доблестным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амоотверженным трудом  побед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оветского Союза над Германией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Великой Отечественной войне.                               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4038840" cy="3276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09480" y="3886200"/>
            <a:ext cx="4038840" cy="2819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952880" y="3048120"/>
            <a:ext cx="3962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d5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 rot="10800000">
            <a:off x="3276000" y="4038480"/>
            <a:ext cx="75960" cy="1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76160" y="3047760"/>
            <a:ext cx="75960" cy="1522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733920" y="38088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едаль «За оборону Москв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Учреждена 1 мая 1944 г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Медаль вручалась всем участник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обороны Москв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о состоянию на 1 января 1995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медалью «За оборону Москвы» награжде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1 028 600 челове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3124080" cy="6019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809880" y="2590920"/>
            <a:ext cx="4953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d5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867280" y="-233172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60948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едаль «За взятие Берли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Учреждена 9 июня 1945 года в честь взя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Берлина в ходе Великой Отечествен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войны. Ею награждались непосредствен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участники героического штурма и взя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Берлина, а также организаторы боев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операций при взятии этого города.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Медалью награждено 1100 000  человек.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562360" y="5486040"/>
            <a:ext cx="152280" cy="74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80880" y="2895480"/>
            <a:ext cx="5105520" cy="3657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715000" y="457200"/>
            <a:ext cx="30481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d5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10280" y="-275076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едаль «За победу над Герман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 Великой Отечественной вой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941 – 1945 гг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Учреждена 9 мая 1945 г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о состоянию на 1 января 1995 го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этой медалью награжде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риблизительно 14 933 000 челов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238880" y="2666880"/>
            <a:ext cx="152640" cy="76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181480" y="457200"/>
            <a:ext cx="3733920" cy="5867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80880" y="2895480"/>
            <a:ext cx="456912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d5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Ордена Великой Отечественной вой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686800" y="160020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666880" y="548640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648320" y="762120"/>
            <a:ext cx="4114800" cy="28954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648320" y="3809880"/>
            <a:ext cx="4114800" cy="28958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380880" y="3809880"/>
            <a:ext cx="4114800" cy="2903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380880" y="762120"/>
            <a:ext cx="411480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иктор</cp:lastModifiedBy>
  <dcterms:modified xsi:type="dcterms:W3CDTF">2017-08-25T13:27:49Z</dcterms:modified>
  <cp:revision>5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