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gif" ContentType="image/gif"/>
  <Override PartName="/ppt/media/image4.png" ContentType="image/png"/>
  <Override PartName="/ppt/media/image5.jpeg" ContentType="image/jpeg"/>
  <Override PartName="/ppt/media/chimes.wav" ContentType="audio/x-wav"/>
  <Override PartName="/ppt/media/cashreg.wav" ContentType="audio/x-wav"/>
  <Override PartName="/ppt/media/laser.wav" ContentType="audio/x-wav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  <p:sldId id="267" r:id="rId29"/>
    <p:sldId id="268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slide" Target="slides/slide12.xml"/><Relationship Id="rId30" Type="http://schemas.openxmlformats.org/officeDocument/2006/relationships/slide" Target="slides/slide13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78E48-9968-4345-8F03-88D750131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E0501-EE04-4415-87C1-3901C7F2F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02CF5A-3AEE-45E1-8C5B-C5CA22462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20C869-04FA-4CD0-A4F8-ED51ECA5D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741EC0-E25F-49D9-AD9D-3985ADAD6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37665B-6399-40E6-B24A-F89A2B17D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9C5176-E15D-4F1A-A267-3764A7760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43A54B-5D09-47B9-AD84-E7B6B3081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9A4FC1-D6E2-4E8F-893A-415EE2A73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5951D0-BA5C-4B9B-80FC-847D4DD51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5E88B0-61CA-49B3-A36E-0C2D48597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4A324D-90FD-4FC6-84B4-E9386298A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C233E-2264-48FC-98CF-44F52D0A3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A648DE-C590-4861-82B1-49A9E06C7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380919-6565-4812-B1EC-4CA4B82E4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B9BC87-133D-4A3A-B93E-AF02ABA6C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7385CC-C42F-4E3E-A64D-2EA0DAF55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ED95C6-7AD3-4B13-8FA9-E3D7F6C8C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6D58FB-AA70-4111-8495-6F53E81F4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44D6FB-67E5-4C08-8CC2-ECFF91D01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2CEF77-97F3-4CD3-95DD-3A15EE1AF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8C02B8-6CB7-42C1-9FC8-9380CAB56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A39550-3F3B-41FA-BA47-F66325EAC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A087E-0CE3-4B8A-A3F7-6887BA54A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9AB71B-15C9-463E-BCD6-B484B80BA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6C8D38-3F54-4E24-8E69-32F408BC8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F12C76-BAAD-4164-9B23-EAD2063E5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CCA877-C425-468D-9010-39F44E7BD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23C626-D0A0-4BA9-9BB8-B35020D55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9DB7EE-0448-4FE9-AB9D-9C3436DC9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8DAA54-0805-42D2-A2BD-8E3616738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EDB921-D4F0-416E-A539-D3819A228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9E9529-C088-4A21-B279-17DCCBAF5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736734-2D13-4E7D-948F-A37E53314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6EC3C-E745-4EA8-B873-4898A6F6B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DD118F-D828-4130-A4AD-22D46B33B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CE36A7-C6C4-44B7-BBB3-3F39C4990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B5A42F-4B51-45C4-86F4-13EF2B0AF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A7C4F7-D726-44E5-960C-86EC1822F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6F4A3B-ADF8-4AE4-8D89-92ABBA1E4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4D853F-0101-45A3-96D7-2D8D5EAEF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1C4F95-CA35-47D7-BB77-CC147DD2D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A915A7-28AA-4FEF-AFC2-E0D40231C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AA0BCB-22D7-4CAD-B8F7-43760C255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FA3E34-6F2F-4748-AC10-FCB2DD24F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EAD83-7DC4-4729-B017-8A7E64D1E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D03BF8-00F5-43C2-8E3F-81445D02F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9C864B-A158-4B9F-8308-DE7137B7A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2F70C9-1777-48E4-A39A-DA005F914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FCFC79-D1E4-4898-A805-87AE71DE9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5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5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5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88D9B2-5BE4-44CC-87C5-EF470EEB3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5E915D8-0DA7-4AEC-A648-2CAF98688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5C546F3-7E0E-4B8A-B90C-39CF074C6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5D0E423-0642-4984-BD28-0E3712A8F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4F749AA-47F1-4957-8D96-E99F2315A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DCE535E-1559-4361-A4C7-0649C30E7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1F60A-7C54-4771-A984-8A65796BA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2D7A54A-A5B8-4725-A8A5-00D17DAD8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04C290C-7A2F-48AC-83A0-45EEF9DD1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C9D33C2-78C8-479D-B2F4-2FBDB8E26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E0758A6-C70F-479D-BFC8-50790CA4C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9ED9B1B-0003-42E4-9226-A6E5E66D1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A2DAD4C-DAC9-4788-BBE8-3CB0B1BA9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9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9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9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7E68663-5062-477C-854D-F70176DAD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A619C0A3-65BA-4B8E-92C0-7A4876DAB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F318EE8A-2DFD-4878-A78C-21C62ED13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8667580E-0FD7-4785-B051-22D7A2963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F9A47-0F16-43B7-A7E3-02E380912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9E4819B5-5784-41D8-AF93-38A2FA00E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BFE520A5-C24A-4BB1-98A5-15DBD501E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883792BE-777E-48D9-AD35-2C3AA1562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E719C64B-282B-4E83-9F7A-AAE2B222C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C44F7CD8-05A5-4F65-97C7-B217BEF30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AA4157D6-A25B-47D0-B96B-A54A4A4C2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0132C84E-5105-4E21-87A4-3FFD67185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4112CC97-4749-4DF7-8FE4-86AB645E8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E120046B-06C7-44EC-887C-CAA2799D3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D8E2BA0-73D9-4F94-BDBA-80EC5A854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D9225-4DA4-4680-9FC5-8325F8E08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09223CB-2F73-4EDE-B60C-AED4D2652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955F1AA-D4BD-499D-AB73-B8452AA45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E49B612-930F-443D-9806-EF238F90A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7A3485D-9F65-479B-89B3-58B649E57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C9BF86F-4295-4EE5-88A1-76DBF4904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DF1C545-08A2-49C9-ACA1-71E2BC03E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7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F4F2F5D-8B38-480D-B5CB-2DBA91963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1709245-93F0-40FD-BCDF-E8B09C968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7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1985630-D63E-49B6-8996-0F1804D6B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8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AE0F2CA-DDB9-4F8E-A37C-7527DA126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DDB29-4FE9-44F4-B943-C7E7BC413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8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8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8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3DD2466-F6AF-488B-8D73-0D63CC162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7009559-1D40-4853-BEC0-4C7C9A39A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75B3BBE-6C79-4C39-977F-64AE31835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C76CD58-3385-4096-9A9B-685252505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3BB44AD-DDD5-4D56-856B-BEA454E78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58CB534-457D-40B7-B355-F9F3966DD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74A9E94-497A-4DA8-904F-CF6BA9170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8907B94-A849-42F4-93AF-100C225F8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1A934BE-D6B5-4AB2-9C8E-11A8BD702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294751C-69AE-4BC0-A8AA-15BF31BE4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D8D40-02B6-4876-A345-98A1AFB7F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AB65D38-83A0-41DE-AFE8-83218A086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4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6D45240-E592-458B-AC83-EC9490DED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4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4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4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4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4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FECD7AF-ED7B-4FB2-8A7E-65C1F3ECC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D34C7-A685-441A-A1E4-F0FA718FB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BDC43-90EE-44E9-8668-2C4F44096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195C6-D3F9-4AEB-B6B5-02497EA5A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4F386-09BB-45C8-8B4B-FDD3B0520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C4B2E-8FFD-4BA5-B2B8-D14C9B352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E36B3-68C1-4EFC-8CF1-71A46E89A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D9296F-6F1A-4C85-9180-DA777149E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9EC5E7-EE81-4AAF-9AE4-1E1623FF1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43C9FE-95FF-4496-9C6A-D04A5B219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B36FB3-7DE8-4987-B628-D6EEC2A96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DA5318-B9A7-459D-B868-BA9420742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691DD-BC86-45F7-A9FA-3E412A4B0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F573AB-5AB4-42DD-9CC3-386815AE8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5CC7E4-3E3A-4DBB-9853-69FD999D1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C5CDC0-8CBC-44A6-9705-C5AE6BD20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480D60-9D77-45F3-B244-0DCA5A882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391311-D1DD-4649-8741-31A2EC7DB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92E0FB-2E05-4B08-9821-31928FF3F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62867B-0A97-4EFE-9766-55BAC7BD8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0A5778-EBBB-43FC-A642-645C268E8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33EC51-CAD0-4DB2-AD7D-DF262CA39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759D59-C809-4C1C-B96A-6AF6BC30E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A1B8B-DB7A-435E-90A4-44337216D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D4D574-BA10-4646-BBBD-0B9266542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02FE26-9CBC-4693-9927-B6E472717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060B76-DCF7-451B-9677-40ABFB124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CA18B7-9903-485D-AC16-7F18C6F82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725E93-9DC2-441C-8D50-7375E7C56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38CC22-C86B-4379-84E1-EB5481E44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5A27B5-8F12-4D38-A8A1-060A1B167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5B42F5-E63F-45D2-B8EB-66FFB2EB1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5AF965-8C94-4947-B7A2-6192C7511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FF03AF-3000-4A7D-AABB-BA1A417BF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E5B87-7953-4521-BCEB-5F312D21F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353681-1113-47F8-BD4F-8188C0EC2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C4033F-8CB0-4D05-8314-E3CA0C37F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0D07A1-440A-49EC-B37F-9D3C98BBA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ADF4D4-13F4-47F5-A215-61390C929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731E6A-D95E-4CB0-9AB8-8613ADA78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F36353-122B-499A-9E5F-BE5D9B801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475D94-8F86-499B-9E9A-5CCFEF89B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266DD9-1238-4710-AEA5-F1F8F9384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4AED58-219B-4D27-A170-9B1A59A74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81FE54-CC9E-417B-8B3B-EEB57EB0D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FB745-BFB2-48B2-927C-510DC65C5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0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0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09B1C8-8979-4A91-A919-7F6DB4E71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533F32-008E-4AC7-945C-FD394D35E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7D9E09-6FFC-4AB4-A20A-A15C338CA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E421A0-4140-4A7E-992D-C7D29D8FD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3C035D-6B77-41B6-A664-5F9F9E1F0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13E075-ACC3-4D53-B61D-6E1A6C18E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0242BD-F87A-4CBB-8C69-A1A5703EF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7A52D6-9154-4E01-8103-FFBEEB9E6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9582C0-2A66-4291-897D-1C722E36A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8CD4E8-4E6C-4150-A9AB-2E2100938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D0858-251E-400B-ADC2-7998CBFF7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CBE222-619C-4060-BA3C-43D43A05E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793E8C-E30C-49AF-AC52-866AC570F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7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7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710D29-BD9C-4FC2-9567-745D9F5D3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66EA81-203F-4DA2-B7F0-4A28B1E58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730117-35DF-4D89-9D28-2812CDA72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FD6368-19DA-48B3-BEED-26EF8BF05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D73653-2455-4102-8E76-C796485F7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156328-AC7D-4F5E-B4D5-E5E680380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31FA13-03E1-4C06-B193-07BF00217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D8CC8F-603D-41E4-B982-57D216A2E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82CAF-B48D-46D4-BA42-F9E9CB995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020876-AB5C-4F3E-886E-C304F240D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F2724F-BA51-404E-9855-4B0DF68FB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F1351B-C8E6-45CF-876C-C3C140C18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2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DBCF78-1E1F-4F77-9582-73E4E43CE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3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3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C5BB10-45E0-4D4D-BE19-0E0991376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A6DB83-19CB-4B1D-8D4E-F8B2F4286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AB4EB3-6B30-464B-B329-D8CD25ECF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5BBEB4-8569-4596-AEE3-5B5411D75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AF0642-962C-455F-BB15-973283F21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59FFE2-1BC9-486E-A576-8B9B5D2AC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9DEC5-7BFA-49F9-858B-FD94E7C29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44C4EC-F6C7-4B6E-92F5-C9B6AD8AE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930B9B-6B37-4BF9-B828-C1B2575D9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DCCD68-3500-4A4E-B384-8D6879FD9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580E02-B390-4E27-8C42-2FAF69C61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A35AA3-498F-4780-A0D0-EB90DCFC1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5906D1-B342-4759-930F-B5574C1CD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69FD89-C50D-43CA-87E8-201CA1A84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271BFE-EE00-4135-9137-1665CB2B3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55BC23-1ACC-473D-8B57-F96DB5D1B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1A988A-A0BE-47B6-88A9-2CDE3F182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7D7DD-C474-4E07-B0C8-28E3FDC0C1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6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7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77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8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9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79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0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 type="dt" idx="2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4"/>
          <p:cNvSpPr>
            <a:spLocks noGrp="1"/>
          </p:cNvSpPr>
          <p:nvPr>
            <p:ph type="sldNum" idx="3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91EEA-AF03-455C-B4BD-5FCFF2A23D17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5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846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48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849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 type="dt" idx="3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 type="ftr" idx="3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5"/>
          <p:cNvSpPr>
            <a:spLocks noGrp="1"/>
          </p:cNvSpPr>
          <p:nvPr>
            <p:ph type="sldNum" idx="3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85111-F0B2-40B0-8C9F-22CC35C72F43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9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900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901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03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06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907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 type="dt" idx="3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 type="ftr" idx="3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PlaceHolder 4"/>
          <p:cNvSpPr>
            <a:spLocks noGrp="1"/>
          </p:cNvSpPr>
          <p:nvPr>
            <p:ph type="sldNum" idx="3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D483A-F8AD-47F2-BCBC-0B744BD7C337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DD68A-6AC0-4C53-9029-87A995071D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5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 type="ftr" idx="4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 type="sldNum" idx="4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0E149-DE50-4B8C-AEBC-5D4F77C562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 type="dt" idx="4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5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036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 type="dt" idx="4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PlaceHolder 4"/>
          <p:cNvSpPr>
            <a:spLocks noGrp="1"/>
          </p:cNvSpPr>
          <p:nvPr>
            <p:ph type="sldNum" idx="4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4EBC8-633A-4BA8-A714-7F7FD875986A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2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093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 type="dt" idx="4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PlaceHolder 3"/>
          <p:cNvSpPr>
            <a:spLocks noGrp="1"/>
          </p:cNvSpPr>
          <p:nvPr>
            <p:ph type="ftr" idx="4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PlaceHolder 4"/>
          <p:cNvSpPr>
            <a:spLocks noGrp="1"/>
          </p:cNvSpPr>
          <p:nvPr>
            <p:ph type="sldNum" idx="4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9C752-8F13-4EFF-84BB-C68B7C993371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6DC46-792B-4374-8FEB-364EFA70DD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98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99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100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05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106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7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08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09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10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1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2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3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4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5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6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7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8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9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0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1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2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3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4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5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6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7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8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9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0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1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2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3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4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5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6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7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8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9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0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1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2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3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4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5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146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147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48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49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50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51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52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53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54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55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56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57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58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159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0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1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2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3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4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5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6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7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8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9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0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1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2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3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4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5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6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7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195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196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98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99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0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3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6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7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08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209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15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216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21" name="PlaceHolder 1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57A71-CA4D-4890-AAE7-7815F624C72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2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263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265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70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271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272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273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274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275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6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7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8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9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0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1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2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3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4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5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6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7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8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9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0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1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2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3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4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5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6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7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8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9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0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1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2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3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4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5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6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7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8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9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0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311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312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13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14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15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16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17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18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19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20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21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22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23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324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5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6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7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8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9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0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1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2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3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4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5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6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7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8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9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0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1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2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3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4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5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6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7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8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9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0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1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2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3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4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5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6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7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8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9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360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361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363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364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5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6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7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8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9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0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1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2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373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374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80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381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5A753-B420-4A31-9773-F52ED71100F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42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 type="dt" idx="13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 type="ftr" idx="14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 type="sldNum" idx="15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EEDAA-A04A-4B12-98B7-2800EE818FB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2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503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7" name="PlaceHolder 1"/>
          <p:cNvSpPr>
            <a:spLocks noGrp="1"/>
          </p:cNvSpPr>
          <p:nvPr>
            <p:ph type="dt" idx="16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ftr" idx="17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 type="sldNum" idx="18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053CA-B83D-4E81-BFD1-2BBA2B967D7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7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78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1A519-4404-4CAF-B48B-1644D6614781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4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635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A27DE-1F92-4913-9FD8-C7E756E9BA9C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69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9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69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0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1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72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2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 type="dt" idx="25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 type="sldNum" idx="2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564E4-E7EF-464B-A17A-B20B6CB7EC56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image" Target="../media/image5.jpeg"/><Relationship Id="rId9" Type="http://schemas.openxmlformats.org/officeDocument/2006/relationships/image" Target="../media/image5.jpeg"/><Relationship Id="rId10" Type="http://schemas.openxmlformats.org/officeDocument/2006/relationships/image" Target="../media/image5.jpeg"/><Relationship Id="rId11" Type="http://schemas.openxmlformats.org/officeDocument/2006/relationships/image" Target="../media/image5.jpeg"/><Relationship Id="rId12" Type="http://schemas.openxmlformats.org/officeDocument/2006/relationships/image" Target="../media/image5.jpeg"/><Relationship Id="rId13" Type="http://schemas.openxmlformats.org/officeDocument/2006/relationships/image" Target="../media/image5.jpeg"/><Relationship Id="rId14" Type="http://schemas.openxmlformats.org/officeDocument/2006/relationships/image" Target="../media/image5.jpeg"/><Relationship Id="rId15" Type="http://schemas.openxmlformats.org/officeDocument/2006/relationships/audio" Target="../media/chimes.wav"/><Relationship Id="rId1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slideLayout" Target="../slideLayouts/slideLayout14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4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17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7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5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7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9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2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8" name="" descr=""/>
          <p:cNvPicPr/>
          <p:nvPr/>
        </p:nvPicPr>
        <p:blipFill>
          <a:blip r:embed="rId1"/>
          <a:stretch/>
        </p:blipFill>
        <p:spPr>
          <a:xfrm>
            <a:off x="685800" y="380880"/>
            <a:ext cx="1619280" cy="1171800"/>
          </a:xfrm>
          <a:prstGeom prst="rect">
            <a:avLst/>
          </a:prstGeom>
          <a:ln w="0">
            <a:noFill/>
          </a:ln>
        </p:spPr>
      </p:pic>
      <p:sp>
        <p:nvSpPr>
          <p:cNvPr id="1149" name=""/>
          <p:cNvSpPr/>
          <p:nvPr/>
        </p:nvSpPr>
        <p:spPr>
          <a:xfrm>
            <a:off x="2981880" y="988920"/>
            <a:ext cx="546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gency FB"/>
              </a:rPr>
              <a:t>СРЕДСТВА ФИЗИЧЕСКОГО ВОСПИТАН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0" name=""/>
          <p:cNvSpPr txBox="1"/>
          <p:nvPr/>
        </p:nvSpPr>
        <p:spPr>
          <a:xfrm>
            <a:off x="1219320" y="1981080"/>
            <a:ext cx="723888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ФИЗИЧЕСКИЕ УПРАЖНЕНИЯ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циклические      ациклические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51" name=""/>
          <p:cNvSpPr txBox="1"/>
          <p:nvPr/>
        </p:nvSpPr>
        <p:spPr>
          <a:xfrm>
            <a:off x="838080" y="4724280"/>
            <a:ext cx="8153640" cy="198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ЕСТЕСТВЕННЫЕ СИЛЫ ПРИРОДЫ,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 </a:t>
            </a: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9"/>
                  <a:srcRect/>
                  <a:tile tx="0" ty="0" sx="100000" sy="100000" algn="ctr"/>
                </a:blipFill>
                <a:latin typeface="Arial"/>
              </a:rPr>
              <a:t>ГИГИЕНИЧЕСКИЕ ФАКТОРЫ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0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(СОЛНЦЕ-ВОЗДУХ-ВОДА)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3"/>
                  <a:srcRect/>
                  <a:tile tx="0" ty="0" sx="100000" sy="100000" algn="ctr"/>
                </a:blipFill>
                <a:latin typeface="Arial"/>
              </a:rPr>
              <a:t>(РЕЖИМ ДНЯ, ЛИЧНАЯ И ОБЩЕСТВЕННАЯ ГИГИЕНА)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4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ransition spd="slow">
    <p:dissolve/>
    <p:sndAc>
      <p:stSnd>
        <p:snd r:embed="rId15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ahoma"/>
              </a:rPr>
              <a:t>БЫСТРОТ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11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СОВОКУПНОСТЬ СКОРОСТНЫХ СПОСОБНОСТЕ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0" name=""/>
          <p:cNvSpPr txBox="1"/>
          <p:nvPr/>
        </p:nvSpPr>
        <p:spPr>
          <a:xfrm>
            <a:off x="2252520" y="3043080"/>
            <a:ext cx="6053400" cy="2748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А) БЫСТРОТА ДВИГАТЕЛЬНЫХ РЕАКЦИЙ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Б) СКОРОСТЬ ОДИНОЧНОГО ДВИЖЕНИЯ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В) ЧАСТОТА ДВИЖЕНИЙ (ТЕМП)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cc"/>
                </a:solidFill>
                <a:latin typeface="Tahoma"/>
              </a:rPr>
              <a:t>ГИБКОСТЬ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Tahoma"/>
              </a:rPr>
              <a:t>     </a:t>
            </a:r>
            <a:r>
              <a:rPr b="0" lang="en-US" sz="2000" spc="-1" strike="noStrike">
                <a:solidFill>
                  <a:srgbClr val="ff3300"/>
                </a:solidFill>
                <a:latin typeface="Tahoma"/>
              </a:rPr>
              <a:t>свойство упругой растягиваемости телесных структур (главным образом, мышечных и соединительных), определяющих пределы амплитуды движений звеньев тела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*</a:t>
            </a:r>
            <a:r>
              <a:rPr b="1" lang="en-US" sz="1800" spc="-1" strike="noStrike">
                <a:solidFill>
                  <a:srgbClr val="00c600"/>
                </a:solidFill>
                <a:latin typeface="Tahoma"/>
              </a:rPr>
              <a:t>Общая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*</a:t>
            </a:r>
            <a:r>
              <a:rPr b="1" lang="en-US" sz="1800" spc="-1" strike="noStrike">
                <a:solidFill>
                  <a:srgbClr val="00c600"/>
                </a:solidFill>
                <a:latin typeface="Tahoma"/>
              </a:rPr>
              <a:t>Специальная</a:t>
            </a:r>
            <a:r>
              <a:rPr b="0" lang="en-US" sz="1600" spc="-1" strike="noStrike">
                <a:solidFill>
                  <a:srgbClr val="00c6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  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Общая гибкость - это подвижность во всех суставах, позволяющая выполнять разнообразные движения с большой амплитудой. Специальная гибкость - значительная или даже предельная подвижность в отдельных суставах, и применительна к требованиям избранного вида спорта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diamond/>
    <p:sndAc>
      <p:stSnd>
        <p:snd r:embed="rId2" name="cashreg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выносливость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ff33cc"/>
                </a:solidFill>
                <a:latin typeface="Verdana"/>
              </a:rPr>
              <a:t>Совокупность физических способностей, обеспечивающих поддержание длительности работы в различных зонах мощности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cc"/>
                </a:solidFill>
                <a:latin typeface="Verdana"/>
              </a:rPr>
              <a:t>Общая–длительное выполнение работы с оптимальной функциональной активностью всех жизнеобеспечивающих органов и структур организма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cc"/>
                </a:solidFill>
                <a:latin typeface="Verdana"/>
              </a:rPr>
              <a:t>Специальная характеризуется продолжительностью работы, которая определяется зависимостью степени утомления от содержания  решения двигательной задачи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slow">
    <p:diamond/>
    <p:sndAc>
      <p:stSnd>
        <p:snd r:embed="rId1" name="laser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c85e"/>
                </a:solidFill>
                <a:latin typeface="Arial"/>
              </a:rPr>
              <a:t>Ловкость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Совокупность координационных способностей, а также способностей  выполнять действие  с необходимой амплитудой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slow">
    <p:circle/>
    <p:sndAc>
      <p:stSnd>
        <p:snd r:embed="rId1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 Black"/>
              </a:rPr>
              <a:t>ОСНОВНЫЕ ПОНЯТИЯ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53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80071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66"/>
                </a:solidFill>
                <a:latin typeface="Arial"/>
              </a:rPr>
              <a:t>ДВИГАТЕЛЬНОЕ ДЕЙСТВ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ДВИЖЕ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УМЕ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НАВЫ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00"/>
                </a:solidFill>
                <a:latin typeface="Arial"/>
              </a:rPr>
              <a:t>ТЕХНИ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dissolve/>
    <p:sndAc>
      <p:stSnd>
        <p:snd r:embed="rId1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f45"/>
                </a:solidFill>
                <a:latin typeface="Arial"/>
              </a:rPr>
              <a:t>ДВИГАТЕЛЬНОЕ ДЕЙСТВИЕ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ЦЕЛЕНАПРАВЛЕННОЕ ПРОЯВЛЕНИЕ АКТИВНОСТИ, С ПОМОЩЬЮ КОТОРОЙ РЕШАЕТСЯ ДВИГАТЕЛЬНАЯ ЗАДАЧА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strips dir="rd"/>
    <p:sndAc>
      <p:stSnd>
        <p:snd r:embed="rId1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ДВИЖЕНИЕ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ПЕРЕМЕЩЕНИЕ ТЕЛА И ЕГО ЗВЕНЬЕВ В ПРОСТРАНСТВ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РОИЗВОЛЬНЫЕ(ПРИОБРЕТЁННЫЕ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НЕПРОИЗВОЛЬНЫЕ(ВРОЖДЁННЫЕ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diamond/>
    <p:sndAc>
      <p:stSnd>
        <p:snd r:embed="rId1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ДВИГАТЕЛЬНЫЕ УМЕНИЯ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Garamond"/>
              </a:rPr>
              <a:t>   </a:t>
            </a:r>
            <a:r>
              <a:rPr b="0" lang="en-US" sz="3200" spc="-1" strike="noStrike">
                <a:solidFill>
                  <a:srgbClr val="ff3300"/>
                </a:solidFill>
                <a:latin typeface="Garamond"/>
              </a:rPr>
              <a:t>УРОВЕНЬ ВЛАДЕНИЯ ДВИГАТЕЛЬНЫМ ДЕЙСТВИЕМ, ПРИ КОТОРОМ НЕОБХОДИМО СЛЕДИТЬ ЗА ВЫПОЛНЕНИЕМ КАЖДОГО ВХОДЯЩЕГО В НЕГО ДВИЖЕНИЯ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wheel spokes="8"/>
    <p:sndAc>
      <p:stSnd>
        <p:snd r:embed="rId2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ДВИГАТЕЛЬНЫЙ НАВЫК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ff3300"/>
                </a:solidFill>
                <a:latin typeface="Verdana"/>
              </a:rPr>
              <a:t>СПОСОБНОСТЬ ВЫПОЛНИТЬ ДЕЙСТВИЕ, АКЦЕНТИРУЯ ВНИМАНИЕ НА УСЛОВИЯХ И РЕЗУЛЬТАТЕ ДЕЙСТВИЯ, А НЕ НА ОТДЕЛЬНЫХ ДВИЖЕНИЯ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split dir="in" orient="horz"/>
    <p:sndAc>
      <p:stSnd>
        <p:snd r:embed="rId1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ТЕХНИКА ВЫПОЛНЕНИЯ УПРАЖНЕНИЙ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СПОСОБ НАИБОЛЕЕ РАЦИОНАЛЬНОГО И ЭФФЕКТИВНОГО РЕШЕНИЯ ДВИГАТЕЛЬНОЙ ЗАДАЧ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pull dir="l"/>
    <p:sndAc>
      <p:stSnd>
        <p:snd r:embed="rId1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cc"/>
                </a:solidFill>
                <a:latin typeface="Tahoma"/>
              </a:rPr>
              <a:t>ФИЗИЧЕСКИЕ КАЧЕСТВ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СОВОКУПНОСТЬ БИОЛОГИЧЕСКИХ И ПСИХИЧЕСКИХ СВОЙСТВ ЧЕЛОВЕКА, ВЫРАЖАЮЩИЕ ЕГО ФИЗИЧЕСКУЮ ГОТОВНОСТЬ ОСУЩЕСТВЛЯТЬ АКТИВНУЮ ДВИГАТЕЛЬНУЮ ДЕЯТЕЛЬНОСТЬ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ФИЗИЧЕСКИЕ КАЧЕСТВ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СИЛ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ВЫНОСЛИВОС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ЛОВКОС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ГИБКОС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БЫСТРОТ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dissolve/>
    <p:sndAc>
      <p:stSnd>
        <p:snd r:embed="rId1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Олег</cp:lastModifiedBy>
  <dcterms:modified xsi:type="dcterms:W3CDTF">2007-08-31T09:34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