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chimes.wav" ContentType="audio/x-wav"/>
  <Override PartName="/ppt/media/cashreg.wav" ContentType="audio/x-wav"/>
  <Override PartName="/ppt/media/laser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40A6-5993-4559-9D52-D59B35F9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388E-B3CE-4F71-A1B4-017C7871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1F796-2D08-49D7-917F-5BD5874E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F1DD7-E9D8-4FCC-9DD4-33C90C68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131AB-D2B9-45BE-9DC9-EF9208DA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F6676-1623-4F08-B21B-32BEBA35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46CA0-6E40-4AAB-AFAB-795CF5C2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7E46F-68AB-4762-A065-2CD4127D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86725-8349-43A7-A2DD-780461D6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2E0E5-2C3E-46F4-8730-4DA8BD75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8A7A8-9D62-4FCF-843E-16B0F9AF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7C136-2F1D-4C56-8074-71B5DB30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82A-7C40-4FF2-8396-B3F8CA7F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56C5A-AC66-4FFF-A9F0-0518895E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59312-8C7B-4457-A11F-1CD4950D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27DE5-494F-4659-8753-46CE01F9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7D0B9-4060-4080-A258-D614DAFA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6700D-B14A-4746-A20F-10A14C52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14750-12AA-46A3-9E08-2B66D676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A3D85-25C9-4CF6-BAA8-87A50F0B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C8C73-8391-475D-B30F-23E5B7BC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D30CF-D0BB-417A-B889-6763490A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88F47-FC88-41FA-9DA2-1C49953D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B75-0E2B-4EB8-AECC-407EE1BA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E15BF-85A8-4FE2-B911-61C4301C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4EAFC-DF97-4911-82AF-50C07353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356C6-09C7-4FCD-B3A1-E5265B09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B7F35-C0EB-45BD-ACE5-4801AD42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F6398-631D-4C1C-8B3D-30546EC1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3DFB5-6A11-4C7B-A58E-0B9DD7DC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7B03C-A719-4DBC-8268-89B3A69B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67B28-065B-4C99-8649-3FCF464C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7AE13-6C1D-4E7F-93EE-F02B2156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B508A-EBCE-41AE-8708-C7760A46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7986-2CDE-42B9-B247-7B052897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61DF4-2FF1-4F0D-B12E-5BF2B725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8C11F-F689-46C7-967D-7146FCB2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6C998-E6F6-468A-988E-71665A2B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4912A-A8E3-42A7-98D5-92B053DA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68F40-09D4-4C7E-8EC6-DD179FDE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D0C45-3215-4996-A1EA-9F624AB4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77045-CBB3-4C18-A5A0-ECD955DA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0F2BF-71D6-4E0E-AA40-E3CF9FD3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51674-FC0A-4A50-BE39-5C36B6EB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C7EC5-160C-4F4B-8383-CF0BC9D1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C933-943C-4B74-9B0C-A42C8A6D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A07A0-0E8B-41EB-95E2-122FD491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DBC99-C55C-4E82-B6B7-E8891ED8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9796E-A6E3-4FF9-A45F-0E48FCB7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12FAC-B90F-491B-BEDB-61585793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F8F13-AB44-4389-8A0D-BAA05703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28369-8485-4957-9595-CF41792A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87A850-56DD-4641-B1BF-B4FAF084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1842E-E5DC-4CE4-B817-48747C13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EF2D5-08F8-4AAB-B491-290EE1D9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0FEF8-D187-47DB-87A8-7B613389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8589-1D35-4F0A-BA31-F7C6373B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E30A6-DFB2-407D-895C-0499324B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FFFCA-5BC1-4234-8F7D-CCBC7219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98B64-4829-4C2B-8375-F946D772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198FA-DD49-4155-8307-EE489CED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FFFAF-9B32-4783-93A8-D0CF450F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1F5F9-BEE0-4396-91A0-BD3C6803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795C6-E7E4-468A-8A9E-1EA1249B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DB35AF-F846-4692-993D-27092A1F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329209-C7BF-4E89-992A-ED6AD22E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3FA9B6-1096-45E5-824A-B6AF6389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4F75-F20D-449C-8110-8DC6CB5E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E9565A-2694-481D-B370-9E6262C6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632353-2FD8-4F31-B472-22859DC2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B07A68-DF6D-4392-A04F-EDBC68A5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A1B23C-ED1A-4F05-83A3-6615FEA8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14F253-E447-40DC-B13B-A797CDC1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A3E116-64D1-453F-88CD-88744B24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6EDB407-0DEA-4977-923E-4C1DC937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9FBF46E-9EBA-4799-9D24-8CCD8BD5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E3E317-22BC-478C-91C0-59107855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F2EF62-747A-41EA-9A4F-52C43A50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F075-E05B-47A7-BF25-9BB0793C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B98693-3784-4944-ABAA-63FB1FA5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80A0A3-4BCC-46D0-852F-BBD21258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C23633-132D-4038-BF56-178E8AAC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06212-E9F0-45CE-B4B4-2C82F195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9F51E-9E8C-4F0C-A613-637F0089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08F5BE-8650-4DE0-9CF9-E1EEF63D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55AAC3-55F1-4D44-9AA9-F78D9D40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9FFB5E-5CDC-4E5D-869E-968E3E81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FA4C51-F4AE-4C0D-A184-935983B3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4A8D35-7AAE-4931-85DE-D7C46CC7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4319-FC94-42DD-BD92-EF9F0727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CFDBFF-DF51-42A2-AB56-B6D4C586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C647DA-FC18-4E0E-B6F5-4481C711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3F0088-8A81-42B3-AE56-7F59C6BE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FA65BF-3D43-42DE-B1D8-8633C7AD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D787D7-009C-4928-A179-91EA469B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B3DE84-05BF-4462-BA07-3847FF1A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FE8615-99EB-467F-BC87-C07BEE56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447E70-76E7-457F-A6E2-D138EC95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8C7BAF-449D-4A5A-9F92-F92EE9F6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9490A2-E842-4134-8F92-CC9BB4EC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2D90-233D-4565-A837-1E48B986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A6B0BC-66D6-469C-99B8-1DBAA837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C61FC5-7598-46B8-AB1B-A6179269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3E2268-93C2-45C9-A7E4-C92C9F64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DC8-C24E-4C97-B768-4561CCFC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3FEC-1F73-4C7A-8611-0A6A4D7B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1C0F-6640-494E-86C9-2884B346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DFCF-A91C-4011-AD5B-02BD2A0F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7006-8DAE-42DB-B7AC-D215DA7E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760D-1CDA-4CFE-B1BE-F6C3FB95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8AEB8-F387-4E40-9596-95EADB38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F1B48-D349-471B-8FEA-E7EB2A42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39D83-EACA-4848-B0D2-FE7824C0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7B0BC-DB2D-4414-8F57-2D4C36C9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591E6-078D-4348-8E08-58D940FA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B14-5F5A-4C44-A131-C27C4B7B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CC3D1-DC11-4E24-8D65-FAAC91EC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C0EC5-8752-4E3E-B569-0091302C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20392-F1B1-4F77-A221-8936360F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A385F-11C1-451E-AD90-776F54FC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E7EE7-4F8C-4E2F-9E24-CBFD529A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CEA20-2DB2-4933-9044-4746B014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03412-A2E9-468D-9F4C-D06B23CA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B9CCA-C893-4DE3-BD7F-0A48F5F5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5043E-C87B-4BD7-B207-3A1135E3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89DDA-7308-4547-A442-59D9CCCD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48B-D27E-47CC-B1E0-4F18A41B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58BB3-C983-4022-B257-6F9FE5F6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7D524-B7C3-4540-90FB-12C353F7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21F53-869A-4C7F-8AAA-61E67BA6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93070-9D84-4857-994D-C16412C7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FE7F2-9E58-485C-A2EF-98AB1556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D9AFD-C75E-4210-B115-4802586B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0A242-F1AE-4D6D-B812-97E4F5FD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1FF67-D04B-4440-B3A0-C8EF030B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19245-4704-48CF-B38A-20CEE236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D388A-1676-4095-8B4F-B407E689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F03-3C0D-41A3-81E8-9DCE5F64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1AA71-2848-4CCC-8664-DAD7797B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B406D-FEA3-4140-9300-E0168CE2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1B67E-C394-4629-BBCC-E2EE519A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CA67D-2512-44BA-893F-D067EB38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AA7D9-4526-4A81-BD6D-43C68081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0C612-0870-4BFB-973A-B2D6133A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44C4D-E9DF-4574-91D2-D86FD046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93ADE-2B22-477F-8F9E-B4E1B91C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AED5F-9EE9-47CC-8603-985F2591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11420-706A-4255-8B28-592E6AD2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C23-4E9F-43F3-B1B9-4E58F986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ED5DE-C100-4C3E-96C7-C3B290CD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324E4-FECB-49BE-B24A-F99AF482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76935-683A-41A4-8751-3AEFCABA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4FD6B-D6E0-4266-9D61-E2EF01F4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23B73-8CFA-4F07-BC54-42132DF5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4617A-C20E-4493-A4D1-6677BAD3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1CFAE-C235-4B8E-8308-E114645A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E23AB-6AA8-4676-8E2E-BC185264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EBDB7-E4A1-4D00-8F22-E4495F93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DD8AA-FE0E-4DF9-AB11-59DDA3AC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DD0-BB23-4790-AB7D-9CCD8E63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C18E0-C4E9-4DFC-A14B-B562E870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48702-94E3-4F1B-8B5A-4E561391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02735-F1BE-41BE-BD89-6E7C9AFF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FE4B3-0760-4F98-9D7A-801E6A06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59AE7-8B42-40B4-BD64-44F83F45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66E1F-1D52-4E81-8CAD-315AFF21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60EF5-FBC0-4820-8BC8-2869EDDC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4F990-7B4F-40C3-86F8-93EF6F98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5220C-389F-4A8F-B609-1A951AB2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0DF72-9C09-409A-BBA2-AFEECF75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9D6-9C50-4233-A974-B15D8026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E98DC-1D74-45B4-9C34-02DB485F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501E4-0E4D-4895-AD15-A9819B6D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3E54F-B6EB-4E36-A488-13DDAFB4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081CA-6042-485A-B558-17EE65CC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68157-5118-4740-9265-263B6AF0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55503-9A7D-42D4-8860-7D8705E8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6A5C9-D6C6-4798-B07E-657D5353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44002-E670-431F-AD4C-9C4B4C16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08B01-6209-40C4-B3F0-4CDD8E79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63573-06A7-4C83-B8FB-B9F303DB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04D-EFD2-464E-8E7C-BD9950C3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1C2EE-F8EE-4BAB-A785-5DD3D663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6BA29-0787-41FF-8C70-54EDA67D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A6BAC-9C08-427A-BBED-7F55C5AA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0B7ED-6E2A-4CD4-AD19-081C2CF7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638B9-01E2-4A4F-AC5F-D60EDA83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61A42-810B-4861-A950-28E4D0D7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8E6CD-2FCE-4F6D-B44B-48905EF5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17013-2A08-457A-82B0-2749CB5E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4CF3E-0FDE-413B-8275-53DC78FD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51F3B-611A-4FB7-A670-CC6CFD5F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36E6-DF99-453E-A373-42E284F39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6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7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B585-DD24-40C7-852D-C76D48957C1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846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849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174B-F58A-4AE5-9B9E-8F4323B5A5A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00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01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907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ftr" idx="3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320A-1D83-4434-AC1E-4C62C0B18C1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431E-0EC0-4E03-8B3E-A5416E533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7C98-7DD6-4F0C-9DBB-1EE6D519A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5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36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A922-1F84-4DCE-8716-4F638A88E3F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93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4732-DB8B-47F1-8AA8-A87481FDE80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AE50-F07B-4853-B478-4AA8D90BF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98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9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6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47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2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8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95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96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8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09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16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AE51-10F1-4739-B57A-E626CD3646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63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4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1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312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3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0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61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3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374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381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F575-EE91-4CAE-8395-4D88B43A98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B2FB-E29C-402F-B4B7-306AF2165C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0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CECC-7AE3-4D65-A4A3-9EB748338A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7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A0CF-B5CF-4327-933A-8DC1F3242F7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35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0816-134B-41B7-B433-0503AEB0FCC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9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9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2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DC1B-BB19-4A36-86A0-9F0A2F292A2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4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7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7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619280" cy="1171800"/>
          </a:xfrm>
          <a:prstGeom prst="rect">
            <a:avLst/>
          </a:prstGeom>
          <a:ln w="0">
            <a:noFill/>
          </a:ln>
        </p:spPr>
      </p:pic>
      <p:sp>
        <p:nvSpPr>
          <p:cNvPr id="1149" name=""/>
          <p:cNvSpPr/>
          <p:nvPr/>
        </p:nvSpPr>
        <p:spPr>
          <a:xfrm>
            <a:off x="2981880" y="988920"/>
            <a:ext cx="54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gency FB"/>
              </a:rPr>
              <a:t>СРЕДСТВА ФИЗИЧЕСКОГО ВОСП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1219320" y="1981080"/>
            <a:ext cx="72388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ИЧЕСКИЕ УПРАЖНЕН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иклические      ациклически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838080" y="4724280"/>
            <a:ext cx="81536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ЕСТЕСТВЕННЫЕ СИЛЫ ПРИРОДЫ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ГИГИЕНИЧЕСКИЕ ФАКТОРЫ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(СОЛНЦЕ-ВОЗДУХ-ВОДА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(РЕЖИМ ДНЯ, ЛИЧНАЯ И ОБЩЕСТВЕННАЯ ГИГИЕНА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dissolve/>
    <p:sndAc>
      <p:stSnd>
        <p:snd r:embed="rId15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БЫСТРО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СОВОКУПНОСТЬ СКОРОСТНЫХ СПОСОБ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2252520" y="3043080"/>
            <a:ext cx="6053400" cy="27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А) БЫСТРОТА ДВИГАТЕЛЬНЫХ РЕАКЦ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Б) СКОРОСТЬ ОДИНОЧНОГО ДВИЖ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В) ЧАСТОТА ДВИЖЕНИЙ (ТЕМП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ГИБК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свойство упругой растягиваемости телесных структур (главным образом, мышечных и соединительных), определяющих пределы амплитуды движений звеньев тел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c600"/>
                </a:solidFill>
                <a:latin typeface="Tahoma"/>
              </a:rPr>
              <a:t>Общ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c600"/>
                </a:solidFill>
                <a:latin typeface="Tahoma"/>
              </a:rPr>
              <a:t>Специальная</a:t>
            </a:r>
            <a:r>
              <a:rPr b="0" lang="en-US" sz="16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бщая гибкость - это подвижность во всех суставах, позволяющая выполнять разнообразные движения с большой амплитудой. Специальная гибкость - значительная или даже предельная подвижность в отдельных суставах, и применительна к требованиям избранного вида спорт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  <p:sndAc>
      <p:stSnd>
        <p:snd r:embed="rId2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ыносливос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33cc"/>
                </a:solidFill>
                <a:latin typeface="Verdana"/>
              </a:rPr>
              <a:t>Совокупность физических способностей, обеспечивающих поддержание длительности работы в различных зонах мощност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Verdana"/>
              </a:rPr>
              <a:t>Общая–длительное выполнение работы с оптимальной функциональной активностью всех жизнеобеспечивающих органов и структур организм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Verdana"/>
              </a:rPr>
              <a:t>Специальная характеризуется продолжительностью работы, которая определяется зависимостью степени утомления от содержания  решения двигательной задач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diamond/>
    <p:sndAc>
      <p:stSnd>
        <p:snd r:embed="rId1" name="las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c85e"/>
                </a:solidFill>
                <a:latin typeface="Arial"/>
              </a:rPr>
              <a:t>Ловкость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овокупность координационных способностей, а также способностей  выполнять действие  с необходимой амплитудо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ОСНОВНЫЕ ПОНЯТ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ДВИГАТЕЛЬНОЕ ДЕЙСТВ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УМ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В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ТЕХ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f45"/>
                </a:solidFill>
                <a:latin typeface="Arial"/>
              </a:rPr>
              <a:t>ДВИГАТЕЛЬНОЕ ДЕЙСТВИЕ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ЦЕЛЕНАПРАВЛЕННОЕ ПРОЯВЛЕНИЕ АКТИВНОСТИ, С ПОМОЩЬЮ КОТОРОЙ РЕШАЕТСЯ ДВИГАТЕЛЬНАЯ ЗАДАЧ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trips dir="r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ВИЖ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ПЕРЕМЕЩЕНИЕ ТЕЛА И ЕГО ЗВЕНЬЕВ В ПРОСТРАНСТВ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ИЗВОЛЬНЫЕ(ПРИОБРЕТЁННЫ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ПРОИЗВОЛЬНЫЕ(ВРОЖДЁННЫ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ВИГАТЕЛЬНЫЕ УМЕ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Garamond"/>
              </a:rPr>
              <a:t>УРОВЕНЬ ВЛАДЕНИЯ ДВИГАТЕЛЬНЫМ ДЕЙСТВИЕМ, ПРИ КОТОРОМ НЕОБХОДИМО СЛЕДИТЬ ЗА ВЫПОЛНЕНИЕМ КАЖДОГО ВХОДЯЩЕГО В НЕГО ДВИЖ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ВИГАТЕЛЬНЫЙ НАВЫ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СПОСОБНОСТЬ ВЫПОЛНИТЬ ДЕЙСТВИЕ, АКЦЕНТИРУЯ ВНИМАНИЕ НА УСЛОВИЯХ И РЕЗУЛЬТАТЕ ДЕЙСТВИЯ, А НЕ НА ОТДЕЛЬНЫХ ДВИЖЕНИЯ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ТЕХНИКА ВЫПОЛНЕНИЯ УПРАЖНЕНИ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СПОСОБ НАИБОЛЕЕ РАЦИОНАЛЬНОГО И ЭФФЕКТИВНОГО РЕШЕНИЯ ДВИГАТЕЛЬНОЙ ЗАДА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ФИЗИЧЕСКИЕ КАЧЕСТ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СОВОКУПНОСТЬ БИОЛОГИЧЕСКИХ И ПСИХИЧЕСКИХ СВОЙСТВ ЧЕЛОВЕКА, ВЫРАЖАЮЩИЕ ЕГО ФИЗИЧЕСКУЮ ГОТОВНОСТЬ ОСУЩЕСТВЛЯТЬ АКТИВНУЮ ДВИГАТЕЛЬНУЮ ДЕЯ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ЗИЧЕСКИЕ КАЧЕСТ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С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ЫНОСЛИВ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ЛОВК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ГИБК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БЫСТР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07-08-31T09:34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