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AD2-0FA7-4D62-8E77-A1443321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781-97F9-4CE2-ADCC-D8BEEDA6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DC8-35BB-44BC-B8C5-30781C43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0DC-FA93-432A-B085-BB484EF0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6F30-889D-406E-B797-2C9C176F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6291-0D32-4C59-9462-120E0F33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D0F7-4B64-49B6-B253-BED1F75D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B45D-DD37-4AAC-84E3-3B601475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4A00-1168-4FAC-81B1-A8AC10BA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E957-CF88-4001-8AF1-A3DF971C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FEE7-0006-4D94-9B6A-13C91201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4F2-2465-4EA3-91F4-D4DD07FC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44BB-F940-42D8-BBE0-C826F645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32B0-5F85-46A5-A496-0712EB93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6596-4736-4B3E-BC1C-FD571BFE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733F-F347-4F8E-B158-A61DCC00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AB43-F4FB-4319-8D12-3913B6F2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6B1E7-0263-4F66-ABAA-8164EEAC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73C7D-0952-4501-9BAE-AC7211B1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2B77C-2502-4862-A5F3-B696AD3D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58D7D-E07F-416E-98AA-E63780A2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E683F-62F1-4916-809B-46F16A13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0B8-3175-4672-A9A1-6B2F0D82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86AD6-67BA-4199-A79A-4A8FFC37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E7F2-21E8-4EE0-BA63-3FBD7A43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0BC39-64D4-4F79-9B8A-9400ED76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61915-99AF-4A48-95B5-A00B5ED1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4D166-F936-48BA-B8D3-18E65107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CA9D1-19FD-48E6-A39F-312152E3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1BB2-9A35-4C94-8FB6-C2C7EF4D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A5D0C-DB7F-4F5B-A166-7134C089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3C7C6-410E-4F32-A9BB-38FF7AAF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8F00A-A813-43A5-BFA7-4C1B8E89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3B7-935C-454F-AC90-C666ED6E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16BBA-652E-4869-8E4B-FFF20F7F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0663C-3BE5-45D5-A9B2-A44ED487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5CE78-6344-4D97-9F71-07BFEE16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128B6-03E3-4F65-B585-9433B204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5349D-1D82-4893-9FCC-0A1DEDF0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73338-ACF0-4E3B-ADCF-AA1DE212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28B39-2191-418A-8236-DDC2BE89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BDFC-BD3F-46FA-9DC3-35C7C4B2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6FE02-184F-42F4-8D28-D72546ED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CE78D-9DBB-4980-B408-CEEA43FD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9F4-6E87-48BA-8A29-F6DB99DC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8DB8D-A679-472A-B664-D8E3631D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10DBF-3BA7-43CE-8690-E2810DDD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6D6D8-41CA-4C35-B116-E526F8CE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6C1C6-90B1-4526-B87E-D9D5EF9F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43463-2F8A-4ABC-AC01-AAD944DF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F62C1-C1A8-4FB6-A710-8DDF305B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A5717-F756-49F9-97E4-EA903766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83893-B4FF-4795-A1FF-5AD3A693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31AA2-16CC-47E6-AEE0-7E0B0998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D6497-BE52-4C52-BB35-49B2700A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698-03D0-4863-94A4-CA7326E9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7FF6C-0E6A-48EF-8DFC-DF8E5AD4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96115-91BB-4693-AFC4-47CF5A28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DE417-4091-4628-B637-94B5D57F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6037C-8F08-443E-85A0-D6328A8C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E55DF-7BE3-48DF-AB8A-CF2D2D8C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3717B-4278-41E0-AE5C-CA52AAA6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65B40-F70F-412A-A6B8-040D52A2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E6435-ED73-4734-8935-50532D64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7BAE4-6019-4C27-8733-0C6DA7AB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58BAB-C33F-4AB6-AB9B-F2129431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192-AB12-408A-B75D-4569D8A2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1D22C-B9ED-4747-9626-B38D9979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7AC77-69C1-4F02-8F94-65F8B36F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26837-A2E5-47EB-9968-7A11CB50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8D876-3336-4742-B0A7-03BD3AD6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DA2F5-6E23-4F9E-B42A-F4147E19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DD509-6956-4213-A5CC-8423BDA8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898A3-8E15-40B1-BE00-447A65A5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84BFC-8117-4872-ABC2-250E1F6C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C555F-1D22-4FD3-83F9-1B242A0C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12C04-D221-4DDD-A4A2-8FAAD980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F7B-165C-47DA-85D2-5FA03A46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BA2DF-FA10-430F-81F5-7C817EAD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7B7AA-55B4-4783-81D8-091CFA6E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B5536-1023-45EE-8B61-D5FBC61C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B0D27-6CA8-4465-AE90-BAE142A7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86EEE-C89E-4F90-B264-1C9682B1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45B5F-9C4F-47A1-83FD-973618F0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C602A-59FB-47AA-BC6A-E169FE18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1B9AC-0613-4CC8-ACA7-31F4D48D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974E7-3506-4510-AC9A-C59FCEFB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C9C90-4C8E-418E-A8C4-C9AB62CD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694-82B3-496D-9110-9F0BCE97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A77B7-0510-473C-908A-82C2BA54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000A8-A666-4FAD-BA00-882F4CE3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3320E-329B-445D-8F02-85A68A9F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C590A-CE76-4994-A38C-D391D3E9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EEF3B-8697-46E4-B2B4-05D4A588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6464E-18E1-4975-BA8D-55DAE76C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AAE45-52DD-49A5-B0DF-B8C317AB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340E-0339-4041-85C0-3A313EB83D6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22D9-C2EF-4F49-A524-697B3A777C3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F52F-01EF-43B1-944F-D6449551EEA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0951-2A1F-4037-B145-B412AA34F54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6773-DFCC-4FAF-9FEC-E1A73680691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B487-8217-4DD2-ABE2-1C01B98CDAC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ADA6-4EC9-4314-9B0B-4E3CCFF0753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D7B2-15A0-466A-8E92-E0C71E90DBF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ru.wikipedia.org/wiki/&#1058;&#1091;&#1087;&#1086;&#1081;_&#1091;&#1075;&#1086;&#1083;" TargetMode="External"/><Relationship Id="rId5" Type="http://schemas.openxmlformats.org/officeDocument/2006/relationships/hyperlink" Target="http://ru.wikipedia.org/wiki/&#1055;&#1088;&#1103;&#1084;&#1086;&#1081;_&#1091;&#1075;&#1086;&#1083;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riangle-scalene.svg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&#1060;&#1072;&#1081;&#1083;:Triangle-isosceles.svg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ru.wikipedia.org/wiki/&#1060;&#1072;&#1081;&#1083;:Triangle-equilateral.svg" TargetMode="Externa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91532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  к уроку по  геометри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умма углов треугольника»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0" y="3071520"/>
            <a:ext cx="52862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Овчарова Л. В. учитель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и МБОУ « О О Владимировская школа»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11" descr="j0237248"/>
          <p:cNvPicPr/>
          <p:nvPr/>
        </p:nvPicPr>
        <p:blipFill>
          <a:blip r:embed="rId1"/>
          <a:stretch/>
        </p:blipFill>
        <p:spPr>
          <a:xfrm>
            <a:off x="4714920" y="1857240"/>
            <a:ext cx="44290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1 ( 357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Rectangle 37"/>
          <p:cNvSpPr/>
          <p:nvPr/>
        </p:nvSpPr>
        <p:spPr>
          <a:xfrm>
            <a:off x="2268360" y="39290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8"/>
          <p:cNvSpPr/>
          <p:nvPr/>
        </p:nvSpPr>
        <p:spPr>
          <a:xfrm>
            <a:off x="3643200" y="13572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9"/>
          <p:cNvSpPr/>
          <p:nvPr/>
        </p:nvSpPr>
        <p:spPr>
          <a:xfrm>
            <a:off x="6286680" y="385776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2"/>
          <p:cNvSpPr/>
          <p:nvPr/>
        </p:nvSpPr>
        <p:spPr>
          <a:xfrm>
            <a:off x="428760" y="4929120"/>
            <a:ext cx="26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Найти: угол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47"/>
          <p:cNvSpPr/>
          <p:nvPr/>
        </p:nvSpPr>
        <p:spPr>
          <a:xfrm>
            <a:off x="2643120" y="1643040"/>
            <a:ext cx="3600360" cy="2952720"/>
          </a:xfrm>
          <a:prstGeom prst="pi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0"/>
          <p:cNvSpPr/>
          <p:nvPr/>
        </p:nvSpPr>
        <p:spPr>
          <a:xfrm>
            <a:off x="3357720" y="21430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3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1"/>
          <p:cNvSpPr/>
          <p:nvPr/>
        </p:nvSpPr>
        <p:spPr>
          <a:xfrm>
            <a:off x="2928960" y="392904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96</a:t>
            </a:r>
            <a:r>
              <a:rPr b="1" lang="ru-RU" sz="32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2"/>
          <p:cNvSpPr/>
          <p:nvPr/>
        </p:nvSpPr>
        <p:spPr>
          <a:xfrm>
            <a:off x="4714920" y="38577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600200"/>
            <a:ext cx="8472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2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Freeform 15"/>
          <p:cNvSpPr/>
          <p:nvPr/>
        </p:nvSpPr>
        <p:spPr>
          <a:xfrm>
            <a:off x="2643120" y="4786200"/>
            <a:ext cx="362160" cy="115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2340000" y="4357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708360" y="150012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6516720" y="4357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0"/>
          <p:cNvSpPr/>
          <p:nvPr/>
        </p:nvSpPr>
        <p:spPr>
          <a:xfrm>
            <a:off x="2928960" y="2000160"/>
            <a:ext cx="3538440" cy="2952720"/>
          </a:xfrm>
          <a:prstGeom prst="pi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3810600" y="5931000"/>
            <a:ext cx="27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Найти: угол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4"/>
          <p:cNvSpPr/>
          <p:nvPr/>
        </p:nvSpPr>
        <p:spPr>
          <a:xfrm>
            <a:off x="1643040" y="4929120"/>
            <a:ext cx="12240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6"/>
          <p:cNvSpPr/>
          <p:nvPr/>
        </p:nvSpPr>
        <p:spPr>
          <a:xfrm>
            <a:off x="1979640" y="50007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7"/>
          <p:cNvSpPr/>
          <p:nvPr/>
        </p:nvSpPr>
        <p:spPr>
          <a:xfrm>
            <a:off x="1476360" y="4357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8"/>
          <p:cNvSpPr/>
          <p:nvPr/>
        </p:nvSpPr>
        <p:spPr>
          <a:xfrm>
            <a:off x="1928880" y="56437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9"/>
          <p:cNvSpPr/>
          <p:nvPr/>
        </p:nvSpPr>
        <p:spPr>
          <a:xfrm>
            <a:off x="7020000" y="3068640"/>
            <a:ext cx="144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5"/>
          <p:cNvSpPr/>
          <p:nvPr/>
        </p:nvSpPr>
        <p:spPr>
          <a:xfrm>
            <a:off x="3564000" y="2428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6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651640" y="42861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Решение задач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3 ( 360) Найдите углы равностороннего треугольни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 = 60 </a:t>
            </a:r>
            <a:r>
              <a:rPr b="1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Равнобедренный треугольник 3"/>
          <p:cNvSpPr/>
          <p:nvPr/>
        </p:nvSpPr>
        <p:spPr>
          <a:xfrm>
            <a:off x="500040" y="2786040"/>
            <a:ext cx="2214720" cy="2928960"/>
          </a:xfrm>
          <a:prstGeom prst="triangle">
            <a:avLst>
              <a:gd name="adj" fmla="val 500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5"/>
          <p:cNvSpPr/>
          <p:nvPr/>
        </p:nvSpPr>
        <p:spPr>
          <a:xfrm flipH="1">
            <a:off x="2714400" y="2643120"/>
            <a:ext cx="214200" cy="35712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ая соединительная линия 6"/>
          <p:cNvSpPr/>
          <p:nvPr/>
        </p:nvSpPr>
        <p:spPr>
          <a:xfrm flipH="1">
            <a:off x="3643200" y="2571840"/>
            <a:ext cx="214560" cy="35712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7"/>
          <p:cNvSpPr/>
          <p:nvPr/>
        </p:nvSpPr>
        <p:spPr>
          <a:xfrm flipH="1">
            <a:off x="4428720" y="264312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9"/>
          <p:cNvSpPr/>
          <p:nvPr/>
        </p:nvSpPr>
        <p:spPr>
          <a:xfrm>
            <a:off x="2714760" y="3000240"/>
            <a:ext cx="214200" cy="18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10"/>
          <p:cNvSpPr/>
          <p:nvPr/>
        </p:nvSpPr>
        <p:spPr>
          <a:xfrm>
            <a:off x="3643200" y="2928960"/>
            <a:ext cx="214560" cy="144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11"/>
          <p:cNvSpPr/>
          <p:nvPr/>
        </p:nvSpPr>
        <p:spPr>
          <a:xfrm>
            <a:off x="4429080" y="2928960"/>
            <a:ext cx="214200" cy="144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3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4 ( 362) Угол при основании равнобедренного треугольника равен 63</a:t>
            </a:r>
            <a:r>
              <a:rPr b="1" lang="ru-RU" sz="2500" spc="-1" strike="noStrike" baseline="30000">
                <a:solidFill>
                  <a:srgbClr val="464653"/>
                </a:solidFill>
                <a:latin typeface="Cambria"/>
              </a:rPr>
              <a:t>0</a:t>
            </a: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ол при вершин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го треугольника</a:t>
            </a: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.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но       АВС – равнобедренный,        А = 6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        В                       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=      А = 6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так как треугольник АВС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внобедренный. По теореме о сумме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глов      А +      В +      С = 180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0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 = 180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( 6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 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+ 6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 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  = 54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вет:      В = 54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Равнобедренный треугольник 3"/>
          <p:cNvSpPr/>
          <p:nvPr/>
        </p:nvSpPr>
        <p:spPr>
          <a:xfrm>
            <a:off x="571680" y="3000240"/>
            <a:ext cx="1357200" cy="30006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5"/>
          <p:cNvSpPr/>
          <p:nvPr/>
        </p:nvSpPr>
        <p:spPr>
          <a:xfrm>
            <a:off x="857160" y="4214880"/>
            <a:ext cx="214560" cy="7128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8"/>
          <p:cNvSpPr/>
          <p:nvPr/>
        </p:nvSpPr>
        <p:spPr>
          <a:xfrm flipH="1">
            <a:off x="1500120" y="4142520"/>
            <a:ext cx="214560" cy="14292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0"/>
          <p:cNvSpPr/>
          <p:nvPr/>
        </p:nvSpPr>
        <p:spPr>
          <a:xfrm>
            <a:off x="216720" y="5857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1"/>
          <p:cNvSpPr/>
          <p:nvPr/>
        </p:nvSpPr>
        <p:spPr>
          <a:xfrm>
            <a:off x="931320" y="2786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2"/>
          <p:cNvSpPr/>
          <p:nvPr/>
        </p:nvSpPr>
        <p:spPr>
          <a:xfrm>
            <a:off x="1931400" y="571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655920" y="564372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Равнобедренный треугольник 16"/>
          <p:cNvSpPr/>
          <p:nvPr/>
        </p:nvSpPr>
        <p:spPr>
          <a:xfrm>
            <a:off x="1357200" y="1500120"/>
            <a:ext cx="214560" cy="2858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18"/>
          <p:cNvSpPr/>
          <p:nvPr/>
        </p:nvSpPr>
        <p:spPr>
          <a:xfrm flipH="1">
            <a:off x="5071680" y="150012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21"/>
          <p:cNvSpPr/>
          <p:nvPr/>
        </p:nvSpPr>
        <p:spPr>
          <a:xfrm>
            <a:off x="5072040" y="178596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24"/>
          <p:cNvSpPr/>
          <p:nvPr/>
        </p:nvSpPr>
        <p:spPr>
          <a:xfrm flipH="1">
            <a:off x="1571400" y="192888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25"/>
          <p:cNvSpPr/>
          <p:nvPr/>
        </p:nvSpPr>
        <p:spPr>
          <a:xfrm>
            <a:off x="1571760" y="221472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26"/>
          <p:cNvSpPr/>
          <p:nvPr/>
        </p:nvSpPr>
        <p:spPr>
          <a:xfrm flipH="1">
            <a:off x="2928600" y="27860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27"/>
          <p:cNvSpPr/>
          <p:nvPr/>
        </p:nvSpPr>
        <p:spPr>
          <a:xfrm flipH="1">
            <a:off x="3642840" y="27860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ая соединительная линия 28"/>
          <p:cNvSpPr/>
          <p:nvPr/>
        </p:nvSpPr>
        <p:spPr>
          <a:xfrm>
            <a:off x="2928960" y="307188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29"/>
          <p:cNvSpPr/>
          <p:nvPr/>
        </p:nvSpPr>
        <p:spPr>
          <a:xfrm>
            <a:off x="3643200" y="3071880"/>
            <a:ext cx="21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ая соединительная линия 31"/>
          <p:cNvSpPr/>
          <p:nvPr/>
        </p:nvSpPr>
        <p:spPr>
          <a:xfrm flipH="1">
            <a:off x="3785760" y="37148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ая соединительная линия 32"/>
          <p:cNvSpPr/>
          <p:nvPr/>
        </p:nvSpPr>
        <p:spPr>
          <a:xfrm flipH="1">
            <a:off x="4571640" y="364320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ая соединительная линия 33"/>
          <p:cNvSpPr/>
          <p:nvPr/>
        </p:nvSpPr>
        <p:spPr>
          <a:xfrm flipH="1">
            <a:off x="5357520" y="364320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ая соединительная линия 34"/>
          <p:cNvSpPr/>
          <p:nvPr/>
        </p:nvSpPr>
        <p:spPr>
          <a:xfrm>
            <a:off x="3786120" y="4000680"/>
            <a:ext cx="21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ая соединительная линия 35"/>
          <p:cNvSpPr/>
          <p:nvPr/>
        </p:nvSpPr>
        <p:spPr>
          <a:xfrm>
            <a:off x="4572000" y="392904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ая соединительная линия 36"/>
          <p:cNvSpPr/>
          <p:nvPr/>
        </p:nvSpPr>
        <p:spPr>
          <a:xfrm>
            <a:off x="5357880" y="392904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ая соединительная линия 37"/>
          <p:cNvSpPr/>
          <p:nvPr/>
        </p:nvSpPr>
        <p:spPr>
          <a:xfrm flipH="1">
            <a:off x="2714400" y="41432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ая соединительная линия 38"/>
          <p:cNvSpPr/>
          <p:nvPr/>
        </p:nvSpPr>
        <p:spPr>
          <a:xfrm>
            <a:off x="2714760" y="442908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ая соединительная линия 39"/>
          <p:cNvSpPr/>
          <p:nvPr/>
        </p:nvSpPr>
        <p:spPr>
          <a:xfrm>
            <a:off x="3938760" y="415296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ая соединительная линия 40"/>
          <p:cNvSpPr/>
          <p:nvPr/>
        </p:nvSpPr>
        <p:spPr>
          <a:xfrm flipH="1">
            <a:off x="6500520" y="5143680"/>
            <a:ext cx="14292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41"/>
          <p:cNvSpPr/>
          <p:nvPr/>
        </p:nvSpPr>
        <p:spPr>
          <a:xfrm>
            <a:off x="6500880" y="542916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Итог урока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ему равна сумма углов треугольника: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кое наименьшее количество острых углов есть в любом треугольнике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ашнее задание п. 16, вопросы 1,2 , учить доказательство теоремы 16.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полнить 259, 361,36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 доказывать теорему о сумме углов треугольник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применять свойства углов треугольника при  решении зада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Равнобедренный треугольник 7"/>
          <p:cNvSpPr/>
          <p:nvPr/>
        </p:nvSpPr>
        <p:spPr>
          <a:xfrm>
            <a:off x="4429080" y="3929040"/>
            <a:ext cx="3214800" cy="2143080"/>
          </a:xfrm>
          <a:prstGeom prst="triangle">
            <a:avLst>
              <a:gd name="adj" fmla="val 500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Треугольни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4000680" y="214200"/>
            <a:ext cx="4667040" cy="200052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4"/>
          <p:cNvSpPr/>
          <p:nvPr/>
        </p:nvSpPr>
        <p:spPr>
          <a:xfrm>
            <a:off x="500040" y="2643120"/>
            <a:ext cx="82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геометрическая фигура, состоящая из трёх точек, не лежащих на одной прямой и трёх отрезков, соединяющих эти т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- ключевая фигура планимет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Типы треугольников </a:t>
            </a:r>
            <a:br>
              <a:rPr sz="2900"/>
            </a:br>
            <a:r>
              <a:rPr b="1" lang="ru-RU" sz="29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(по величине углов)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42960" y="2071800"/>
            <a:ext cx="2643120" cy="1881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3429000" y="2000160"/>
            <a:ext cx="2714760" cy="2024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6643800" y="1643040"/>
            <a:ext cx="2000160" cy="230976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6"/>
          <p:cNvSpPr/>
          <p:nvPr/>
        </p:nvSpPr>
        <p:spPr>
          <a:xfrm>
            <a:off x="500040" y="4143240"/>
            <a:ext cx="8072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се углы треугольника острые, то треугольник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угольн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дин из углов треугольника 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Times New Roman"/>
                <a:ea typeface="Times New Roman"/>
                <a:hlinkClick r:id="rId4"/>
              </a:rPr>
              <a:t>туп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ольше 90°), то треугольник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угольн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дин из углов треугольника 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Times New Roman"/>
                <a:ea typeface="Times New Roman"/>
                <a:hlinkClick r:id="rId5"/>
              </a:rPr>
              <a:t>прям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авен 90°), то треугольник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Типы треугольников</a:t>
            </a:r>
            <a:br>
              <a:rPr sz="2900"/>
            </a:br>
            <a:r>
              <a:rPr b="1" lang="ru-RU" sz="29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(по количеству равных сторон)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7" name="Содержимое 7" descr="Разносторонний треугольни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1714680"/>
            <a:ext cx="2428920" cy="199044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8" descr="Равнобедренный треугольник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72120" y="1643040"/>
            <a:ext cx="2357640" cy="171468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9" descr="Равносторонний треугольник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43200" y="1785960"/>
            <a:ext cx="1714680" cy="164304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10"/>
          <p:cNvSpPr/>
          <p:nvPr/>
        </p:nvSpPr>
        <p:spPr>
          <a:xfrm>
            <a:off x="285840" y="3571920"/>
            <a:ext cx="8643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оронни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треугольник, у которого длины трёх сторон попарно различ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внобедренн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треугольник, у которого две стороны равны. Эти стороны называю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ков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ретья сторона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равнобедренном треугольнике углы при основании равны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диа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иссектри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бедренного треугольника, опущенные на основание, совпад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Чему равна сумма углов треугольника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мерить все углы треугольни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ти сумму углов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Прямоугольный треугольник 3"/>
          <p:cNvSpPr/>
          <p:nvPr/>
        </p:nvSpPr>
        <p:spPr>
          <a:xfrm>
            <a:off x="3929040" y="4572000"/>
            <a:ext cx="3500640" cy="1000080"/>
          </a:xfrm>
          <a:prstGeom prst="rtTriangl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Равнобедренный треугольник 4"/>
          <p:cNvSpPr/>
          <p:nvPr/>
        </p:nvSpPr>
        <p:spPr>
          <a:xfrm>
            <a:off x="1571760" y="4357800"/>
            <a:ext cx="1928520" cy="1143000"/>
          </a:xfrm>
          <a:prstGeom prst="triangle">
            <a:avLst>
              <a:gd name="adj" fmla="val 500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Чему равна сумма углов треугольника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ите треугольник, который лежат у вас на столе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едите в рабочих листах треугольник Обозначьте углы этого треугольника числами 1, 2 и 3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жьте ножницами все угл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те их в одной общей точке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Прямоугольный треугольник 3"/>
          <p:cNvSpPr/>
          <p:nvPr/>
        </p:nvSpPr>
        <p:spPr>
          <a:xfrm>
            <a:off x="7358040" y="2500200"/>
            <a:ext cx="1486080" cy="2843280"/>
          </a:xfrm>
          <a:prstGeom prst="rtTriangl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Равнобедренный треугольник 4"/>
          <p:cNvSpPr/>
          <p:nvPr/>
        </p:nvSpPr>
        <p:spPr>
          <a:xfrm>
            <a:off x="428760" y="3786120"/>
            <a:ext cx="5786280" cy="1143000"/>
          </a:xfrm>
          <a:prstGeom prst="triangle">
            <a:avLst>
              <a:gd name="adj" fmla="val 500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400" spc="-1" strike="noStrike">
                <a:solidFill>
                  <a:srgbClr val="464653"/>
                </a:solidFill>
                <a:latin typeface="Cambria"/>
              </a:rPr>
              <a:t>Теорема:    </a:t>
            </a:r>
            <a:r>
              <a:rPr b="1" lang="ru-RU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Сумма углов треугольника равна 180°</a:t>
            </a:r>
            <a:br>
              <a:rPr sz="29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0" name="Содержимое 3" descr="http://upload.wikimedia.org/wikipedia/ru/thumb/0/0b/TriangleWithLine.gif/250px-TriangleWithLine.gif"/>
          <p:cNvPicPr/>
          <p:nvPr/>
        </p:nvPicPr>
        <p:blipFill>
          <a:blip r:embed="rId1"/>
          <a:stretch/>
        </p:blipFill>
        <p:spPr>
          <a:xfrm>
            <a:off x="1500120" y="1071720"/>
            <a:ext cx="5143680" cy="21430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5"/>
          <p:cNvSpPr/>
          <p:nvPr/>
        </p:nvSpPr>
        <p:spPr>
          <a:xfrm>
            <a:off x="0" y="321480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       А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:       А  +       В  +         С =180 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роизвольный треугольник. Проведем через вершин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ую а , параллельную прям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      1   равны как  накрест лежащие  при параллельных прямы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и   A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 секуще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о доказываем, что        С =        3. Но углы 1,2,3 составляют развернутый угол с вершиной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       А +      АВС +      С =      1 +     2  +       3 = 18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2788920" y="142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3431880" y="1571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4360320" y="142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Равнобедренный треугольник 8"/>
          <p:cNvSpPr/>
          <p:nvPr/>
        </p:nvSpPr>
        <p:spPr>
          <a:xfrm>
            <a:off x="928800" y="3500280"/>
            <a:ext cx="214200" cy="3574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10"/>
          <p:cNvSpPr/>
          <p:nvPr/>
        </p:nvSpPr>
        <p:spPr>
          <a:xfrm flipH="1">
            <a:off x="1356840" y="3857760"/>
            <a:ext cx="14292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7"/>
          <p:cNvSpPr/>
          <p:nvPr/>
        </p:nvSpPr>
        <p:spPr>
          <a:xfrm>
            <a:off x="1357200" y="4143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20"/>
          <p:cNvSpPr/>
          <p:nvPr/>
        </p:nvSpPr>
        <p:spPr>
          <a:xfrm flipH="1">
            <a:off x="2214720" y="3857760"/>
            <a:ext cx="14256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1"/>
          <p:cNvSpPr/>
          <p:nvPr/>
        </p:nvSpPr>
        <p:spPr>
          <a:xfrm>
            <a:off x="2214720" y="414324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2"/>
          <p:cNvSpPr/>
          <p:nvPr/>
        </p:nvSpPr>
        <p:spPr>
          <a:xfrm>
            <a:off x="3143160" y="4143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23"/>
          <p:cNvSpPr/>
          <p:nvPr/>
        </p:nvSpPr>
        <p:spPr>
          <a:xfrm flipH="1">
            <a:off x="3214440" y="3857760"/>
            <a:ext cx="14292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4"/>
          <p:cNvSpPr/>
          <p:nvPr/>
        </p:nvSpPr>
        <p:spPr>
          <a:xfrm>
            <a:off x="1785960" y="1071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25"/>
          <p:cNvSpPr/>
          <p:nvPr/>
        </p:nvSpPr>
        <p:spPr>
          <a:xfrm flipH="1">
            <a:off x="142560" y="50720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26"/>
          <p:cNvSpPr/>
          <p:nvPr/>
        </p:nvSpPr>
        <p:spPr>
          <a:xfrm>
            <a:off x="142920" y="53578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27"/>
          <p:cNvSpPr/>
          <p:nvPr/>
        </p:nvSpPr>
        <p:spPr>
          <a:xfrm flipH="1">
            <a:off x="928440" y="50720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28"/>
          <p:cNvSpPr/>
          <p:nvPr/>
        </p:nvSpPr>
        <p:spPr>
          <a:xfrm>
            <a:off x="928800" y="535788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29"/>
          <p:cNvSpPr/>
          <p:nvPr/>
        </p:nvSpPr>
        <p:spPr>
          <a:xfrm flipH="1">
            <a:off x="5643720" y="5286240"/>
            <a:ext cx="142560" cy="3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31"/>
          <p:cNvSpPr/>
          <p:nvPr/>
        </p:nvSpPr>
        <p:spPr>
          <a:xfrm>
            <a:off x="4786200" y="56437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32"/>
          <p:cNvSpPr/>
          <p:nvPr/>
        </p:nvSpPr>
        <p:spPr>
          <a:xfrm>
            <a:off x="5643720" y="564372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36"/>
          <p:cNvSpPr/>
          <p:nvPr/>
        </p:nvSpPr>
        <p:spPr>
          <a:xfrm flipH="1">
            <a:off x="4785840" y="5286240"/>
            <a:ext cx="142920" cy="3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37"/>
          <p:cNvSpPr/>
          <p:nvPr/>
        </p:nvSpPr>
        <p:spPr>
          <a:xfrm flipH="1">
            <a:off x="1999800" y="60008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38"/>
          <p:cNvSpPr/>
          <p:nvPr/>
        </p:nvSpPr>
        <p:spPr>
          <a:xfrm flipH="1">
            <a:off x="2785680" y="60008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39"/>
          <p:cNvSpPr/>
          <p:nvPr/>
        </p:nvSpPr>
        <p:spPr>
          <a:xfrm flipH="1">
            <a:off x="3857400" y="5931000"/>
            <a:ext cx="21420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ая соединительная линия 40"/>
          <p:cNvSpPr/>
          <p:nvPr/>
        </p:nvSpPr>
        <p:spPr>
          <a:xfrm>
            <a:off x="2000160" y="62866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42"/>
          <p:cNvSpPr/>
          <p:nvPr/>
        </p:nvSpPr>
        <p:spPr>
          <a:xfrm>
            <a:off x="2786040" y="62866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43"/>
          <p:cNvSpPr/>
          <p:nvPr/>
        </p:nvSpPr>
        <p:spPr>
          <a:xfrm>
            <a:off x="3857760" y="628668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46"/>
          <p:cNvSpPr/>
          <p:nvPr/>
        </p:nvSpPr>
        <p:spPr>
          <a:xfrm flipH="1">
            <a:off x="4642920" y="60008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47"/>
          <p:cNvSpPr/>
          <p:nvPr/>
        </p:nvSpPr>
        <p:spPr>
          <a:xfrm flipH="1">
            <a:off x="5357520" y="60008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48"/>
          <p:cNvSpPr/>
          <p:nvPr/>
        </p:nvSpPr>
        <p:spPr>
          <a:xfrm flipH="1">
            <a:off x="6143400" y="60008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49"/>
          <p:cNvSpPr/>
          <p:nvPr/>
        </p:nvSpPr>
        <p:spPr>
          <a:xfrm>
            <a:off x="4643280" y="62866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50"/>
          <p:cNvSpPr/>
          <p:nvPr/>
        </p:nvSpPr>
        <p:spPr>
          <a:xfrm>
            <a:off x="5357880" y="62866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51"/>
          <p:cNvSpPr/>
          <p:nvPr/>
        </p:nvSpPr>
        <p:spPr>
          <a:xfrm>
            <a:off x="6143760" y="628668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Следствия</a:t>
            </a:r>
            <a:br>
              <a:rPr sz="2900"/>
            </a:b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еди углов треугольника хотя бы  два угла остры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Прямоугольный треугольник 4"/>
          <p:cNvSpPr/>
          <p:nvPr/>
        </p:nvSpPr>
        <p:spPr>
          <a:xfrm rot="18557400">
            <a:off x="2720160" y="1706760"/>
            <a:ext cx="5072040" cy="3340080"/>
          </a:xfrm>
          <a:prstGeom prst="rtTriangl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4:29:57Z</dcterms:created>
  <dc:creator>www.PHILka.RU</dc:creator>
  <dc:description/>
  <dc:language>en-US</dc:language>
  <cp:lastModifiedBy>Сашка</cp:lastModifiedBy>
  <dcterms:modified xsi:type="dcterms:W3CDTF">2017-08-25T08:25:31Z</dcterms:modified>
  <cp:revision>28</cp:revision>
  <dc:subject/>
  <dc:title>Сумма углов треугольника</dc:title>
</cp:coreProperties>
</file>