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A43-6CC9-46DD-8284-22BAB0BD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D6D-E065-4AAA-ABF0-AB4A53C6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A8D-A8D0-491F-A5B0-14E2C2E1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C7E-3CA7-4F03-B546-4C08DCF9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A1F1-CAFA-46C9-A46C-8228667F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A6A2-CF91-429C-9182-2151FB61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DABF-D00B-4223-AF29-D3CAA962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1992-D9A8-4680-8C1D-F1A28C0A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5F99-F9CD-424E-BDB1-6267E63D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5875-5BE8-4AA8-B322-F2D61E5D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2642-954C-4EBB-B0A0-FBEFD534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47E-0C27-4213-A6BB-3B35A593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B4DC-2F5E-4007-8251-9BB9A573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CCE1-5FD0-4F4B-B93C-C3946622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C47C-E6BC-44AB-A88C-D1634F4D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43A8-F31D-4147-AFAE-11D6ADCC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F9C5-2CCD-42FF-A249-05791BB6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540D-B747-4575-8C71-02003AD9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3FD7-813C-4094-88E1-1CCBBFBC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B0CD-1B18-42FD-9756-A228256F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EF37-6266-40BE-B5B5-61A87C6A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C59C-2F29-4C2B-819D-C3B19C6C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0DB-85F6-436D-BF18-A76A8E0B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A9DE-46F1-4772-B516-A31CD997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11C5-5904-4205-A663-589A01A9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0C695-B3E1-4B86-BE98-94684A31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040E6-6E7A-4020-B8F3-BE2CE5EE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4E31-E414-44C7-80B8-471D9B87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9CA1-3CF8-452A-B760-1B596D65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E965B-C70E-4701-931E-35B81AE5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07FD3-365A-4B32-88AB-8FC97C9A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E104-225D-4F20-9988-C7EC2235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F38D-3E1C-43B9-A373-78F8B3F9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407-A6D9-48FD-88E3-2094F5CE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B5581-88C2-4934-8FA4-267B8293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4C6CF-D2FA-432D-BCF5-03D64BDD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AC10D-B4B1-469F-AB90-096257ED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B83D4-A3ED-4C20-A54E-7332AC2A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8DDB-1183-4627-A355-4798BB64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2479B-1709-4879-8B6A-8211CFE3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9930E-2F32-468F-9C30-F1A0EEC2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F5C58-BC23-4079-BE30-71357EEB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CBA1A-351D-48B9-980F-01A4239F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D3AC-5A43-47CD-826F-4D9CC183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950-F41A-414A-BA08-6EC884BD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BE679-9194-4B90-B580-D47FB61E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AFDDD-46CB-426A-8DEF-4C4584FB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9CB66-3855-4B48-93FA-87FCDC77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BEEF-6443-4883-B3E0-05CD2355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9E011-A666-46A9-8CEA-316782AE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F1EA3-485B-4A21-9C6D-E4E42F59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236B8-4A5F-4807-8781-41D1C71C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5A179-7668-4F09-9BD4-809B378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5C3D6-929A-449A-96D1-75E5E2C8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F2A01-AA72-4423-AFD3-D97C0B3C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3E8-C3C0-409D-81C5-84E3233B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AC77-708B-402F-AD65-05EC2559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02336-736A-4173-A2CD-FDAF569C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E3930-DAAE-4E23-8356-63448B91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422BC-CF09-498C-89A2-A4AB9985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D3F8-06EC-432D-B8D2-22DCB9FA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D97E6-DD03-4DD3-99CE-16108845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3669C-2926-4C43-98F7-F8A0DD9B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D5C1D-0BF3-43A7-BDD9-6B636E18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998D-A741-4CE8-BC98-3207514F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FFE69-F655-4DE0-8275-8C1C354F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50D-5C70-4BC2-9664-140F5B4C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35723-A46F-4A8A-AC61-590F41B2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03311-5755-4F05-B4FA-C74BC40F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C6D9A-9A23-468A-AD78-846A8E60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C5CF9-1A99-498E-B4F2-83AC4048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CDFAE-E363-40CE-80C3-ABC6C89B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1010E-6024-4789-B9D7-A59D98C5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8AB9F-ED83-42AA-9B54-39F71231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745CB-61B1-4D76-B516-4A33FA75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E58FA-B071-4A6C-8607-DF44AA9E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9966D-43CE-436A-BA47-F2D0D814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FEC-080F-48CB-9492-93F774B0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6DF6A-726B-4F73-932F-25C3804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7A358-185C-4DF2-ACB2-4B807910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F9440-AB6E-40BD-8304-17CDCFA5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9E6A2-C30A-4201-A5F4-CE72752C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7D4DF-4DEC-4709-AE2E-51335F06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26DF1-8319-4F94-9365-3B31BB13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BDF6F-9232-45EA-847B-A8333820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5A9D9-BB4E-4422-A9ED-5971D0FD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3F96A-C846-4E5E-A77A-958036D4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2FD22-21C9-4CFB-A7C8-62BE79A6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A7B-87A3-4A72-A78E-2AA39461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D6611-8678-4DCD-93F7-F47F19BB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934AE-8A15-42ED-913C-BFF8C99A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DF30B-538A-4688-97BF-77DB3753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CF98C-EE3F-4FC9-BD92-6ADE6290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382EE-9A14-4CF2-89FA-72E714E8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D36DD-1B2C-492F-8C9A-52AE5D49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C6BFF-1AE0-467C-834D-3FDC8687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FD86-5CED-4FA9-A615-C427579FE79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0B3F-93C9-46DE-A3EE-A6CA85AF80F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8384-9B61-4AD6-9675-890F733E0E9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6D23-88AD-4F08-84E0-96ABED6A2E5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9958-8613-4359-B791-3064DD9F3C8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178A-0BB8-421B-BE20-37C4590C834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6A62-0B02-46E0-9342-FAA0133D1FC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E034-633E-4ED8-8058-DFADD7E371B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ru.wikipedia.org/wiki/&#1058;&#1091;&#1087;&#1086;&#1081;_&#1091;&#1075;&#1086;&#1083;" TargetMode="External"/><Relationship Id="rId5" Type="http://schemas.openxmlformats.org/officeDocument/2006/relationships/hyperlink" Target="http://ru.wikipedia.org/wiki/&#1055;&#1088;&#1103;&#1084;&#1086;&#1081;_&#1091;&#1075;&#1086;&#1083;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riangle-scalene.svg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60;&#1072;&#1081;&#1083;:Triangle-isosceles.svg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ru.wikipedia.org/wiki/&#1060;&#1072;&#1081;&#1083;:Triangle-equilateral.svg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91532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  к уроку по  геометри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умма углов треугольника»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0" y="3071520"/>
            <a:ext cx="52862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Овчарова Л. В. учитель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и МБОУ « О О Владимировская школа»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11" descr="j0237248"/>
          <p:cNvPicPr/>
          <p:nvPr/>
        </p:nvPicPr>
        <p:blipFill>
          <a:blip r:embed="rId1"/>
          <a:stretch/>
        </p:blipFill>
        <p:spPr>
          <a:xfrm>
            <a:off x="4714920" y="1857240"/>
            <a:ext cx="44290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1 ( 357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2268360" y="39290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8"/>
          <p:cNvSpPr/>
          <p:nvPr/>
        </p:nvSpPr>
        <p:spPr>
          <a:xfrm>
            <a:off x="3643200" y="13572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9"/>
          <p:cNvSpPr/>
          <p:nvPr/>
        </p:nvSpPr>
        <p:spPr>
          <a:xfrm>
            <a:off x="6286680" y="385776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2"/>
          <p:cNvSpPr/>
          <p:nvPr/>
        </p:nvSpPr>
        <p:spPr>
          <a:xfrm>
            <a:off x="428760" y="492912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ти: угол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47"/>
          <p:cNvSpPr/>
          <p:nvPr/>
        </p:nvSpPr>
        <p:spPr>
          <a:xfrm>
            <a:off x="2643120" y="1643040"/>
            <a:ext cx="3600360" cy="2952720"/>
          </a:xfrm>
          <a:prstGeom prst="pi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0"/>
          <p:cNvSpPr/>
          <p:nvPr/>
        </p:nvSpPr>
        <p:spPr>
          <a:xfrm>
            <a:off x="3357720" y="21430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3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1"/>
          <p:cNvSpPr/>
          <p:nvPr/>
        </p:nvSpPr>
        <p:spPr>
          <a:xfrm>
            <a:off x="2928960" y="392904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96</a:t>
            </a:r>
            <a:r>
              <a:rPr b="1" lang="ru-RU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2"/>
          <p:cNvSpPr/>
          <p:nvPr/>
        </p:nvSpPr>
        <p:spPr>
          <a:xfrm>
            <a:off x="4714920" y="38577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2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Freeform 15"/>
          <p:cNvSpPr/>
          <p:nvPr/>
        </p:nvSpPr>
        <p:spPr>
          <a:xfrm>
            <a:off x="2643120" y="4786200"/>
            <a:ext cx="362160" cy="115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2340000" y="4357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708360" y="150012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6516720" y="4357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0"/>
          <p:cNvSpPr/>
          <p:nvPr/>
        </p:nvSpPr>
        <p:spPr>
          <a:xfrm>
            <a:off x="2928960" y="2000160"/>
            <a:ext cx="3538440" cy="2952720"/>
          </a:xfrm>
          <a:prstGeom prst="pi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3810600" y="5931000"/>
            <a:ext cx="27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ти: угол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4"/>
          <p:cNvSpPr/>
          <p:nvPr/>
        </p:nvSpPr>
        <p:spPr>
          <a:xfrm>
            <a:off x="1643040" y="4929120"/>
            <a:ext cx="12240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1979640" y="50007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1476360" y="4357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1928880" y="56437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9"/>
          <p:cNvSpPr/>
          <p:nvPr/>
        </p:nvSpPr>
        <p:spPr>
          <a:xfrm>
            <a:off x="7020000" y="3068640"/>
            <a:ext cx="14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3564000" y="2428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6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Univer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651640" y="42861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Решение задач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3 ( 360) Найдите углы равностороннего треугольни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 = 60 </a:t>
            </a:r>
            <a:r>
              <a:rPr b="1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Равнобедренный треугольник 3"/>
          <p:cNvSpPr/>
          <p:nvPr/>
        </p:nvSpPr>
        <p:spPr>
          <a:xfrm>
            <a:off x="500040" y="2786040"/>
            <a:ext cx="2214720" cy="2928960"/>
          </a:xfrm>
          <a:prstGeom prst="triangle">
            <a:avLst>
              <a:gd name="adj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5"/>
          <p:cNvSpPr/>
          <p:nvPr/>
        </p:nvSpPr>
        <p:spPr>
          <a:xfrm flipH="1">
            <a:off x="2714400" y="2643120"/>
            <a:ext cx="214200" cy="35712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6"/>
          <p:cNvSpPr/>
          <p:nvPr/>
        </p:nvSpPr>
        <p:spPr>
          <a:xfrm flipH="1">
            <a:off x="3643200" y="2571840"/>
            <a:ext cx="214560" cy="35712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7"/>
          <p:cNvSpPr/>
          <p:nvPr/>
        </p:nvSpPr>
        <p:spPr>
          <a:xfrm flipH="1">
            <a:off x="4428720" y="264312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9"/>
          <p:cNvSpPr/>
          <p:nvPr/>
        </p:nvSpPr>
        <p:spPr>
          <a:xfrm>
            <a:off x="2714760" y="3000240"/>
            <a:ext cx="214200" cy="18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10"/>
          <p:cNvSpPr/>
          <p:nvPr/>
        </p:nvSpPr>
        <p:spPr>
          <a:xfrm>
            <a:off x="3643200" y="2928960"/>
            <a:ext cx="214560" cy="144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1"/>
          <p:cNvSpPr/>
          <p:nvPr/>
        </p:nvSpPr>
        <p:spPr>
          <a:xfrm>
            <a:off x="4429080" y="2928960"/>
            <a:ext cx="214200" cy="144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4 ( 362) Угол при основании равнобедренного треугольника равен 63</a:t>
            </a:r>
            <a:r>
              <a:rPr b="1" lang="ru-RU" sz="2500" spc="-1" strike="noStrike" baseline="30000">
                <a:solidFill>
                  <a:srgbClr val="464653"/>
                </a:solidFill>
                <a:latin typeface="Cambria"/>
              </a:rPr>
              <a:t>0</a:t>
            </a: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при вершин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го треугольника</a:t>
            </a: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но       АВС – равнобедренный,        А = 6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        В                       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=      А = 6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так как треугольник АВ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внобедренный. По теореме о сумме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глов      А +      В +      С = 180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 = 180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( 6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+ 6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 = 54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вет:      В = 54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Равнобедренный треугольник 3"/>
          <p:cNvSpPr/>
          <p:nvPr/>
        </p:nvSpPr>
        <p:spPr>
          <a:xfrm>
            <a:off x="571680" y="3000240"/>
            <a:ext cx="1357200" cy="30006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5"/>
          <p:cNvSpPr/>
          <p:nvPr/>
        </p:nvSpPr>
        <p:spPr>
          <a:xfrm>
            <a:off x="857160" y="4214880"/>
            <a:ext cx="214560" cy="7128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8"/>
          <p:cNvSpPr/>
          <p:nvPr/>
        </p:nvSpPr>
        <p:spPr>
          <a:xfrm flipH="1">
            <a:off x="1500120" y="4142520"/>
            <a:ext cx="214560" cy="14292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0"/>
          <p:cNvSpPr/>
          <p:nvPr/>
        </p:nvSpPr>
        <p:spPr>
          <a:xfrm>
            <a:off x="216720" y="5857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1"/>
          <p:cNvSpPr/>
          <p:nvPr/>
        </p:nvSpPr>
        <p:spPr>
          <a:xfrm>
            <a:off x="931320" y="2786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2"/>
          <p:cNvSpPr/>
          <p:nvPr/>
        </p:nvSpPr>
        <p:spPr>
          <a:xfrm>
            <a:off x="1931400" y="571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655920" y="56437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Равнобедренный треугольник 16"/>
          <p:cNvSpPr/>
          <p:nvPr/>
        </p:nvSpPr>
        <p:spPr>
          <a:xfrm>
            <a:off x="1357200" y="1500120"/>
            <a:ext cx="214560" cy="2858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18"/>
          <p:cNvSpPr/>
          <p:nvPr/>
        </p:nvSpPr>
        <p:spPr>
          <a:xfrm flipH="1">
            <a:off x="5071680" y="150012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21"/>
          <p:cNvSpPr/>
          <p:nvPr/>
        </p:nvSpPr>
        <p:spPr>
          <a:xfrm>
            <a:off x="5072040" y="178596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24"/>
          <p:cNvSpPr/>
          <p:nvPr/>
        </p:nvSpPr>
        <p:spPr>
          <a:xfrm flipH="1">
            <a:off x="1571400" y="192888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25"/>
          <p:cNvSpPr/>
          <p:nvPr/>
        </p:nvSpPr>
        <p:spPr>
          <a:xfrm>
            <a:off x="1571760" y="221472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26"/>
          <p:cNvSpPr/>
          <p:nvPr/>
        </p:nvSpPr>
        <p:spPr>
          <a:xfrm flipH="1">
            <a:off x="2928600" y="27860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27"/>
          <p:cNvSpPr/>
          <p:nvPr/>
        </p:nvSpPr>
        <p:spPr>
          <a:xfrm flipH="1">
            <a:off x="3642840" y="27860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28"/>
          <p:cNvSpPr/>
          <p:nvPr/>
        </p:nvSpPr>
        <p:spPr>
          <a:xfrm>
            <a:off x="2928960" y="30718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29"/>
          <p:cNvSpPr/>
          <p:nvPr/>
        </p:nvSpPr>
        <p:spPr>
          <a:xfrm>
            <a:off x="3643200" y="307188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31"/>
          <p:cNvSpPr/>
          <p:nvPr/>
        </p:nvSpPr>
        <p:spPr>
          <a:xfrm flipH="1">
            <a:off x="3785760" y="37148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32"/>
          <p:cNvSpPr/>
          <p:nvPr/>
        </p:nvSpPr>
        <p:spPr>
          <a:xfrm flipH="1">
            <a:off x="4571640" y="364320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ая соединительная линия 33"/>
          <p:cNvSpPr/>
          <p:nvPr/>
        </p:nvSpPr>
        <p:spPr>
          <a:xfrm flipH="1">
            <a:off x="5357520" y="364320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ая соединительная линия 34"/>
          <p:cNvSpPr/>
          <p:nvPr/>
        </p:nvSpPr>
        <p:spPr>
          <a:xfrm>
            <a:off x="3786120" y="400068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ая соединительная линия 35"/>
          <p:cNvSpPr/>
          <p:nvPr/>
        </p:nvSpPr>
        <p:spPr>
          <a:xfrm>
            <a:off x="4572000" y="392904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ая соединительная линия 36"/>
          <p:cNvSpPr/>
          <p:nvPr/>
        </p:nvSpPr>
        <p:spPr>
          <a:xfrm>
            <a:off x="5357880" y="392904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ая соединительная линия 37"/>
          <p:cNvSpPr/>
          <p:nvPr/>
        </p:nvSpPr>
        <p:spPr>
          <a:xfrm flipH="1">
            <a:off x="2714400" y="41432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ая соединительная линия 38"/>
          <p:cNvSpPr/>
          <p:nvPr/>
        </p:nvSpPr>
        <p:spPr>
          <a:xfrm>
            <a:off x="2714760" y="442908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ая соединительная линия 39"/>
          <p:cNvSpPr/>
          <p:nvPr/>
        </p:nvSpPr>
        <p:spPr>
          <a:xfrm>
            <a:off x="3938760" y="415296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40"/>
          <p:cNvSpPr/>
          <p:nvPr/>
        </p:nvSpPr>
        <p:spPr>
          <a:xfrm flipH="1">
            <a:off x="6500520" y="5143680"/>
            <a:ext cx="14292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41"/>
          <p:cNvSpPr/>
          <p:nvPr/>
        </p:nvSpPr>
        <p:spPr>
          <a:xfrm>
            <a:off x="6500880" y="542916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Итог урока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ему равна сумма углов треугольника: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ое наименьшее количество острых углов есть в любом треугольнике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ашнее задание п. 16, вопросы 1,2 , учить доказательство теоремы 16.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полнить 259, 361,36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 доказывать теорему о сумме углов треугольни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применять свойства углов треугольника при  решении зада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Равнобедренный треугольник 7"/>
          <p:cNvSpPr/>
          <p:nvPr/>
        </p:nvSpPr>
        <p:spPr>
          <a:xfrm>
            <a:off x="4429080" y="3929040"/>
            <a:ext cx="3214800" cy="2143080"/>
          </a:xfrm>
          <a:prstGeom prst="triangle">
            <a:avLst>
              <a:gd name="adj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Треугольни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4000680" y="214200"/>
            <a:ext cx="4667040" cy="200052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4"/>
          <p:cNvSpPr/>
          <p:nvPr/>
        </p:nvSpPr>
        <p:spPr>
          <a:xfrm>
            <a:off x="500040" y="2643120"/>
            <a:ext cx="82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геометрическая фигура, состоящая из трёх точек, не лежащих на одной прямой и трёх отрезков, соединяющих эти 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- ключевая фигура планимет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Типы треугольников </a:t>
            </a:r>
            <a:br>
              <a:rPr sz="2900"/>
            </a:br>
            <a:r>
              <a:rPr b="1" lang="ru-RU" sz="29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(по величине углов)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42960" y="2071800"/>
            <a:ext cx="2643120" cy="1881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3429000" y="2000160"/>
            <a:ext cx="2714760" cy="2024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6643800" y="1643040"/>
            <a:ext cx="2000160" cy="230976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6"/>
          <p:cNvSpPr/>
          <p:nvPr/>
        </p:nvSpPr>
        <p:spPr>
          <a:xfrm>
            <a:off x="500040" y="4143240"/>
            <a:ext cx="8072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се углы треугольника острые, то треугольник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уголь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дин из углов треугольника 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Times New Roman"/>
                <a:ea typeface="Times New Roman"/>
                <a:hlinkClick r:id="rId4"/>
              </a:rPr>
              <a:t>туп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ольше 90°), то треугольник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уголь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дин из углов треугольника </a:t>
            </a:r>
            <a:r>
              <a:rPr b="0" lang="ru-RU" sz="2000" spc="-1" strike="noStrike" u="sng">
                <a:solidFill>
                  <a:srgbClr val="b292ca"/>
                </a:solidFill>
                <a:uFillTx/>
                <a:latin typeface="Times New Roman"/>
                <a:ea typeface="Times New Roman"/>
                <a:hlinkClick r:id="rId5"/>
              </a:rPr>
              <a:t>прям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авен 90°), то треугольник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Типы треугольников</a:t>
            </a:r>
            <a:br>
              <a:rPr sz="2900"/>
            </a:br>
            <a:r>
              <a:rPr b="1" lang="ru-RU" sz="29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(по количеству равных сторон)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7" name="Содержимое 7" descr="Разносторонний треугольни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714680"/>
            <a:ext cx="2428920" cy="199044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8" descr="Равнобедренный треугольни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72120" y="164304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9" descr="Равносторонний треугольник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43200" y="1785960"/>
            <a:ext cx="1714680" cy="16430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0"/>
          <p:cNvSpPr/>
          <p:nvPr/>
        </p:nvSpPr>
        <p:spPr>
          <a:xfrm>
            <a:off x="285840" y="3571920"/>
            <a:ext cx="8643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оронни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треугольник, у которого длины трёх сторон попарно различ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внобедрен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треугольник, у которого две стороны равны. Эти стороны называю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ов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ретья сторона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равнобедренном треугольнике углы при основании равны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ди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иссектри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бедренного треугольника, опущенные на основание, совпад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Чему равна сумма углов треугольника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мерить все углы треугольни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ти сумму углов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Прямоугольный треугольник 3"/>
          <p:cNvSpPr/>
          <p:nvPr/>
        </p:nvSpPr>
        <p:spPr>
          <a:xfrm>
            <a:off x="3929040" y="4572000"/>
            <a:ext cx="3500640" cy="1000080"/>
          </a:xfrm>
          <a:prstGeom prst="rtTriangl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Равнобедренный треугольник 4"/>
          <p:cNvSpPr/>
          <p:nvPr/>
        </p:nvSpPr>
        <p:spPr>
          <a:xfrm>
            <a:off x="1571760" y="4357800"/>
            <a:ext cx="1928520" cy="1143000"/>
          </a:xfrm>
          <a:prstGeom prst="triangle">
            <a:avLst>
              <a:gd name="adj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Чему равна сумма углов треугольника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ите треугольник, который лежат у вас на столе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едите в рабочих листах треугольник Обозначьте углы этого треугольника числами 1, 2 и 3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жьте ножницами все угл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те их в одной общей точке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Прямоугольный треугольник 3"/>
          <p:cNvSpPr/>
          <p:nvPr/>
        </p:nvSpPr>
        <p:spPr>
          <a:xfrm>
            <a:off x="7358040" y="2500200"/>
            <a:ext cx="1486080" cy="2843280"/>
          </a:xfrm>
          <a:prstGeom prst="rtTriangl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Равнобедренный треугольник 4"/>
          <p:cNvSpPr/>
          <p:nvPr/>
        </p:nvSpPr>
        <p:spPr>
          <a:xfrm>
            <a:off x="428760" y="3786120"/>
            <a:ext cx="5786280" cy="1143000"/>
          </a:xfrm>
          <a:prstGeom prst="triangle">
            <a:avLst>
              <a:gd name="adj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400" spc="-1" strike="noStrike">
                <a:solidFill>
                  <a:srgbClr val="464653"/>
                </a:solidFill>
                <a:latin typeface="Cambria"/>
              </a:rPr>
              <a:t>Теорема:    </a:t>
            </a:r>
            <a:r>
              <a:rPr b="1" lang="ru-RU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Сумма углов треугольника равна 180°</a:t>
            </a:r>
            <a:br>
              <a:rPr sz="29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0" name="Содержимое 3" descr="http://upload.wikimedia.org/wikipedia/ru/thumb/0/0b/TriangleWithLine.gif/250px-TriangleWithLine.gif"/>
          <p:cNvPicPr/>
          <p:nvPr/>
        </p:nvPicPr>
        <p:blipFill>
          <a:blip r:embed="rId1"/>
          <a:stretch/>
        </p:blipFill>
        <p:spPr>
          <a:xfrm>
            <a:off x="1500120" y="1071720"/>
            <a:ext cx="5143680" cy="21430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5"/>
          <p:cNvSpPr/>
          <p:nvPr/>
        </p:nvSpPr>
        <p:spPr>
          <a:xfrm>
            <a:off x="0" y="321480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       А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:       А  +       В  +         С =180 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роизвольный треугольник. Проведем через вершин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ую а , параллельную прям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      1   равны как  накрест лежащие  при параллельных прямы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и   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 секущ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 доказываем, что        С =        3. Но углы 1,2,3 составляют развернутый угол с вершиной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       А +      АВС +      С =      1 +     2  +       3 = 18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2788920" y="142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3431880" y="1571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4360320" y="142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Равнобедренный треугольник 8"/>
          <p:cNvSpPr/>
          <p:nvPr/>
        </p:nvSpPr>
        <p:spPr>
          <a:xfrm>
            <a:off x="928800" y="3500280"/>
            <a:ext cx="214200" cy="3574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10"/>
          <p:cNvSpPr/>
          <p:nvPr/>
        </p:nvSpPr>
        <p:spPr>
          <a:xfrm flipH="1">
            <a:off x="1356840" y="3857760"/>
            <a:ext cx="14292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7"/>
          <p:cNvSpPr/>
          <p:nvPr/>
        </p:nvSpPr>
        <p:spPr>
          <a:xfrm>
            <a:off x="135720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20"/>
          <p:cNvSpPr/>
          <p:nvPr/>
        </p:nvSpPr>
        <p:spPr>
          <a:xfrm flipH="1">
            <a:off x="2214720" y="3857760"/>
            <a:ext cx="14256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1"/>
          <p:cNvSpPr/>
          <p:nvPr/>
        </p:nvSpPr>
        <p:spPr>
          <a:xfrm>
            <a:off x="2214720" y="414324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2"/>
          <p:cNvSpPr/>
          <p:nvPr/>
        </p:nvSpPr>
        <p:spPr>
          <a:xfrm>
            <a:off x="314316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23"/>
          <p:cNvSpPr/>
          <p:nvPr/>
        </p:nvSpPr>
        <p:spPr>
          <a:xfrm flipH="1">
            <a:off x="3214440" y="3857760"/>
            <a:ext cx="14292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4"/>
          <p:cNvSpPr/>
          <p:nvPr/>
        </p:nvSpPr>
        <p:spPr>
          <a:xfrm>
            <a:off x="1785960" y="1071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25"/>
          <p:cNvSpPr/>
          <p:nvPr/>
        </p:nvSpPr>
        <p:spPr>
          <a:xfrm flipH="1">
            <a:off x="142560" y="50720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26"/>
          <p:cNvSpPr/>
          <p:nvPr/>
        </p:nvSpPr>
        <p:spPr>
          <a:xfrm>
            <a:off x="142920" y="53578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27"/>
          <p:cNvSpPr/>
          <p:nvPr/>
        </p:nvSpPr>
        <p:spPr>
          <a:xfrm flipH="1">
            <a:off x="928440" y="50720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28"/>
          <p:cNvSpPr/>
          <p:nvPr/>
        </p:nvSpPr>
        <p:spPr>
          <a:xfrm>
            <a:off x="928800" y="535788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9"/>
          <p:cNvSpPr/>
          <p:nvPr/>
        </p:nvSpPr>
        <p:spPr>
          <a:xfrm flipH="1">
            <a:off x="5643720" y="5286240"/>
            <a:ext cx="142560" cy="3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31"/>
          <p:cNvSpPr/>
          <p:nvPr/>
        </p:nvSpPr>
        <p:spPr>
          <a:xfrm>
            <a:off x="4786200" y="56437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32"/>
          <p:cNvSpPr/>
          <p:nvPr/>
        </p:nvSpPr>
        <p:spPr>
          <a:xfrm>
            <a:off x="5643720" y="564372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36"/>
          <p:cNvSpPr/>
          <p:nvPr/>
        </p:nvSpPr>
        <p:spPr>
          <a:xfrm flipH="1">
            <a:off x="4785840" y="5286240"/>
            <a:ext cx="142920" cy="3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37"/>
          <p:cNvSpPr/>
          <p:nvPr/>
        </p:nvSpPr>
        <p:spPr>
          <a:xfrm flipH="1">
            <a:off x="1999800" y="60008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38"/>
          <p:cNvSpPr/>
          <p:nvPr/>
        </p:nvSpPr>
        <p:spPr>
          <a:xfrm flipH="1">
            <a:off x="2785680" y="60008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39"/>
          <p:cNvSpPr/>
          <p:nvPr/>
        </p:nvSpPr>
        <p:spPr>
          <a:xfrm flipH="1">
            <a:off x="3857400" y="5931000"/>
            <a:ext cx="21420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40"/>
          <p:cNvSpPr/>
          <p:nvPr/>
        </p:nvSpPr>
        <p:spPr>
          <a:xfrm>
            <a:off x="2000160" y="6286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42"/>
          <p:cNvSpPr/>
          <p:nvPr/>
        </p:nvSpPr>
        <p:spPr>
          <a:xfrm>
            <a:off x="2786040" y="6286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43"/>
          <p:cNvSpPr/>
          <p:nvPr/>
        </p:nvSpPr>
        <p:spPr>
          <a:xfrm>
            <a:off x="3857760" y="628668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46"/>
          <p:cNvSpPr/>
          <p:nvPr/>
        </p:nvSpPr>
        <p:spPr>
          <a:xfrm flipH="1">
            <a:off x="4642920" y="60008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47"/>
          <p:cNvSpPr/>
          <p:nvPr/>
        </p:nvSpPr>
        <p:spPr>
          <a:xfrm flipH="1">
            <a:off x="5357520" y="60008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48"/>
          <p:cNvSpPr/>
          <p:nvPr/>
        </p:nvSpPr>
        <p:spPr>
          <a:xfrm flipH="1">
            <a:off x="6143400" y="60008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49"/>
          <p:cNvSpPr/>
          <p:nvPr/>
        </p:nvSpPr>
        <p:spPr>
          <a:xfrm>
            <a:off x="4643280" y="6286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50"/>
          <p:cNvSpPr/>
          <p:nvPr/>
        </p:nvSpPr>
        <p:spPr>
          <a:xfrm>
            <a:off x="5357880" y="6286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51"/>
          <p:cNvSpPr/>
          <p:nvPr/>
        </p:nvSpPr>
        <p:spPr>
          <a:xfrm>
            <a:off x="6143760" y="628668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Следствия</a:t>
            </a:r>
            <a:br>
              <a:rPr sz="2900"/>
            </a:b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еди углов треугольника хотя бы  два угла остры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Прямоугольный треугольник 4"/>
          <p:cNvSpPr/>
          <p:nvPr/>
        </p:nvSpPr>
        <p:spPr>
          <a:xfrm rot="18557400">
            <a:off x="2720160" y="1706760"/>
            <a:ext cx="5072040" cy="3340080"/>
          </a:xfrm>
          <a:prstGeom prst="rtTriangl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29:57Z</dcterms:created>
  <dc:creator>www.PHILka.RU</dc:creator>
  <dc:description/>
  <dc:language>en-US</dc:language>
  <cp:lastModifiedBy>Сашка</cp:lastModifiedBy>
  <dcterms:modified xsi:type="dcterms:W3CDTF">2017-08-25T08:25:31Z</dcterms:modified>
  <cp:revision>28</cp:revision>
  <dc:subject/>
  <dc:title>Сумма углов треугольника</dc:title>
</cp:coreProperties>
</file>