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CFC-F215-4CF1-9C32-F08B389B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C62-C7BC-4F50-B770-37423B62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3AA-69D4-48DE-8A58-8BC4AB99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00C-0650-44C3-8094-5D2F5CDC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E2AB-B039-4A6B-B3AC-1637F224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FBF9-DF99-4585-8439-A250096F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F318-943A-403E-8DF9-A30D8343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5BDF-3DDB-43BB-A5C3-3C320752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9442-0D8C-4EE5-BC20-EBF44D51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065F-DF1A-48B5-AF21-E5F0B43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D902-650C-4AE1-B79D-A3FC07D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3A4-1505-4817-BB55-3B646E4F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162B-DD1D-4B48-841D-29AF40E3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894C-CE18-4956-B518-7140E00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D06E-D585-411C-A7C0-897A66B2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A0B-9439-4C26-8DD4-57FE79D0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81D7-C6B9-4082-8479-ADE36FA7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4D1-3A58-492C-A95C-CBD80D9C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869-7F0E-4913-AF15-3C77DBC2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3CB-85D4-4F9A-B55D-19917514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548-7265-4F95-8810-1E17559E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9C7-658D-4302-86E6-84A809A6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851-3FB1-4525-9BCB-D72CC18C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B96-0445-469D-B2C3-A0E37EB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108-FE04-4051-846D-CA383C10F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152-2618-438E-A714-E96F4B7325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596880"/>
            <a:ext cx="7605720" cy="42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7c80"/>
                </a:solidFill>
                <a:latin typeface="Verdana"/>
              </a:rPr>
              <a:t>Внеклассное мероприятие, посвященное </a:t>
            </a:r>
            <a:br>
              <a:rPr sz="6000"/>
            </a:br>
            <a:r>
              <a:rPr b="0" i="1" lang="ru-RU" sz="6000" spc="-1" strike="noStrike">
                <a:solidFill>
                  <a:srgbClr val="ff7c80"/>
                </a:solidFill>
                <a:latin typeface="Verdana"/>
              </a:rPr>
              <a:t>Дню Матер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detskie_pesni_-_pesenka_mamontenka.mp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" descr=""/>
          <p:cNvPicPr/>
          <p:nvPr/>
        </p:nvPicPr>
        <p:blipFill>
          <a:blip r:embed="rId2"/>
          <a:stretch/>
        </p:blipFill>
        <p:spPr>
          <a:xfrm>
            <a:off x="2011320" y="5730840"/>
            <a:ext cx="7145280" cy="111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3624480" cy="43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Verdana"/>
              </a:rPr>
              <a:t>Мама — первое слово,</a:t>
            </a:r>
            <a:br>
              <a:rPr sz="3200"/>
            </a:br>
            <a:r>
              <a:rPr b="0" i="1" lang="ru-RU" sz="3200" spc="-1" strike="noStrike">
                <a:solidFill>
                  <a:srgbClr val="ff9966"/>
                </a:solidFill>
                <a:latin typeface="Verdana"/>
              </a:rPr>
              <a:t>Главное слово в каждой судьбе.</a:t>
            </a:r>
            <a:br>
              <a:rPr sz="3200"/>
            </a:br>
            <a:r>
              <a:rPr b="0" i="1" lang="ru-RU" sz="3200" spc="-1" strike="noStrike">
                <a:solidFill>
                  <a:srgbClr val="ff9966"/>
                </a:solidFill>
                <a:latin typeface="Verdana"/>
              </a:rPr>
              <a:t>Мама жизнь подарила,</a:t>
            </a:r>
            <a:br>
              <a:rPr sz="3200"/>
            </a:br>
            <a:r>
              <a:rPr b="0" i="1" lang="ru-RU" sz="3200" spc="-1" strike="noStrike">
                <a:solidFill>
                  <a:srgbClr val="ff9966"/>
                </a:solidFill>
                <a:latin typeface="Verdana"/>
              </a:rPr>
              <a:t>Мир подарила мне и тебе.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14" descr="003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3264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4248360" cy="51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Verdana"/>
              </a:rPr>
              <a:t>День матери</a:t>
            </a:r>
            <a:r>
              <a:rPr b="0" i="1" lang="ru-RU" sz="2800" spc="-1" strike="noStrike">
                <a:solidFill>
                  <a:srgbClr val="ffcc00"/>
                </a:solidFill>
                <a:latin typeface="Verdana"/>
              </a:rPr>
              <a:t> — международный праздник в честь матерей. В этот день принято поздравлять матерей и беременных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Verdana"/>
              </a:rPr>
              <a:t>женщин, в отличие от Международного женского дня, когда поздравления принимают все представительницы женского по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5" descr="1289806664_1862912"/>
          <p:cNvPicPr/>
          <p:nvPr/>
        </p:nvPicPr>
        <p:blipFill>
          <a:blip r:embed="rId1"/>
          <a:stretch/>
        </p:blipFill>
        <p:spPr>
          <a:xfrm>
            <a:off x="5543640" y="1197000"/>
            <a:ext cx="3600360" cy="33116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67467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Чествование женщины-матери имеет многовекову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стори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 XVII по XIX век в Великобритании отмечалось та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зываемое «Материнское воскресенье» —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четвёртое  воскресенье Великого пос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свящённое  чествованию матерей по всей стран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США День матери впервые публично бы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держан известной американской пацифистк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Джулией Уорд Хоув в 1872 году. «День матери» п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ерсии Джулии Уорд — день единства матерей 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борьбе за мир во всём мир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Концепция Джулии Уорд не нашла широкой поддержк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и в США, ни в других стран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1907 году американка Анна Джарвис и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Филадельфии выступила с инициативой честв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терей в память о своей матери. Анна написа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исьма в государственные учреждения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законодательные органы и выдающимся лицам с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дложением один день в году посвят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чествованию матерей. В 1910 году штат Вирги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ервый признал День Матери официальным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аздником. В 1914 году, президент СШ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удро Вильсон объявил второе воскресенье м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циональным праздником в честь всех американски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тер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imgpreview"/>
          <p:cNvPicPr/>
          <p:nvPr/>
        </p:nvPicPr>
        <p:blipFill>
          <a:blip r:embed="rId1"/>
          <a:stretch/>
        </p:blipFill>
        <p:spPr>
          <a:xfrm>
            <a:off x="6300720" y="2349360"/>
            <a:ext cx="2552760" cy="2376720"/>
          </a:xfrm>
          <a:prstGeom prst="rect">
            <a:avLst/>
          </a:prstGeom>
          <a:ln w="0">
            <a:noFill/>
          </a:ln>
        </p:spPr>
      </p:pic>
    </p:spTree>
  </p:cSld>
  <p:transition spd="slow" advTm="3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31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7c80"/>
                </a:solidFill>
                <a:latin typeface="Verdana"/>
              </a:rPr>
              <a:t>Вслед за США второе воскресенье мая объявили праздником 23 страны (в их числе: Бахрейн, Гонконг, Индия, Малайзия, Мексика, Никарагуа, Объединённые Арабские Эмираты, Оман, Пакистан, Катар, Саудовская Аравия, Сингапур, Австралия, Украина и др.), а ещё более 30 отмечают праздник в другие дни.</a:t>
            </a:r>
            <a:r>
              <a:rPr b="0" lang="ru-RU" sz="4000" spc="-1" strike="noStrike">
                <a:solidFill>
                  <a:srgbClr val="ff7c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5" descr="1289807058_0ca23a7cd34c"/>
          <p:cNvPicPr/>
          <p:nvPr/>
        </p:nvPicPr>
        <p:blipFill>
          <a:blip r:embed="rId1"/>
          <a:stretch/>
        </p:blipFill>
        <p:spPr>
          <a:xfrm>
            <a:off x="2411280" y="292428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5200" y="0"/>
            <a:ext cx="53388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Verdana"/>
              </a:rPr>
              <a:t>День матери в разных странах отмечается:</a:t>
            </a: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Белоруссии - 14 октября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Украине, Эстонии, США, Дании, Финляндии, Италии, Турции, Австралии, Японии, Бельгии и на Мальте - во второе воскресенье мая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Греции - 9 мая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Норвегии во второе воскресенье февраля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Швеции и Франции - в последнее воскресенье мая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Ливане - в первый день весны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ЮАР - в первое воскресенье мая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Аргентине - в октябре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Индии - в октябре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Испании - 8-го декабря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Португалии - 8-го декабря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Сербии - в декабре; </a:t>
            </a:r>
            <a:br>
              <a:rPr sz="1800"/>
            </a:br>
            <a:r>
              <a:rPr b="0" lang="ru-RU" sz="1800" spc="-1" strike="noStrike">
                <a:solidFill>
                  <a:srgbClr val="ff99cc"/>
                </a:solidFill>
                <a:latin typeface="Verdana"/>
              </a:rPr>
              <a:t>в Узбекистане 8 марта отмечают как День матери;</a:t>
            </a:r>
            <a:r>
              <a:rPr b="0" lang="ru-RU" sz="14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5" descr="0_5cac6_aff011f6_XL"/>
          <p:cNvPicPr/>
          <p:nvPr/>
        </p:nvPicPr>
        <p:blipFill>
          <a:blip r:embed="rId1"/>
          <a:stretch/>
        </p:blipFill>
        <p:spPr>
          <a:xfrm>
            <a:off x="324000" y="2133720"/>
            <a:ext cx="3528720" cy="3024000"/>
          </a:xfrm>
          <a:prstGeom prst="rect">
            <a:avLst/>
          </a:prstGeom>
          <a:ln w="0">
            <a:noFill/>
          </a:ln>
        </p:spPr>
      </p:pic>
    </p:spTree>
  </p:cSld>
  <p:transition advTm="21000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Verdana"/>
              </a:rPr>
              <a:t>В России День матери </a:t>
            </a:r>
            <a:br>
              <a:rPr sz="4000"/>
            </a:br>
            <a:r>
              <a:rPr b="0" i="1" lang="ru-RU" sz="4000" spc="-1" strike="noStrike">
                <a:solidFill>
                  <a:srgbClr val="ffcc00"/>
                </a:solidFill>
                <a:latin typeface="Verdana"/>
              </a:rPr>
              <a:t>отмечается в последнее воскресенье ноября.</a:t>
            </a:r>
            <a:br>
              <a:rPr sz="4000"/>
            </a:br>
            <a:r>
              <a:rPr b="0" i="1" lang="ru-RU" sz="4000" spc="-1" strike="noStrike">
                <a:solidFill>
                  <a:srgbClr val="ffcc00"/>
                </a:solidFill>
                <a:latin typeface="Verdana"/>
              </a:rPr>
              <a:t>В этом году праздник выпадает на 27 ноябр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3ee3d7f26987"/>
          <p:cNvPicPr/>
          <p:nvPr/>
        </p:nvPicPr>
        <p:blipFill>
          <a:blip r:embed="rId1"/>
          <a:stretch/>
        </p:blipFill>
        <p:spPr>
          <a:xfrm>
            <a:off x="2916360" y="314172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3" descr="ss-110502-mothers-day-AT-11"/>
          <p:cNvPicPr/>
          <p:nvPr/>
        </p:nvPicPr>
        <p:blipFill>
          <a:blip r:embed="rId1"/>
          <a:stretch/>
        </p:blipFill>
        <p:spPr>
          <a:xfrm>
            <a:off x="468360" y="333360"/>
            <a:ext cx="8244000" cy="553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margaritka_z"/>
          <p:cNvPicPr/>
          <p:nvPr/>
        </p:nvPicPr>
        <p:blipFill>
          <a:blip r:embed="rId2"/>
          <a:stretch/>
        </p:blipFill>
        <p:spPr>
          <a:xfrm>
            <a:off x="2195640" y="549360"/>
            <a:ext cx="4390920" cy="5661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dm2"/>
          <p:cNvPicPr/>
          <p:nvPr/>
        </p:nvPicPr>
        <p:blipFill>
          <a:blip r:embed="rId3"/>
          <a:stretch/>
        </p:blipFill>
        <p:spPr>
          <a:xfrm>
            <a:off x="1116000" y="1268280"/>
            <a:ext cx="4389480" cy="374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1290865732_giraffe"/>
          <p:cNvPicPr/>
          <p:nvPr/>
        </p:nvPicPr>
        <p:blipFill>
          <a:blip r:embed="rId4"/>
          <a:stretch/>
        </p:blipFill>
        <p:spPr>
          <a:xfrm>
            <a:off x="4140360" y="1197000"/>
            <a:ext cx="3384360" cy="4392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1290865702_love"/>
          <p:cNvPicPr/>
          <p:nvPr/>
        </p:nvPicPr>
        <p:blipFill>
          <a:blip r:embed="rId5"/>
          <a:stretch/>
        </p:blipFill>
        <p:spPr>
          <a:xfrm>
            <a:off x="1908000" y="1125360"/>
            <a:ext cx="3810240" cy="50803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3:17:00Z</dcterms:created>
  <dc:creator>Аэлита</dc:creator>
  <dc:description/>
  <dc:language>en-US</dc:language>
  <cp:lastModifiedBy>администратор</cp:lastModifiedBy>
  <dcterms:modified xsi:type="dcterms:W3CDTF">2017-08-25T07:11:14Z</dcterms:modified>
  <cp:revision>4</cp:revision>
  <dc:subject/>
  <dc:title>День матери</dc:title>
</cp:coreProperties>
</file>