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7A8-7723-4DDA-B5B5-E4F5D2C5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D9D-4370-4B02-BC5C-D070FA3C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F3F-D0A3-4B94-B2C9-84868B3C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236-8C83-4641-A84A-12D24EA5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72B-DF7C-4EB6-B51E-4CCE8BCF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E63-11AF-423D-9FD8-A407AC54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A84-DA47-4664-9DA6-AED4A888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C26-7FCA-4A4A-8C1A-33F4BD13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0E7-C509-4C56-8C5D-7A5798E0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AB2-0BA9-483A-9BF3-CED347CD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5BB-CC34-4EE4-AE94-ABB6AB57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8B7-E8F4-4C2D-A4BB-7048C001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705F-6D8C-4B2C-9D12-353B52BB0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423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Земля моя без края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уровой блещет красотой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уси любимой дочь родная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 широкой русскою душой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Здесь снежное тайги раздолье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Здесь кедр с сосною говорит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Здесь среди этого приволья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становившись время спит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Климат здесь очень серьёзный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о метели, то жара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И морозы поморозней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И поветреней ветра</a:t>
            </a:r>
            <a:r>
              <a:rPr b="0" lang="ru-RU" sz="29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iberian trapp-Сибирские траппы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802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684360" y="907920"/>
            <a:ext cx="48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раппы  Якут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редняя Сибирь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груп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11280" y="1484280"/>
          <a:ext cx="8137440" cy="5151600"/>
        </p:xfrm>
        <a:graphic>
          <a:graphicData uri="http://schemas.openxmlformats.org/drawingml/2006/table">
            <a:tbl>
              <a:tblPr/>
              <a:tblGrid>
                <a:gridCol w="4425840"/>
                <a:gridCol w="37116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ектоническая структу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Анабарское пла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Горы Бырран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Северо-Сибирская низм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Среднесибирское плоскогор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Плато Путо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еверо-Восточная Сибирь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3 груп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1700280"/>
          <a:ext cx="8569080" cy="316368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111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Тектоническая струк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ерхоянский хр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Хребет Черск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Яно-Индигирская низм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Горы Южной Сибири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1 груп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1622520"/>
          <a:ext cx="8424720" cy="46321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Тектоническая струк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лта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ападный и Восточный Сая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лданское нагор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404640"/>
          <a:ext cx="8569080" cy="59436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Тектоничес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редняя Сиби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Горы Бырран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Мезозойская складчат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Северо-Сибир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Опущенные блоки фунда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Среднесибирское плоскогор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Сибирская плат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Плато Путо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Куполообразное подн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Анабарское пла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Анабарский щ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еверо-Восточная Сиби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Верхоянский хреб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зозойская складчат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Хребет Черс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зозойская складчат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Яно-Индигир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пущенные блоки фунда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оры Южной Сиби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Ал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ерцинская. Байкальская с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Западный и Восточный Сая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аледон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Алданское нагор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лданский щ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hakasiyarsp.ru/images/minkot.jpg"/>
          <p:cNvPicPr/>
          <p:nvPr/>
        </p:nvPicPr>
        <p:blipFill>
          <a:blip r:embed="rId1"/>
          <a:stretch/>
        </p:blipFill>
        <p:spPr>
          <a:xfrm>
            <a:off x="250920" y="333360"/>
            <a:ext cx="403380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68360" y="32446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усинская котлов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http://www.tuvarsp.ru/images/tuvinskaya_kotlovina2.jpg"/>
          <p:cNvPicPr/>
          <p:nvPr/>
        </p:nvPicPr>
        <p:blipFill>
          <a:blip r:embed="rId2"/>
          <a:stretch/>
        </p:blipFill>
        <p:spPr>
          <a:xfrm>
            <a:off x="4716360" y="333360"/>
            <a:ext cx="381024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5580000" y="32446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винская котлов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659640" y="58770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знецкая котлов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http://krasivye-mesta.ru/img/Kemerovo-region-nature.jpg"/>
          <p:cNvPicPr/>
          <p:nvPr/>
        </p:nvPicPr>
        <p:blipFill>
          <a:blip r:embed="rId3"/>
          <a:stretch/>
        </p:blipFill>
        <p:spPr>
          <a:xfrm>
            <a:off x="2124000" y="3573360"/>
            <a:ext cx="4751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Николай Гаврилович  Чернышев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Чернышевский на Вилю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чернышевский"/>
          <p:cNvPicPr/>
          <p:nvPr/>
        </p:nvPicPr>
        <p:blipFill>
          <a:blip r:embed="rId1"/>
          <a:stretch/>
        </p:blipFill>
        <p:spPr>
          <a:xfrm>
            <a:off x="4427640" y="1484280"/>
            <a:ext cx="417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Ерофей Павл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. Ерофей Павлович.    Кто Эт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Ерофей Павлович"/>
          <p:cNvPicPr/>
          <p:nvPr/>
        </p:nvPicPr>
        <p:blipFill>
          <a:blip r:embed="rId1"/>
          <a:stretch/>
        </p:blipFill>
        <p:spPr>
          <a:xfrm>
            <a:off x="4284720" y="1484280"/>
            <a:ext cx="43196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голь                      Тунгусский, Ле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Медь, никель         Нори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Алмазы                   Ми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Золото                     Бодайб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Железная руда        Ангарский кря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лово                      Янское нагор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Трубка Мира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трубка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Тема: «Восточная Сибирь: величие и суровость природ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80000" y="4581000"/>
            <a:ext cx="4906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ир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мир"/>
          <p:cNvPicPr/>
          <p:nvPr/>
        </p:nvPicPr>
        <p:blipFill>
          <a:blip r:embed="rId1"/>
          <a:stretch/>
        </p:blipFill>
        <p:spPr>
          <a:xfrm>
            <a:off x="468360" y="1268280"/>
            <a:ext cx="8424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rgo-sib.ru/reportage/img84/744.jpg"/>
          <p:cNvPicPr/>
          <p:nvPr/>
        </p:nvPicPr>
        <p:blipFill>
          <a:blip r:embed="rId1"/>
          <a:stretch/>
        </p:blipFill>
        <p:spPr>
          <a:xfrm>
            <a:off x="2916360" y="2133720"/>
            <a:ext cx="4321080" cy="325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s://encrypted-tbn0.gstatic.com/images?q=tbn:ANd9GcQrGYzHquZa69LHwYf6ITgbGDBzP2Mp7je9zqHeV79Te8TfP7eY-A"/>
          <p:cNvPicPr/>
          <p:nvPr/>
        </p:nvPicPr>
        <p:blipFill>
          <a:blip r:embed="rId2"/>
          <a:stretch/>
        </p:blipFill>
        <p:spPr>
          <a:xfrm>
            <a:off x="250920" y="189000"/>
            <a:ext cx="316872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irk.ru/img/site/gallery/279/47f33c93-cd1b-4666-9153-7e9279016254_jpg_300x100000_q85.jpg"/>
          <p:cNvPicPr/>
          <p:nvPr/>
        </p:nvPicPr>
        <p:blipFill>
          <a:blip r:embed="rId3"/>
          <a:stretch/>
        </p:blipFill>
        <p:spPr>
          <a:xfrm>
            <a:off x="6084720" y="4437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На уроке я работал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активно/пасси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Своей работой я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доволен/не дово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рок показался мне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коротким/длин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За урок я             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устал/не устал</a:t>
            </a: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Материал урока мне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интересен/не интересен</a:t>
            </a:r>
            <a:br>
              <a:rPr sz="2400"/>
            </a:b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понятен/не понятен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полезен/   бесполезен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омашнее задание кажется мне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    лёгким/трудным</a:t>
            </a: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интерес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не интересным</a:t>
            </a: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ЕЗНЫЕ ИСКОПАЕМЫ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оль (70% запасов РФ) – Тунгусский бассейн (самые крупные запасы, но из-за суровых условий добыча не ведётся), Ленский , Иркутский, Канско - Ачинский, Черемховский б-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олото – Забайкалье (Бодайбо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но-никелевые руды – Заполярье (г.Норильск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мазы – Якутия (г.Мир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езные руды, графит, слюда, стройматериалы, химическое сырь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лима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иматические пояса: АКП, САКП, УК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климата: резко континента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холодная суровая з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мало осад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большие амплитуды темпера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итерии оцен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5»---5 прав. от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4»--- 4 прав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3»---3-2 прав.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оварь географических термин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ИТ -  обширная область выхода на земную поверхность складчатого       фундамента древних платформ.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ПЫ – изверженные породы из группы базальтов.  Излившиеся в виде горизонтальных покровов в осадочный чехол плат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ТФОР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овненны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стойчивый участок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ПЕРАТУРНАЯ ИНВЕРСИЯ-повышение температуры  воздуха с высотой    вместо обычного её пон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Релье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Полезные ископаем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75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75d1"/>
                </a:solidFill>
                <a:latin typeface="Times New Roman"/>
              </a:rPr>
              <a:t>Клима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bfc5"/>
                </a:solidFill>
                <a:latin typeface="Times New Roman"/>
              </a:rPr>
              <a:t>Внутренние 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</a:rPr>
              <a:t>Тест № 1. Ключ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280" y="907560"/>
            <a:ext cx="8147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ГП зависят особенности природы данного района (прежде всего климат, почвы и растительност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ревней платфор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и морского, умеренно-континентального, континентального, резко-континентального, муссонного клим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улевые и отрицательные температуры большую часть года, короткий теплый пери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льеф, климат, почва, вода, растительный и животный ми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Тест №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Северо-Сибирской, р.Енисей, р.Л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Резко континентальный. Низкими. Мало. В летне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Установите  соответств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1680" y="1052640"/>
          <a:ext cx="8540640" cy="5400720"/>
        </p:xfrm>
        <a:graphic>
          <a:graphicData uri="http://schemas.openxmlformats.org/drawingml/2006/table">
            <a:tbl>
              <a:tblPr/>
              <a:tblGrid>
                <a:gridCol w="4199040"/>
                <a:gridCol w="4341600"/>
              </a:tblGrid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Гра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иродные рубе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ff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ев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а)  Тихоокеанский водоразд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. Ю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б)  Река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 Зап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в)  Северный Ледовитый 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4. Вос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г) Китай, Монго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1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ГП Восточной Сибир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Протяжённость с З – В от Енисея до Тихоокеанского водораздела примерно на 1800 км; с С – Ю =3000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Далеко выдвинута за полярный круг (м.Челюскин – самая северная точка Ази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Границы: р.Енисей, побережье СЛО, Тихоокеанский водораздел, Монголия, Кита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мангазея"/>
          <p:cNvPicPr/>
          <p:nvPr/>
        </p:nvPicPr>
        <p:blipFill>
          <a:blip r:embed="rId1"/>
          <a:stretch/>
        </p:blipFill>
        <p:spPr>
          <a:xfrm>
            <a:off x="4643280" y="1746360"/>
            <a:ext cx="4249800" cy="492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1.bp.blogspot.com/-lL8kCPrtHxU/ULYGjWzjwhI/AAAAAAAACIw/_Q0VGEpCano/s1600/deb8daf32aaf.jpg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ангазея- 1601 г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www.gazeta-respublika.ru/photos/photo-50799.jpg"/>
          <p:cNvPicPr/>
          <p:nvPr/>
        </p:nvPicPr>
        <p:blipFill>
          <a:blip r:embed="rId1"/>
          <a:stretch/>
        </p:blipFill>
        <p:spPr>
          <a:xfrm>
            <a:off x="250920" y="1341360"/>
            <a:ext cx="3673440" cy="446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sd5.uchebalegko.ru/tw_files2/urls_1109/2/d-1665/1665_html_795793c6.jpg"/>
          <p:cNvPicPr/>
          <p:nvPr/>
        </p:nvPicPr>
        <p:blipFill>
          <a:blip r:embed="rId2"/>
          <a:stretch/>
        </p:blipFill>
        <p:spPr>
          <a:xfrm>
            <a:off x="4067280" y="1341360"/>
            <a:ext cx="4825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4-04-21T14:42:05Z</dcterms:modified>
  <cp:revision>54</cp:revision>
  <dc:subject/>
  <dc:title>Слайд 1</dc:title>
</cp:coreProperties>
</file>