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DBD-ED00-43C4-8AA9-FB0FF53C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023-A9D6-4442-93F4-5FDFA0B7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30A-1B5C-4F3C-BF67-DC1DBDC7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77A-2A33-4507-986C-E74899F7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559-4B36-4DE2-98AB-9C6ADF2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901-DA77-422F-A483-83F0CFE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C1E-28E5-45B3-9386-BFF496FC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F7D-3625-4EEB-9828-A159D887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3E3-C1DA-4049-8370-2BA54FF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EBB-31D6-4A2C-9F06-1C2553E4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2F1-DF8A-4229-B1AB-003C4F6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527-40AA-49EB-838F-68B9609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04BF-36C5-4EC4-9130-C729A3926F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423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емля моя без края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уровой блещет красотой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уси любимой дочь родная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 широкой русскою душо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Здесь снежное тайги раздолье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Здесь кедр с сосною говорит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десь среди этого приволья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тановившись время спи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Климат здесь очень серьёзны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о метели, то жара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 морозы поморозней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 поветреней ветра</a:t>
            </a:r>
            <a:r>
              <a:rPr b="0" lang="ru-RU" sz="29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iberian trapp-Сибирские траппы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802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684360" y="907920"/>
            <a:ext cx="48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раппы  Якут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редняя Сибирь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1280" y="1484280"/>
          <a:ext cx="8137440" cy="5151600"/>
        </p:xfrm>
        <a:graphic>
          <a:graphicData uri="http://schemas.openxmlformats.org/drawingml/2006/table">
            <a:tbl>
              <a:tblPr/>
              <a:tblGrid>
                <a:gridCol w="4425840"/>
                <a:gridCol w="37116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Анабарское пл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Горы Бырран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Северо-Сибирская низм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Плато Путо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еверо-Восточная Сибирь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3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700280"/>
          <a:ext cx="8569080" cy="316368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111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ерхоянск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Хребет Черск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Яно-Индигирская низм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Горы Южной Сибири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1 груп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622520"/>
          <a:ext cx="8424720" cy="46321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т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ападный и Восточный Сая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данское нагор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40464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Тектоничес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редняя Сиби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Горы Бырр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Северо-Сибир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Опущенные блоки фунд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Плато Путо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Куполообразное под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00"/>
                          </a:solidFill>
                          <a:latin typeface="Times New Roman"/>
                        </a:rPr>
                        <a:t>Анабарское пла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Анабарский щ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веро-Восточная Сиби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Верхоянский хр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Хребет Чер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зозойская складчат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42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200"/>
                          </a:solidFill>
                          <a:latin typeface="Times New Roman"/>
                        </a:rPr>
                        <a:t>Яно-Индигирская низ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пущенные блоки фунд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ры Южной Сиби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Ал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ерцинская. Байкальская 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Западный и Восточный Сая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аледон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Алданское нагор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данский щ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hakasiyarsp.ru/images/minkot.jpg"/>
          <p:cNvPicPr/>
          <p:nvPr/>
        </p:nvPicPr>
        <p:blipFill>
          <a:blip r:embed="rId1"/>
          <a:stretch/>
        </p:blipFill>
        <p:spPr>
          <a:xfrm>
            <a:off x="250920" y="333360"/>
            <a:ext cx="403380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68360" y="3244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усинс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http://www.tuvarsp.ru/images/tuvinskaya_kotlovina2.jpg"/>
          <p:cNvPicPr/>
          <p:nvPr/>
        </p:nvPicPr>
        <p:blipFill>
          <a:blip r:embed="rId2"/>
          <a:stretch/>
        </p:blipFill>
        <p:spPr>
          <a:xfrm>
            <a:off x="4716360" y="333360"/>
            <a:ext cx="381024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580000" y="32446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винс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659640" y="58770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знецкая котло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krasivye-mesta.ru/img/Kemerovo-region-nature.jpg"/>
          <p:cNvPicPr/>
          <p:nvPr/>
        </p:nvPicPr>
        <p:blipFill>
          <a:blip r:embed="rId3"/>
          <a:stretch/>
        </p:blipFill>
        <p:spPr>
          <a:xfrm>
            <a:off x="2124000" y="3573360"/>
            <a:ext cx="4751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иколай Гаврилович  Чернышевс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Чернышевский на Вилю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чернышевский"/>
          <p:cNvPicPr/>
          <p:nvPr/>
        </p:nvPicPr>
        <p:blipFill>
          <a:blip r:embed="rId1"/>
          <a:stretch/>
        </p:blipFill>
        <p:spPr>
          <a:xfrm>
            <a:off x="4427640" y="148428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Ерофей Павл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. Ерофей Павлович.    Кто Э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Ерофей Павлович"/>
          <p:cNvPicPr/>
          <p:nvPr/>
        </p:nvPicPr>
        <p:blipFill>
          <a:blip r:embed="rId1"/>
          <a:stretch/>
        </p:blipFill>
        <p:spPr>
          <a:xfrm>
            <a:off x="4284720" y="1484280"/>
            <a:ext cx="4319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голь                      Тунгусский, Ле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Медь, никель         Нори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Алмазы                   Ми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Золото                     Бодай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Железная руда        Ангарский кря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лово                      Янское нагор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рубка Мира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трубка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ема: «Восточная Сибирь: величие и суровость природ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4581000"/>
            <a:ext cx="4906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ир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мир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rgo-sib.ru/reportage/img84/744.jpg"/>
          <p:cNvPicPr/>
          <p:nvPr/>
        </p:nvPicPr>
        <p:blipFill>
          <a:blip r:embed="rId1"/>
          <a:stretch/>
        </p:blipFill>
        <p:spPr>
          <a:xfrm>
            <a:off x="2916360" y="2133720"/>
            <a:ext cx="4321080" cy="325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encrypted-tbn0.gstatic.com/images?q=tbn:ANd9GcQrGYzHquZa69LHwYf6ITgbGDBzP2Mp7je9zqHeV79Te8TfP7eY-A"/>
          <p:cNvPicPr/>
          <p:nvPr/>
        </p:nvPicPr>
        <p:blipFill>
          <a:blip r:embed="rId2"/>
          <a:stretch/>
        </p:blipFill>
        <p:spPr>
          <a:xfrm>
            <a:off x="250920" y="189000"/>
            <a:ext cx="316872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irk.ru/img/site/gallery/279/47f33c93-cd1b-4666-9153-7e9279016254_jpg_300x100000_q85.jpg"/>
          <p:cNvPicPr/>
          <p:nvPr/>
        </p:nvPicPr>
        <p:blipFill>
          <a:blip r:embed="rId3"/>
          <a:stretch/>
        </p:blipFill>
        <p:spPr>
          <a:xfrm>
            <a:off x="6084720" y="4437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На уроке я работал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активно/пасси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Своей работой я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доволен/не дово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рок показался мне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коротким/дли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За урок я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устал/не устал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атериал урока мне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интересен/не интересен</a:t>
            </a:r>
            <a:br>
              <a:rPr sz="2400"/>
            </a:b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понятен/не понятен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полезен/   бесполезен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омашнее задание кажется мне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лёгким/трудным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интерес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не интересным</a:t>
            </a: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ЕЗНЫЕ ИСКОПАЕМ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оль (70% запасов РФ) – Тунгусский бассейн (самые крупные запасы, но из-за суровых условий добыча не ведётся), Ленский , Иркутский, Канско - Ачинский, Черемховский б-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олото – Забайкалье (Бодайбо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но-никелевые руды – Заполярье (г.Норильск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мазы – Якутия (г.Мир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езные руды, графит, слюда, стройматериалы, химическое сырь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има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иматические пояса: АКП, САКП, УК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климата: резко континент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холодная суровая з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мало осад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большие амплитуды темпера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итерии оце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5»---5 прав.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4»--- 4 прав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3»---3-2 прав.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оварь географических термин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ИТ -  обширная область выхода на земную поверхность складчатого       фундамента древних платформ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ПЫ – изверженные породы из группы базальтов.  Излившиеся в виде горизонтальных покровов в осадочный чехол плат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ТФОР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овненны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стойчивый участок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ЕРАТУРНАЯ ИНВЕРСИЯ-повышение температуры  воздуха с высотой    вместо обычного её пон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Релье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Полезные ископае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75d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Клима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bfc5"/>
                </a:solidFill>
                <a:latin typeface="Times New Roman"/>
              </a:rPr>
              <a:t>Внутренние 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Тест № 1. Ключ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ГП зависят особенности природы данного района (прежде всего климат, почвы и растительност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ревней платфор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и морского, умеренно-континентального, континентального, резко-континентального, муссонного клим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улевые и отрицательные температуры большую часть года, короткий теплый пери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льеф, климат, почва, вода, растительный и животный ми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ст №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Северо-Сибирской, р.Енисей, р.Л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Резко континентальный. Низкими. Мало. В летне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Установите  соответств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1680" y="1052640"/>
          <a:ext cx="8540640" cy="5400720"/>
        </p:xfrm>
        <a:graphic>
          <a:graphicData uri="http://schemas.openxmlformats.org/drawingml/2006/table">
            <a:tbl>
              <a:tblPr/>
              <a:tblGrid>
                <a:gridCol w="4199040"/>
                <a:gridCol w="4341600"/>
              </a:tblGrid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Гра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родные рубе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ff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а)  Тихоокеанский водоразд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. Ю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б)  Река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 За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в)  Северный Ледовиты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4. Во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г) Китай, Монго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ГП Восточной Сиби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ротяжённость с З – В от Енисея до Тихоокеанского водораздела примерно на 1800 км; с С – Ю =3000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Далеко выдвинута за полярный круг (м.Челюскин – самая северная точка Ази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Границы: р.Енисей, побережье СЛО, Тихоокеанский водораздел, Монголия, Кита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мангазея"/>
          <p:cNvPicPr/>
          <p:nvPr/>
        </p:nvPicPr>
        <p:blipFill>
          <a:blip r:embed="rId1"/>
          <a:stretch/>
        </p:blipFill>
        <p:spPr>
          <a:xfrm>
            <a:off x="4643280" y="1746360"/>
            <a:ext cx="4249800" cy="492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1.bp.blogspot.com/-lL8kCPrtHxU/ULYGjWzjwhI/AAAAAAAACIw/_Q0VGEpCano/s1600/deb8daf32aaf.jpg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ангазея- 1601 г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gazeta-respublika.ru/photos/photo-50799.jpg"/>
          <p:cNvPicPr/>
          <p:nvPr/>
        </p:nvPicPr>
        <p:blipFill>
          <a:blip r:embed="rId1"/>
          <a:stretch/>
        </p:blipFill>
        <p:spPr>
          <a:xfrm>
            <a:off x="250920" y="1341360"/>
            <a:ext cx="3673440" cy="44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sd5.uchebalegko.ru/tw_files2/urls_1109/2/d-1665/1665_html_795793c6.jpg"/>
          <p:cNvPicPr/>
          <p:nvPr/>
        </p:nvPicPr>
        <p:blipFill>
          <a:blip r:embed="rId2"/>
          <a:stretch/>
        </p:blipFill>
        <p:spPr>
          <a:xfrm>
            <a:off x="4067280" y="1341360"/>
            <a:ext cx="4825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04-21T14:42:05Z</dcterms:modified>
  <cp:revision>54</cp:revision>
  <dc:subject/>
  <dc:title>Слайд 1</dc:title>
</cp:coreProperties>
</file>