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8C3F-90D7-44B8-83D5-0A4034949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7754-169F-497D-8999-A8500944D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407C-171E-4923-8D6D-0A71B5A4F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8446-1D18-40CC-9663-6C65A91D7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58CF2-684B-4F2F-A3C4-BCA80F58C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5E6B4-1676-4B3E-A6F0-541E6E26D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AD5B7-E489-4DAF-94AD-9EB25B7AE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B8A4A-BD5C-4622-9442-D5FED0DD5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F9CB6-C85A-4A6F-9A69-1C1CB862D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59BA4-4716-4432-8D67-2D7F328B1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40411-D03F-4A18-B72A-62479D1B0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F4C2-28CB-417C-9B7D-70B221E62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828C2-90FF-4EA2-9544-6BE00A90E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8F93D-B89E-407F-9D95-A8240914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C57EE-E93F-45D4-B459-5D5378AF5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4CAC0-F936-43C0-977B-C83C74CEB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8EBF5-1446-4278-BC6D-5DB7F82EF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E32E-ADAD-41C0-8562-29E7D1B4E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3588-F78B-410D-B756-397AE9FF2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E5D6-C7E1-4CE6-9615-F635A100A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7B48-6B8C-433A-A346-728AEA125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FB68-EA28-455B-B0DA-51082F85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5FE5-6E0B-4602-BD1E-348CD53B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E6DE-A92D-4D2E-AA73-4DAAF056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574BF-27D2-42A5-93E5-CA632B95028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D7EAE-8CFC-457E-BED3-71EF4673565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ЗАКОНЫ ЗАКАЛИВАНИЯ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АРИН ДАНИИ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г клас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000" spc="-1" strike="noStrike">
                <a:solidFill>
                  <a:srgbClr val="ccecff"/>
                </a:solidFill>
                <a:latin typeface="Verdana"/>
              </a:rPr>
              <a:t>Если хочешь, чтобы твой организм был крепким и мог сопротивляться любым болезням, нужно закаляться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484000" y="3284280"/>
            <a:ext cx="37861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0" name="Объект 4" descr=""/>
          <p:cNvPicPr/>
          <p:nvPr/>
        </p:nvPicPr>
        <p:blipFill>
          <a:blip r:embed="rId1"/>
          <a:stretch/>
        </p:blipFill>
        <p:spPr>
          <a:xfrm>
            <a:off x="2484360" y="3284640"/>
            <a:ext cx="3786120" cy="23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Verdana"/>
              </a:rPr>
              <a:t>Главный закон закаливания- постепенность и систематичность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24000" y="1123920"/>
            <a:ext cx="836280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Основных средств закаливания 4 вида: вода, воздух, солнечные лучи и физические упражнения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Начинай закаливание в теплую погоду, когда можно одновременно принимать воздушные и солнечные ванны. Это время отдыха, игры, прогулок (пеших и на велосипеде). Водные процедуры начинай во время купания в реке, озере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Рисунок 4" descr=""/>
          <p:cNvPicPr/>
          <p:nvPr/>
        </p:nvPicPr>
        <p:blipFill>
          <a:blip r:embed="rId1"/>
          <a:stretch/>
        </p:blipFill>
        <p:spPr>
          <a:xfrm>
            <a:off x="1911240" y="3789360"/>
            <a:ext cx="518796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50920" y="404280"/>
            <a:ext cx="864216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родолжительность закаливающих процедур вначале должна быть небольшой, а температура воздуха и воды + 20-25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º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С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Температуру воды для обливания, обтирания, душа и ножных ванн надо снижать постепенно каждые три дня на 1-2ºС, до +18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º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С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осле водных процедур разотри тело сухим полотенцем до легкого покраснения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Если начал закаляться, то делай это каждый день! Если пропустил 1-2 недели, то надо начинать все сначала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ыполняй закаливающие процедуры только будучи здоровым!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Рисунок 4" descr=""/>
          <p:cNvPicPr/>
          <p:nvPr/>
        </p:nvPicPr>
        <p:blipFill>
          <a:blip r:embed="rId1"/>
          <a:stretch/>
        </p:blipFill>
        <p:spPr>
          <a:xfrm>
            <a:off x="4390920" y="4035600"/>
            <a:ext cx="3416400" cy="209376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5" descr=""/>
          <p:cNvPicPr/>
          <p:nvPr/>
        </p:nvPicPr>
        <p:blipFill>
          <a:blip r:embed="rId2"/>
          <a:stretch/>
        </p:blipFill>
        <p:spPr>
          <a:xfrm>
            <a:off x="1324080" y="3822840"/>
            <a:ext cx="201600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7T17:55:40Z</dcterms:created>
  <dc:creator>Вадим</dc:creator>
  <dc:description/>
  <dc:language>en-US</dc:language>
  <cp:lastModifiedBy>user</cp:lastModifiedBy>
  <dcterms:modified xsi:type="dcterms:W3CDTF">2017-05-04T11:20:15Z</dcterms:modified>
  <cp:revision>53</cp:revision>
  <dc:subject/>
  <dc:title>ПРОФЕССИИ НАШИХ МАМ</dc:title>
</cp:coreProperties>
</file>