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move the slide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0213-94CB-43F8-9292-0A80D5ABA1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3D11-78C2-47F1-B58F-54A56C093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66F-51F3-4C3D-91D8-E24DFC54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745-FFE8-47CC-A2E1-458962FC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4C28E-3C2A-4864-9513-5A152723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82921-F830-4A67-9759-1526F9E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26FEE-2E73-4335-BDE8-869A3304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F9DFF-CEAC-4C57-B213-2388619D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53F04-0E53-4092-A9E9-91630F76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CB3FB-C2E0-41CA-B742-2775455D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339F1-D9BF-4139-AA0B-98D1471C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86CE3-A03B-4182-AA0B-7A25937A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E0C90-2D91-4340-BE03-D5F21374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79923-4F4C-43F7-A837-C28A29A0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2B8-6B8C-4870-B3E5-35A80977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3D6CC-C908-44F9-818A-C42984EA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29E50-512B-457A-9C50-65208423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F9749-C0CE-44D7-B99D-EF410CD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8C95B-75FB-4978-985D-650741ED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E8321-E866-4E2B-9C96-BD51A628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4F4B3-3F73-4ECE-9887-82AA531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D7C3A-D936-488D-B92B-17EFA372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6CC27-12F1-4DC7-B3A6-6638C26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CE716-E9F7-4AD1-ABCC-D91F76B0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68CF7-C7A8-4B84-A169-7C13D16B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5C7-7005-42DF-AEAE-12B55EBC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378E1-43F5-4DB3-A318-2E6B071E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13CAB-9DD0-4F15-82B1-E79299B3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C1DE1-AD13-42DE-92F7-B1EB0082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E8E8-4FCA-4B1E-8249-7485F93F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A7AA3-F3CD-4816-AB36-46695664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EA52D-AA62-4535-A538-3315ADE7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BAC90-1548-4E12-9801-C8CD9B99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915A6-8A03-482A-B6B3-4BE2EB05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BC093-7BC2-45DA-8E0F-138A985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15726-E941-40A6-B8FA-A89DA15C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9F0F5-DF0D-404A-9D4C-64AA2BDC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37EA3-2B7E-4EDE-8400-3B6E811A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7BAF0-D1F4-4D49-A79E-4AC5BC65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3AA83-6E10-4163-AE88-676DBEC4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3C81F-87B7-4813-BB6A-49615AAA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FFCB8-D45F-41E7-ADC2-370F059E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46CF8-5675-45D9-9884-E021827B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FD05F-BC31-4A37-AB99-FBA5AA8B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137FF-85D8-4485-88FC-D416562E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AB631-6461-4256-BBCD-F931F1D6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ED070-3A1E-4858-B147-C80D3125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4829-BE82-4A75-A30F-180499AE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732CC-32D2-45F5-9135-7BF8DE01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B53F6-D6F2-4B69-8588-C38768B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5F16F-F39F-48F0-A07A-12CAE21B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55207-28C1-444C-8723-10021408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3A7FE-AD40-4730-9808-A0883B99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DF8CC-64D8-4AA8-901F-274568EA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A408B-13F6-4D08-9C2A-464C23C7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63F07-8491-4158-B5B8-F7E30CA5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0F0D2-B125-4F72-B65F-A2AF3AE2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D6632-4771-4140-AE62-E057DB2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ADA-AC2F-467B-A91E-A8AB59CA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8F477-C7BE-409C-B90F-88FD9DC6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97CFE-9FA0-4F4A-81A1-67F00BA4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8FD61-4123-43BF-85D8-BC7BED5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52535-3807-4E08-B91A-F57A5EA5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146B4-BE48-452C-AEC4-AD7339C2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89F6-B8F8-4020-ABBD-D8DCBD1C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0E77-4B0D-44FC-8F96-2F6B022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57758-96B4-4C3A-95CD-1859765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34CF-C43C-4310-B7D0-CCCE6B87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7670-F3B3-4DAF-AF73-BC28619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FE5-B68F-4434-A85C-F96F0685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7D24-A455-4EE8-B61C-1AADA08E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33D6-62A5-48DB-85CC-7E3395E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2FCF-D668-48D1-B3D1-CACC476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21A4-FFED-4E8B-B947-39DDF59D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9365-BC2B-4049-8B7E-D6715FE5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EB07-A42A-463F-81F2-867185E2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46F36-8037-4E38-A4DD-71E13E23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FA91-DC1F-4B5F-836C-811C1790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EA3A-ECD9-495F-9977-37FC1C8E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37F5-CAF7-4EB0-84E4-04C29451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D6B-C2D4-4521-BB5E-45597903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CDFA-EEE0-47CC-80C3-E9623862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7E15-0E23-4F12-B42C-BC99BF1D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F042-C748-489E-8B2B-55D46642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CC71-6111-4FFE-8DA9-B6CE1501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730A9-687E-4805-B202-3B5913D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B97B-6B13-43CE-A0EF-04EA84E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048A-3C8E-41D7-914B-87B8AE2D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EBC7-2326-4D11-B115-89E55E0C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58B87-21D0-4447-BD61-13BE9EFA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C1B31-B57D-4A71-8146-8993ABE1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5A1-C048-4E99-B84C-74CB0173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CCBE7-DAD0-40A1-85F1-5B2488F8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BAB6-F8B6-4486-8A6F-E695BE82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500EA-C121-4519-9925-E249C389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385B-31AE-4926-A5E0-110BB0B2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B0E99-0746-4278-BF8A-7E414BA7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D1911-84F1-4C4A-9C7B-5A8969A6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8F4F-5FA2-4B53-BA62-D4B9DEF5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9521-B0C3-4542-B244-34EACCEE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1703-3026-4C77-93F3-526EFFE9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B851-6172-43E6-AA7C-ACE8EBED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559-0957-49A8-B49C-EDB5AD2B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6D64D-2416-409B-9EA5-77329C79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3806-A51A-416C-B736-6DC25E96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AC68C-70C0-4C55-BF11-BE25FEDF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A538-55D2-42E8-9F45-74E9E97F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9C79-A4C7-4B32-8293-C5A68A41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3DAF4-6429-44AB-AFB6-8033330E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0BC46-AE41-426E-B69F-FF7D4FB6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AAE2-6567-4E00-964B-48DD8B7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CA5B-AE63-41B7-AA22-CAFAEF0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B238-1FC1-40E1-87A0-B0D0333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39E-B440-4AE9-8CB1-AB34EACA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FBA0-3F01-4593-B667-BD7AC191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1F91-260F-402D-AE33-963D00C3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20391-4664-43DA-B465-D1FDB0A3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AFDED-74C3-4C78-8959-43E096BA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7ACEE-2EB5-45D5-9311-B8AD41F3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D2FB7-F639-4BA5-9A07-90C08B7D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51F8F-BCDD-44AE-9A2C-8226A9E5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9BA05-105E-4027-9321-B80062A6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7F205-93E0-479D-ABE1-2D5478E2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9F112-E794-4667-AC93-D63C911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BBB-163F-4517-B588-617A75B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34B21-0CC1-4D03-A6BE-1C42AFED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79A7A-16A5-4B02-9922-F1CE4A6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EBD26-4544-4417-8B0E-F6A99C70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A391E-3EC8-43D9-BE50-417856F4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0EA17-7FB0-4C98-B7B4-88B04039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21093-11D2-4753-99AD-4342F89D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491D0-7D96-4D41-80B9-52951989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7189E-F6D2-463A-BC5D-BE38C835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9E87-57A2-476A-BDF9-B8614621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E7843-2D63-4BE3-BA40-564BD0EE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CC8-052D-4047-BEBB-754383E2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F5B2B-B49F-4A9B-A2AD-65FB242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EF44B-ED82-4B60-A14E-F6880038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39127-0118-4C37-AF8A-8643011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8E2C0-17CB-4DB7-8439-0578A827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7A5D3-620C-45B1-A341-623DCD6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ECCC1-C36F-495E-9851-7AE9D0ED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6CE9-9877-4F33-9DAE-49031080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F0494-64FB-445F-B5BC-B4BE12DF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7B987-542B-49D1-9A71-D42BAAA7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A2CC9-F7F7-4C0F-A5B6-5BE3FA8D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FAF8-7E33-4987-8B6D-9262C55F547A}" type="slidenum">
              <a:rPr b="0" lang="en-US" sz="12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0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8925-FF3B-4FB7-BD93-F75095576326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C416-69A1-42FB-B1FF-5D3F96B77624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8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49B1-0FAF-493D-9D7C-BAC31E6ECCE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3F28-094C-4DA0-8887-D83FFFF46169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8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15AE-7670-4F4B-AD1D-C30D2EB89FFD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3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ounded Rectangle 7"/>
          <p:cNvGrpSpPr/>
          <p:nvPr/>
        </p:nvGrpSpPr>
        <p:grpSpPr>
          <a:xfrm>
            <a:off x="609480" y="457200"/>
            <a:ext cx="7918560" cy="6029280"/>
            <a:chOff x="609480" y="457200"/>
            <a:chExt cx="7918560" cy="6029280"/>
          </a:xfrm>
        </p:grpSpPr>
        <p:pic>
          <p:nvPicPr>
            <p:cNvPr id="13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609480" y="457200"/>
              <a:ext cx="7918560" cy="60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1FE4-67DC-45C7-BA9D-5B59AF1B364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8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0313-F3EA-467D-8391-0DCD1595D56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22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65B2-5735-4F1F-87BE-C899803471E1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5C5-37FF-47F1-835F-86BC96FEE9B0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31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D83E-98E3-4E37-9DBB-04862B433B1E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35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3910-C756-4457-B2AC-8DB45A57B574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611280" y="339480"/>
            <a:ext cx="782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Мультимедийная разработка непосредственно образовательной деятельности по разделу «Музы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с использованием игр по програ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«Элементарное музицирование» (6- 7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по теме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«Давайте, поиграе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http://bestspictures.ru/img/picture/Jul/21/24bb38ca4b3ad40b84ad5bdd81bacf3d/4.jpg"/>
          <p:cNvPicPr/>
          <p:nvPr/>
        </p:nvPicPr>
        <p:blipFill>
          <a:blip r:embed="rId1"/>
          <a:stretch/>
        </p:blipFill>
        <p:spPr>
          <a:xfrm>
            <a:off x="857160" y="2071800"/>
            <a:ext cx="7786800" cy="4495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85840" y="1000080"/>
            <a:ext cx="38293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«Придумываем и импровизируем» –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воображение «Нет, не палочки!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е фантазировать, придумывать, дать возможность и шанс каждому ребенку выразить себя.</a:t>
            </a:r>
            <a:endParaRPr b="1" lang="en-US" sz="16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28400" y="4000680"/>
            <a:ext cx="3971880" cy="178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«Тренируем чувство ритма» -  Ритмическая игра «Раз, два, три, за мною повтори!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вивать ритмический и интонационный слу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Picture 5" descr="http://infourok.ru/images/doc/236/134232/1/img6.jpg"/>
          <p:cNvPicPr/>
          <p:nvPr/>
        </p:nvPicPr>
        <p:blipFill>
          <a:blip r:embed="rId1"/>
          <a:stretch/>
        </p:blipFill>
        <p:spPr>
          <a:xfrm>
            <a:off x="785880" y="92880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http://skuki.net/photos/10974/6d0399.jpg"/>
          <p:cNvPicPr/>
          <p:nvPr/>
        </p:nvPicPr>
        <p:blipFill>
          <a:blip r:embed="rId2"/>
          <a:stretch/>
        </p:blipFill>
        <p:spPr>
          <a:xfrm>
            <a:off x="5000760" y="3500280"/>
            <a:ext cx="323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42861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 Танец инсценировка «Веселые сапожники» -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 детей, эмоциональности, артистичности, музыкально-ритмических способностей детей , пластики и координации движений в танце</a:t>
            </a:r>
            <a:endParaRPr b="1" lang="en-US" sz="16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000400" y="3642840"/>
            <a:ext cx="3400200" cy="171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438840" indent="-26172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аем в оркестре» – «Итальянская полечка»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е детей об оркестре,  повторить партии «звучащими жестами», исполнять свою партию в созвучии с другими инструмент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8840" indent="-261720">
              <a:lnSpc>
                <a:spcPct val="100000"/>
              </a:lnSpc>
              <a:spcBef>
                <a:spcPts val="4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Заголовок 1"/>
          <p:cNvSpPr/>
          <p:nvPr/>
        </p:nvSpPr>
        <p:spPr>
          <a:xfrm>
            <a:off x="571680" y="5786280"/>
            <a:ext cx="8001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занятия -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атия, обратная связь чему мы сегодня науч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http://1ds.ucoz.ru/kartinka/foto_40pesnja.jpg"/>
          <p:cNvPicPr/>
          <p:nvPr/>
        </p:nvPicPr>
        <p:blipFill>
          <a:blip r:embed="rId1"/>
          <a:stretch/>
        </p:blipFill>
        <p:spPr>
          <a:xfrm>
            <a:off x="5286240" y="714240"/>
            <a:ext cx="2849760" cy="2606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1" descr="http://i.sinjaja-ptica.ru/u/pic/b4/c28b366bfd11e3b9f75bc4b4853424/-/0_1ba8e_1512356a_XL.jpg"/>
          <p:cNvPicPr/>
          <p:nvPr/>
        </p:nvPicPr>
        <p:blipFill>
          <a:blip r:embed="rId2"/>
          <a:stretch/>
        </p:blipFill>
        <p:spPr>
          <a:xfrm>
            <a:off x="1214280" y="3286080"/>
            <a:ext cx="3286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Заголовок 1" descr=""/>
          <p:cNvPicPr/>
          <p:nvPr/>
        </p:nvPicPr>
        <p:blipFill>
          <a:blip r:embed="rId1"/>
          <a:stretch/>
        </p:blipFill>
        <p:spPr>
          <a:xfrm>
            <a:off x="487440" y="-12600"/>
            <a:ext cx="8254800" cy="950760"/>
          </a:xfrm>
          <a:prstGeom prst="rect">
            <a:avLst/>
          </a:prstGeom>
          <a:ln w="0">
            <a:noFill/>
          </a:ln>
        </p:spPr>
      </p:pic>
      <p:pic>
        <p:nvPicPr>
          <p:cNvPr id="603" name="Содержимое 3" descr=""/>
          <p:cNvPicPr/>
          <p:nvPr/>
        </p:nvPicPr>
        <p:blipFill>
          <a:blip r:embed="rId2"/>
          <a:stretch/>
        </p:blipFill>
        <p:spPr>
          <a:xfrm>
            <a:off x="622440" y="987480"/>
            <a:ext cx="7789680" cy="5516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1"/>
          <a:stretch/>
        </p:blipFill>
        <p:spPr>
          <a:xfrm>
            <a:off x="774720" y="-6967440"/>
            <a:ext cx="7601040" cy="9045360"/>
          </a:xfrm>
          <a:prstGeom prst="rect">
            <a:avLst/>
          </a:prstGeom>
          <a:ln w="0">
            <a:noFill/>
          </a:ln>
        </p:spPr>
      </p:pic>
      <p:grpSp>
        <p:nvGrpSpPr>
          <p:cNvPr id="542" name="Текст 11"/>
          <p:cNvGrpSpPr/>
          <p:nvPr/>
        </p:nvGrpSpPr>
        <p:grpSpPr>
          <a:xfrm>
            <a:off x="4327560" y="2401920"/>
            <a:ext cx="4060800" cy="3627360"/>
            <a:chOff x="4327560" y="2401920"/>
            <a:chExt cx="4060800" cy="3627360"/>
          </a:xfrm>
        </p:grpSpPr>
        <p:pic>
          <p:nvPicPr>
            <p:cNvPr id="543" name="Текст 11" descr=""/>
            <p:cNvPicPr/>
            <p:nvPr/>
          </p:nvPicPr>
          <p:blipFill>
            <a:blip r:embed="rId2"/>
            <a:stretch/>
          </p:blipFill>
          <p:spPr>
            <a:xfrm>
              <a:off x="4327560" y="2401920"/>
              <a:ext cx="406080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4"/>
            <p:cNvSpPr/>
            <p:nvPr/>
          </p:nvSpPr>
          <p:spPr>
            <a:xfrm>
              <a:off x="4572000" y="2643120"/>
              <a:ext cx="357192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marL="4572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a2d6c"/>
                  </a:solidFill>
                  <a:latin typeface="Times New Roman"/>
                </a:rPr>
                <a:t>Предварительная работ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- разучивание русской народной потешки «Божья коровка» , песни «Про сапожника» и  движений к  танцу «Танец сапожников»;</a:t>
              </a:r>
              <a:br>
                <a:rPr sz="1600"/>
              </a:b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-  знакомство со «звучащими жестами»;</a:t>
              </a:r>
              <a:br>
                <a:rPr sz="1600"/>
              </a:b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- разучивание партий инструментов в оркестре;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Текст 11"/>
          <p:cNvGrpSpPr/>
          <p:nvPr/>
        </p:nvGrpSpPr>
        <p:grpSpPr>
          <a:xfrm>
            <a:off x="1042920" y="828720"/>
            <a:ext cx="6985080" cy="1701720"/>
            <a:chOff x="1042920" y="828720"/>
            <a:chExt cx="6985080" cy="1701720"/>
          </a:xfrm>
        </p:grpSpPr>
        <p:pic>
          <p:nvPicPr>
            <p:cNvPr id="546" name="Текст 11" descr=""/>
            <p:cNvPicPr/>
            <p:nvPr/>
          </p:nvPicPr>
          <p:blipFill>
            <a:blip r:embed="rId3"/>
            <a:stretch/>
          </p:blipFill>
          <p:spPr>
            <a:xfrm>
              <a:off x="1042920" y="828720"/>
              <a:ext cx="6985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7"/>
            <p:cNvSpPr/>
            <p:nvPr/>
          </p:nvSpPr>
          <p:spPr>
            <a:xfrm>
              <a:off x="1285920" y="1071720"/>
              <a:ext cx="650088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marL="45720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a2d6c"/>
                  </a:solidFill>
                  <a:latin typeface="Times New Roman"/>
                </a:rPr>
                <a:t>Материал к занятию:  </a:t>
              </a: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шумовые инструменты – бубны, тарелочки, маракасы, треугольники, ксилофоны, рубель, трещетка, блок-тон, деревянные палочки по количеству детей, хрустальные стаканы, листочки шуршащей бумаги, молоточки.</a:t>
              </a:r>
              <a:r>
                <a:rPr b="0" lang="ru-RU" sz="1600" spc="-1" strike="noStrike">
                  <a:solidFill>
                    <a:srgbClr val="2a2d6c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Рисунок 6" descr="IMGA0852.JPG"/>
          <p:cNvPicPr/>
          <p:nvPr/>
        </p:nvPicPr>
        <p:blipFill>
          <a:blip r:embed="rId4"/>
          <a:stretch/>
        </p:blipFill>
        <p:spPr>
          <a:xfrm>
            <a:off x="774720" y="2706840"/>
            <a:ext cx="3664080" cy="3035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Багетная рамка 6"/>
          <p:cNvGrpSpPr/>
          <p:nvPr/>
        </p:nvGrpSpPr>
        <p:grpSpPr>
          <a:xfrm>
            <a:off x="334800" y="1189080"/>
            <a:ext cx="8480520" cy="2127240"/>
            <a:chOff x="334800" y="1189080"/>
            <a:chExt cx="8480520" cy="2127240"/>
          </a:xfrm>
        </p:grpSpPr>
        <p:pic>
          <p:nvPicPr>
            <p:cNvPr id="550" name="Багетная рамка 6" descr=""/>
            <p:cNvPicPr/>
            <p:nvPr/>
          </p:nvPicPr>
          <p:blipFill>
            <a:blip r:embed="rId1"/>
            <a:stretch/>
          </p:blipFill>
          <p:spPr>
            <a:xfrm>
              <a:off x="334800" y="1189080"/>
              <a:ext cx="848052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3"/>
            <p:cNvSpPr/>
            <p:nvPr/>
          </p:nvSpPr>
          <p:spPr>
            <a:xfrm>
              <a:off x="776160" y="1633680"/>
              <a:ext cx="759168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ЦЕЛЬ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: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мочь детям дошкольного возраста в музыкально-дидактической игре войти в мир музыки, найти свои собственные формы общения с ней, удовлетворить потребности детей в эмоциональном и двигательном самовыражен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Багетная рамка 7"/>
          <p:cNvGrpSpPr/>
          <p:nvPr/>
        </p:nvGrpSpPr>
        <p:grpSpPr>
          <a:xfrm>
            <a:off x="334800" y="2908440"/>
            <a:ext cx="8480520" cy="3693960"/>
            <a:chOff x="334800" y="2908440"/>
            <a:chExt cx="8480520" cy="3693960"/>
          </a:xfrm>
        </p:grpSpPr>
        <p:pic>
          <p:nvPicPr>
            <p:cNvPr id="553" name="Багетная рамка 7" descr=""/>
            <p:cNvPicPr/>
            <p:nvPr/>
          </p:nvPicPr>
          <p:blipFill>
            <a:blip r:embed="rId2"/>
            <a:stretch/>
          </p:blipFill>
          <p:spPr>
            <a:xfrm>
              <a:off x="334800" y="2908440"/>
              <a:ext cx="8480520" cy="36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6"/>
            <p:cNvSpPr/>
            <p:nvPr/>
          </p:nvSpPr>
          <p:spPr>
            <a:xfrm>
              <a:off x="973080" y="3544920"/>
              <a:ext cx="7197840" cy="24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ЗАДАЧИ: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азви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итмически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нтонационны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тембровы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лу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гра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лово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нструментам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накомств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вучание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теклянн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бумажн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вуко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Формиро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мени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фантазиро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ридумы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омбиниро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ечев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вигательн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пражнения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озд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слов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л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олуч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етьм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довольств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от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роцесс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гр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овлек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ете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тихийно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музицировани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спользование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вучащи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жесто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музыкальн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нструменто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чи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ете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новы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риемо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сполн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аноно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озможнос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шан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аждому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ебенку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ырази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еб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Прямоугольник 9"/>
          <p:cNvSpPr/>
          <p:nvPr/>
        </p:nvSpPr>
        <p:spPr>
          <a:xfrm>
            <a:off x="500040" y="5000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b73"/>
                </a:solidFill>
                <a:latin typeface="Times New Roman"/>
              </a:rPr>
              <a:t>Непосредственно образовательная деятельность по разделу «Музыка» </a:t>
            </a:r>
            <a:br>
              <a:rPr sz="1800"/>
            </a:br>
            <a:r>
              <a:rPr b="1" lang="ru-RU" sz="1800" spc="-1" strike="noStrike">
                <a:solidFill>
                  <a:srgbClr val="171b73"/>
                </a:solidFill>
                <a:latin typeface="Times New Roman"/>
              </a:rPr>
              <a:t>с использованием игр по программе «Элементарное музицирование» по теме: «Давайте поиграе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822240"/>
          </a:xfrm>
          <a:prstGeom prst="rect">
            <a:avLst/>
          </a:prstGeom>
          <a:ln w="0">
            <a:noFill/>
          </a:ln>
        </p:spPr>
      </p:pic>
      <p:pic>
        <p:nvPicPr>
          <p:cNvPr id="557" name="Содержимое 5" descr=""/>
          <p:cNvPicPr/>
          <p:nvPr/>
        </p:nvPicPr>
        <p:blipFill>
          <a:blip r:embed="rId2"/>
          <a:stretch/>
        </p:blipFill>
        <p:spPr>
          <a:xfrm>
            <a:off x="493560" y="749160"/>
            <a:ext cx="8296560" cy="5877000"/>
          </a:xfrm>
          <a:prstGeom prst="rect">
            <a:avLst/>
          </a:prstGeom>
          <a:ln w="0">
            <a:noFill/>
          </a:ln>
        </p:spPr>
      </p:pic>
      <p:pic>
        <p:nvPicPr>
          <p:cNvPr id="558" name="Прямоугольник 6" descr=""/>
          <p:cNvPicPr/>
          <p:nvPr/>
        </p:nvPicPr>
        <p:blipFill>
          <a:blip r:embed="rId3"/>
          <a:stretch/>
        </p:blipFill>
        <p:spPr>
          <a:xfrm>
            <a:off x="5541840" y="1542960"/>
            <a:ext cx="32054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Oval 8"/>
          <p:cNvSpPr/>
          <p:nvPr/>
        </p:nvSpPr>
        <p:spPr>
          <a:xfrm>
            <a:off x="3500280" y="2000160"/>
            <a:ext cx="2057400" cy="1257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иц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6643800" y="3214800"/>
            <a:ext cx="1942920" cy="928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чевое музиц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571680" y="3286080"/>
            <a:ext cx="1928520" cy="928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ов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214280" y="4500720"/>
            <a:ext cx="1514520" cy="92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6572160" y="4429080"/>
            <a:ext cx="1500120" cy="928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6643800" y="2143080"/>
            <a:ext cx="1928880" cy="92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онт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овизир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571680" y="2143080"/>
            <a:ext cx="1885680" cy="928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на дет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3000240" y="5000760"/>
            <a:ext cx="1300320" cy="1000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звуч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в и 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4929120" y="5000760"/>
            <a:ext cx="1285920" cy="1000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м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1071720" y="1143000"/>
            <a:ext cx="6972120" cy="69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ить детям первоначальные навыки совместного творческого музиц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84960" y="21600"/>
            <a:ext cx="680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виды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занятиях элементарного музиц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3701880" y="151560"/>
            <a:ext cx="173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2"/>
          <p:cNvSpPr/>
          <p:nvPr/>
        </p:nvSpPr>
        <p:spPr>
          <a:xfrm>
            <a:off x="4129560" y="65448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трелка вниз 25"/>
          <p:cNvSpPr/>
          <p:nvPr/>
        </p:nvSpPr>
        <p:spPr>
          <a:xfrm rot="5247600">
            <a:off x="2642760" y="2179440"/>
            <a:ext cx="714240" cy="854280"/>
          </a:xfrm>
          <a:prstGeom prst="downArrow">
            <a:avLst>
              <a:gd name="adj1" fmla="val 22185"/>
              <a:gd name="adj2" fmla="val 42205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трелка вниз 26"/>
          <p:cNvSpPr/>
          <p:nvPr/>
        </p:nvSpPr>
        <p:spPr>
          <a:xfrm rot="2819400">
            <a:off x="2764800" y="2830320"/>
            <a:ext cx="714240" cy="1035000"/>
          </a:xfrm>
          <a:prstGeom prst="downArrow">
            <a:avLst>
              <a:gd name="adj1" fmla="val 22185"/>
              <a:gd name="adj2" fmla="val 42191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трелка вниз 27"/>
          <p:cNvSpPr/>
          <p:nvPr/>
        </p:nvSpPr>
        <p:spPr>
          <a:xfrm rot="2300400">
            <a:off x="3198960" y="3157200"/>
            <a:ext cx="714240" cy="1517760"/>
          </a:xfrm>
          <a:prstGeom prst="downArrow">
            <a:avLst>
              <a:gd name="adj1" fmla="val 22185"/>
              <a:gd name="adj2" fmla="val 42195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трелка вниз 28"/>
          <p:cNvSpPr/>
          <p:nvPr/>
        </p:nvSpPr>
        <p:spPr>
          <a:xfrm rot="877200">
            <a:off x="3885840" y="3405240"/>
            <a:ext cx="714240" cy="1446120"/>
          </a:xfrm>
          <a:prstGeom prst="downArrow">
            <a:avLst>
              <a:gd name="adj1" fmla="val 22185"/>
              <a:gd name="adj2" fmla="val 42190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трелка вниз 29"/>
          <p:cNvSpPr/>
          <p:nvPr/>
        </p:nvSpPr>
        <p:spPr>
          <a:xfrm rot="20880000">
            <a:off x="4811400" y="3409920"/>
            <a:ext cx="714240" cy="1459080"/>
          </a:xfrm>
          <a:prstGeom prst="downArrow">
            <a:avLst>
              <a:gd name="adj1" fmla="val 22185"/>
              <a:gd name="adj2" fmla="val 42200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Стрелка вниз 30"/>
          <p:cNvSpPr/>
          <p:nvPr/>
        </p:nvSpPr>
        <p:spPr>
          <a:xfrm rot="18962400">
            <a:off x="5416560" y="3121200"/>
            <a:ext cx="714240" cy="1565280"/>
          </a:xfrm>
          <a:prstGeom prst="downArrow">
            <a:avLst>
              <a:gd name="adj1" fmla="val 22185"/>
              <a:gd name="adj2" fmla="val 42197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Стрелка вниз 31"/>
          <p:cNvSpPr/>
          <p:nvPr/>
        </p:nvSpPr>
        <p:spPr>
          <a:xfrm rot="18115200">
            <a:off x="5662440" y="2772000"/>
            <a:ext cx="714240" cy="1098360"/>
          </a:xfrm>
          <a:prstGeom prst="downArrow">
            <a:avLst>
              <a:gd name="adj1" fmla="val 22185"/>
              <a:gd name="adj2" fmla="val 42190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Стрелка вниз 32"/>
          <p:cNvSpPr/>
          <p:nvPr/>
        </p:nvSpPr>
        <p:spPr>
          <a:xfrm rot="16200000">
            <a:off x="5728680" y="2235960"/>
            <a:ext cx="714240" cy="852480"/>
          </a:xfrm>
          <a:prstGeom prst="downArrow">
            <a:avLst>
              <a:gd name="adj1" fmla="val 22185"/>
              <a:gd name="adj2" fmla="val 42194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Текст 11" descr=""/>
          <p:cNvPicPr/>
          <p:nvPr/>
        </p:nvPicPr>
        <p:blipFill>
          <a:blip r:embed="rId1"/>
          <a:stretch/>
        </p:blipFill>
        <p:spPr>
          <a:xfrm>
            <a:off x="1785960" y="3000240"/>
            <a:ext cx="5857920" cy="3273480"/>
          </a:xfrm>
          <a:prstGeom prst="rect">
            <a:avLst/>
          </a:prstGeom>
          <a:ln w="0">
            <a:noFill/>
          </a:ln>
        </p:spPr>
      </p:pic>
      <p:pic>
        <p:nvPicPr>
          <p:cNvPr id="581" name="Текст 11" descr=""/>
          <p:cNvPicPr/>
          <p:nvPr/>
        </p:nvPicPr>
        <p:blipFill>
          <a:blip r:embed="rId2"/>
          <a:stretch/>
        </p:blipFill>
        <p:spPr>
          <a:xfrm>
            <a:off x="615960" y="255600"/>
            <a:ext cx="8131320" cy="2633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Заголовок 1" descr=""/>
          <p:cNvPicPr/>
          <p:nvPr/>
        </p:nvPicPr>
        <p:blipFill>
          <a:blip r:embed="rId1"/>
          <a:stretch/>
        </p:blipFill>
        <p:spPr>
          <a:xfrm>
            <a:off x="420840" y="328680"/>
            <a:ext cx="8242200" cy="750960"/>
          </a:xfrm>
          <a:prstGeom prst="rect">
            <a:avLst/>
          </a:prstGeom>
          <a:ln w="0">
            <a:noFill/>
          </a:ln>
        </p:spPr>
      </p:pic>
      <p:grpSp>
        <p:nvGrpSpPr>
          <p:cNvPr id="583" name="Текст 11"/>
          <p:cNvGrpSpPr/>
          <p:nvPr/>
        </p:nvGrpSpPr>
        <p:grpSpPr>
          <a:xfrm>
            <a:off x="1071720" y="1000080"/>
            <a:ext cx="7071840" cy="5205600"/>
            <a:chOff x="1071720" y="1000080"/>
            <a:chExt cx="7071840" cy="5205600"/>
          </a:xfrm>
        </p:grpSpPr>
        <p:pic>
          <p:nvPicPr>
            <p:cNvPr id="584" name="Текст 11" descr=""/>
            <p:cNvPicPr/>
            <p:nvPr/>
          </p:nvPicPr>
          <p:blipFill>
            <a:blip r:embed="rId2"/>
            <a:stretch/>
          </p:blipFill>
          <p:spPr>
            <a:xfrm>
              <a:off x="1071720" y="1000080"/>
              <a:ext cx="7071840" cy="520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4"/>
            <p:cNvSpPr/>
            <p:nvPr/>
          </p:nvSpPr>
          <p:spPr>
            <a:xfrm>
              <a:off x="1384920" y="1246320"/>
              <a:ext cx="6445440" cy="47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Verdana"/>
                </a:rPr>
                <a:t>Структура НОД определена исходя из поставленных целей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Verdana"/>
                </a:rPr>
                <a:t>Представлена   восемью   частями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Verdana"/>
                </a:rPr>
                <a:t>: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Организационная часть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– 1 мину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I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 Веселая  разминка –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 3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II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Игра «Прыг-скок» – речевое музицирование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3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V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Песенка «Шаловливые сосульки» –игра импровизация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–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6 мину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V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Поем каноном - попевка «Божья коровка» –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4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VI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Игра на воображение «Нет, не палочки!»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2 мину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VII. 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Ритмическая игра «Раз, два, три, за мною повтори!» 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 2 мину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VIII. 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Танец инсценировка «Веселые сапожники» -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4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X. 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Играем в оркестре «Итальянская полечка»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4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X. 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Итог занятия -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1 минута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2876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узыкально-ритмические движ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елая разминка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авливают детей к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ным  двигательным упражнениям, уча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изображать звуки и настроения с помощью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х движений, при этом у дете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атывается быстрота реакции, умение ждать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момент вступл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чевое музицирование с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омпониментом звучащи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в- упражнение «Прыг-скок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упражнения важны, потому что  музыкальны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  развивается в тесной связи со слухов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4" descr="http://www.filmaalten.nl/img/nieuws/29398_groot.jpg"/>
          <p:cNvPicPr/>
          <p:nvPr/>
        </p:nvPicPr>
        <p:blipFill>
          <a:blip r:embed="rId1"/>
          <a:stretch/>
        </p:blipFill>
        <p:spPr>
          <a:xfrm>
            <a:off x="785880" y="1143000"/>
            <a:ext cx="3286080" cy="2435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http://boombob.ru/img/picture/Oct/14/9524e3bf90f0e4e100cf97037e46d6ef/5.jpg"/>
          <p:cNvPicPr/>
          <p:nvPr/>
        </p:nvPicPr>
        <p:blipFill>
          <a:blip r:embed="rId2"/>
          <a:stretch/>
        </p:blipFill>
        <p:spPr>
          <a:xfrm>
            <a:off x="4643280" y="3714840"/>
            <a:ext cx="4000680" cy="2500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404352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Импровизация и озвучивание» -песенка «Шаловливые сосульки» </a:t>
            </a:r>
            <a:r>
              <a:rPr b="0" lang="ru-RU" sz="1600" spc="-1" strike="noStrike">
                <a:solidFill>
                  <a:srgbClr val="171b73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ическое музицирование с использованием «хрустального оркестра» - разучивание песенки с озвучиванием «хрустального оркестра» помогает детям ощутить красоту звучания поэзии и музыки. Дети осознают связь музыки и слова и легко запоминают текс песенки. </a:t>
            </a:r>
            <a:br>
              <a:rPr sz="1600"/>
            </a:br>
            <a:endParaRPr b="1" lang="en-US" sz="16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929120" y="3571560"/>
            <a:ext cx="3371760" cy="26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Поем каноном» – попевка «Божья коровка»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детей с новым приемом  исполнения  пения. Учить петь двухголосьем и слышать красоту звуч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4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5" descr="http://pgr-ds4.sch.b-edu.ru/files/4000764.jpg"/>
          <p:cNvPicPr/>
          <p:nvPr/>
        </p:nvPicPr>
        <p:blipFill>
          <a:blip r:embed="rId1"/>
          <a:srcRect l="4540" t="0" r="4640" b="6248"/>
          <a:stretch/>
        </p:blipFill>
        <p:spPr>
          <a:xfrm>
            <a:off x="5214960" y="1000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http://merkaba-kirov.ru/wp-content/uploads/6.jpg"/>
          <p:cNvPicPr/>
          <p:nvPr/>
        </p:nvPicPr>
        <p:blipFill>
          <a:blip r:embed="rId2"/>
          <a:stretch/>
        </p:blipFill>
        <p:spPr>
          <a:xfrm>
            <a:off x="928800" y="335772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8T07:45:09Z</dcterms:created>
  <dc:creator>Andry</dc:creator>
  <dc:description/>
  <dc:language>en-US</dc:language>
  <cp:lastModifiedBy>Алла</cp:lastModifiedBy>
  <dcterms:modified xsi:type="dcterms:W3CDTF">2017-08-23T16:50:33Z</dcterms:modified>
  <cp:revision>25</cp:revision>
  <dc:subject/>
  <dc:title>Слайд 1</dc:title>
</cp:coreProperties>
</file>