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move the slide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2382-48F4-40BC-AC65-63D6357BF7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5309-A475-41D0-BAAC-0D2B535B1D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BF4-11AD-409B-9520-7FF4EAF9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C05-F207-4593-9BF1-D7C64495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B3C05-E0DF-4A84-AB80-67E58BA5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A7891-E626-4814-8355-5A98D9D6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66BA9-A9A8-4034-A4B1-E6BF15C6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5342B-1C42-4446-8BF9-597CC7E4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651C4-9CEB-433B-91D5-21EB52F3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73376-01DA-4CB7-B379-935890A4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0B05A-17BD-42D5-804E-E65D087C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192B7-3115-4295-B630-EF2C6AD5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64CB9-51B0-4A09-90C2-CE329383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08942-588A-4479-A24E-A56701FE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EA5-B3CD-44E6-A982-F4A1A5CA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644EF-0F8F-46C1-8B6C-9F739061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790BB-4C16-459D-B688-46F8505F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CD4E9-64F1-454B-B6ED-BDCA0E31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7F64E-71D0-47A7-AD02-C2D5F993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C909C-92D0-464A-A74D-D167F05F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1D3B4-37AC-448B-A865-B0E0A703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17E2E-9692-494B-B095-DC0FC7BC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34D72-49B1-4C42-9429-3FE69A2F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F5DEA-07E2-4C06-8DF4-D80C2EDA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1665C-A5B4-4333-8ADB-6ADE1F4D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77D-0089-497C-B850-044A9472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404D5-5B5F-4D96-B57E-3A9852DE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BF5B4-E15A-4BD0-954E-267D39AA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8A2A9-7FF1-4B93-A428-C8735A10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89F24-D49C-4236-8817-191E6BBB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FA1B3-CD9B-4D34-ADC9-21734FC8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D4B8E-A322-4D36-B4FE-0B4035C9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04860-98E9-430A-90CD-46EE29FE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45184-CCAE-4BDC-A961-9716297A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D4CC5-619F-4586-8742-5D94E59D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E871C-8DF4-41B7-99C7-B5B5F8CD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20965-F3C8-47BE-8E24-BC3E84DB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5930B-345F-432B-B376-849C9ABF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76117-02CA-46BA-BA64-6FB9662C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7EB76-CDB6-4985-B034-170BA855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6E04D-CA33-4812-AE5F-15509127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CDBD0-5FF2-461F-BC40-BC2E7AA3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D7B75-68FC-4670-B9ED-92BDC9BE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9AAC8-3F25-4E4F-AA9B-C57CA6D1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7B139-2ADB-411B-A1D9-75AC0EBA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7BC91-944C-4226-AB3B-A9F54764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822B5-DB9F-4144-9B27-40A0B7FE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94096-A52E-4E5B-BE0A-616A21C8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27377-800E-44CC-8E0A-D1ED72D5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20039-ACC3-469B-BC50-50447147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D96B2-F086-4C0D-8577-8A8C09CD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A6E33-0DFA-4BD3-921A-86F23542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A0781-2F4F-4248-946D-6AB43B99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FCAE8-4571-4845-8EE5-8EB0155A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3F0C1-82F3-49EC-8574-1670BEDD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6A339-525A-4C46-AF4D-919485AB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6FC58-70AB-4397-93F3-42D71539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5F048-D39D-4F2E-9B96-7556AE40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20A-5894-4510-AC34-00240C51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9F14C-7693-4293-9A83-3A013C44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C3C75-FF1C-4A31-A037-4D9BA29A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09359-69CD-419E-8DD0-D24F6DC2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35844-74E9-4AC9-9646-306A4B5E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D6526-1F55-4728-85B8-6AC59147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4219D-0939-426D-81F3-1DEF0014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5FED8-D0B4-4BA5-9916-0A2A4D6A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C3212-6083-487E-88B8-5A885334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3EBA4-9DEF-4F62-9E85-408A03B1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9FCE-484D-4DF0-8CB8-8EC8D1DB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2378-6431-4099-8A28-2336CE29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74BA9-B6B7-4583-87DF-50BD7FE1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481F0-D386-410C-A7E9-60A6E05A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664FC-3963-4986-887D-D4AC96E4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589FF-22E9-454E-999F-F7EB68F1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B767E-807A-4833-B811-681981DF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20F3D-558C-4297-BF72-09117E10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63029-FC18-472A-8B3E-15113C3F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6E011-64D9-4DE3-A466-419B0920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FD79D-377B-4147-BD93-C69FBC2F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A5EAA-5C7E-4AA8-A3FB-CB3A40BC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F18E-8726-4272-B401-2FDB9346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DF50C-FBE4-41CC-AAAB-E3F2F215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AF2F1-0246-4EE2-9521-008666CF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68C0A-C635-4434-BAB8-2AD5B329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E2DA1-1075-4D7B-985D-C7C3AFE7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D4AA7-C57E-458D-A772-440A9738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AFE4B-6A82-46C7-AF64-DE4A8A29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91424-090C-4FF9-AB16-729B2563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FDCE1-724A-4794-B551-FADCA37A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5CF1A-9098-42DD-8C93-76B934B3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CE1DE-5AAE-4952-936A-442DFE16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E952-CDB6-4977-80B1-7529FF99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0BF41-2DCE-43A6-A649-C05A1403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28096-4735-4BE6-B910-EA67B057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0992C-FAD9-475A-BF4A-80CB4923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D1B4A-84CD-4EB1-89D1-5E6ED9D8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BA69C-69F9-4C92-BAFB-FB7C77BC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B152D-CFB6-45A3-98A4-24781102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7523D-BD26-4B90-B60E-F92A6B7E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3FA1E-9BB3-4680-9EA5-9471FE6A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4F1C1-5FD9-41B3-987C-E4E3242B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12E4A-3406-4B2A-80A4-276001D0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DA2-1DE4-492E-A5D5-4CBF4CEE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FDBCC-BAED-4278-9B30-D0E12CA1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F3B9F-FD90-4E5A-9C00-84F763D3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B3AEA-BEB1-4C33-8421-6D9232A9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0F302-7F4A-4917-8121-08271416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B2502-7884-454D-931B-05559A63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FB029-A34B-440F-A952-25DC16C6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6678B-CDF9-49DE-80AC-E67F2C00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4E018-0813-4B23-B7E8-11C58518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13F32-BD9B-47D8-A50A-FE368E2A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C4D25-9803-449A-8117-2DE5FC30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9B9-4E93-4D7F-9A6D-1589D410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724F5-47B6-472E-830E-09CE94CF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8FEB9-F70D-4C38-ADB5-23B3C7DD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2778C-DA54-4F58-8B2F-098BE84A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C6988-7256-4C03-A97B-800D0F1E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A9EF9-5F5B-4C18-83A1-F11D403D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9C022-F01D-41FB-8545-B4562771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DBEC7-364F-45B0-9232-917576D8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4755D-1356-4E4F-953A-61DEAB2A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BEACE-4445-4C7B-A27C-CCAD6A9E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A620E-17B6-4B29-B0E9-92A67370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06A9-73E0-48C2-A148-4FF7DED0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8F027-456F-4A80-ADBB-02B24514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44E66-573A-4353-BF21-BD3F2165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73F40-3CB8-498E-97FC-A1BE424D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942E8-133C-4014-95DB-AF3C95F4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8AD3B-344F-4D8E-9780-03D3EFCB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B2AAE-8CA1-40E7-B07C-19C77ECD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F1F1A-2432-4810-A3D1-740FB23C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95CF8-B85A-4130-9036-3E94E3DB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237AA-57AB-4F19-B839-1D016543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5FE00-6EB6-4463-A3AE-4D5645B0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4B5C-BE97-4070-A6AE-1BB2A711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14FF8-AB67-4CF6-9711-0291E86F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F847A-9C3A-48BA-9F62-50617136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3E036-BC67-4AED-987C-D4E8F584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91CB0-6ECC-40C9-9A8A-D059CA1F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B4406-6178-437A-B05C-3677E315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87005-FC52-4FAE-B7DB-E8E22F5B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29A01-F242-4277-BABD-865624D3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A417B-90A1-4E6C-B563-A40520B8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B757A-789D-4341-A5FD-DD18BE35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D7EBB-C407-4E77-9697-A1F378B0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BD18-0671-4913-8613-2A27B5A313A8}" type="slidenum">
              <a:rPr b="0" lang="en-US" sz="12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400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Rounded Rectangle 7"/>
          <p:cNvSpPr/>
          <p:nvPr/>
        </p:nvSpPr>
        <p:spPr>
          <a:xfrm>
            <a:off x="4740120" y="795240"/>
            <a:ext cx="3961080" cy="5294520"/>
          </a:xfrm>
          <a:custGeom>
            <a:avLst/>
            <a:gdLst>
              <a:gd name="textAreaLeft" fmla="*/ 41040 w 3961080"/>
              <a:gd name="textAreaRight" fmla="*/ 3920040 w 3961080"/>
              <a:gd name="textAreaTop" fmla="*/ 41040 h 5294520"/>
              <a:gd name="textAreaBottom" fmla="*/ 5253480 h 5294520"/>
            </a:gdLst>
            <a:ahLst/>
            <a:rect l="textAreaLeft" t="textAreaTop" r="textAreaRight" b="textAreaBottom"/>
            <a:pathLst>
              <a:path w="21600" h="28871">
                <a:moveTo>
                  <a:pt x="765" y="0"/>
                </a:moveTo>
                <a:arcTo wR="765" hR="765" stAng="16200000" swAng="-5400000"/>
                <a:lnTo>
                  <a:pt x="0" y="28106"/>
                </a:lnTo>
                <a:arcTo wR="765" hR="765" stAng="10800000" swAng="-5400000"/>
                <a:lnTo>
                  <a:pt x="20835" y="28871"/>
                </a:lnTo>
                <a:arcTo wR="765" hR="765" stAng="5400000" swAng="-5400000"/>
                <a:lnTo>
                  <a:pt x="21600" y="765"/>
                </a:lnTo>
                <a:arcTo wR="765" hR="765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8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9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10AF-E899-42AC-9F1C-6B9D317683BB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4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4A38-2BC9-4008-AF8A-A296B987BFC2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489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3EB1-EAF4-43C9-B3F7-F9943D4D1861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F7F1-CDDE-4FB4-8C83-18789070C44A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89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CD4A-A500-4BC9-95AD-96DB47570F06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13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Rounded Rectangle 7"/>
          <p:cNvGrpSpPr/>
          <p:nvPr/>
        </p:nvGrpSpPr>
        <p:grpSpPr>
          <a:xfrm>
            <a:off x="609480" y="457200"/>
            <a:ext cx="7918560" cy="6029280"/>
            <a:chOff x="609480" y="457200"/>
            <a:chExt cx="7918560" cy="6029280"/>
          </a:xfrm>
        </p:grpSpPr>
        <p:pic>
          <p:nvPicPr>
            <p:cNvPr id="136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609480" y="457200"/>
              <a:ext cx="7918560" cy="602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3"/>
            <p:cNvSpPr/>
            <p:nvPr/>
          </p:nvSpPr>
          <p:spPr>
            <a:xfrm>
              <a:off x="728640" y="530280"/>
              <a:ext cx="768672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7621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5959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2485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6C98-2D7B-4B8E-A8AD-281562FFFCB7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180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38E8-7FF6-48E7-9796-B91C3F31A9E5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22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DF77-1C19-48D6-BD30-2003B423F85F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26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AD60-B35F-4C96-82D5-BE05191BE2EB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31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CB5D-D1B3-4C11-9E2F-0D15A2F1A7C3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35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F6CB-755E-45EE-96D1-94D86458F079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6"/>
          <p:cNvSpPr/>
          <p:nvPr/>
        </p:nvSpPr>
        <p:spPr>
          <a:xfrm>
            <a:off x="611280" y="339480"/>
            <a:ext cx="782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0fdb"/>
                </a:solidFill>
                <a:latin typeface="Arial"/>
              </a:rPr>
              <a:t>Мультимедийная разработка непосредственно образовательной деятельности по разделу «Музы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0fdb"/>
                </a:solidFill>
                <a:latin typeface="Arial"/>
              </a:rPr>
              <a:t>с использованием игр по програм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0fdb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2c0fdb"/>
                </a:solidFill>
                <a:latin typeface="Arial"/>
              </a:rPr>
              <a:t>«Элементарное музицирование» (6- 7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c0fdb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2c0fdb"/>
                </a:solidFill>
                <a:latin typeface="Arial"/>
              </a:rPr>
              <a:t>по теме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«Давайте, поиграем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7" descr="http://bestspictures.ru/img/picture/Jul/21/24bb38ca4b3ad40b84ad5bdd81bacf3d/4.jpg"/>
          <p:cNvPicPr/>
          <p:nvPr/>
        </p:nvPicPr>
        <p:blipFill>
          <a:blip r:embed="rId1"/>
          <a:stretch/>
        </p:blipFill>
        <p:spPr>
          <a:xfrm>
            <a:off x="857160" y="2071800"/>
            <a:ext cx="7786800" cy="4495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785840" y="1000080"/>
            <a:ext cx="382932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«Придумываем и импровизируем» –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на воображение «Нет, не палочки!»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мение фантазировать, придумывать, дать возможность и шанс каждому ребенку выразить себя.</a:t>
            </a:r>
            <a:endParaRPr b="1" lang="en-US" sz="16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28400" y="4000680"/>
            <a:ext cx="3971880" cy="1785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. «Тренируем чувство ритма» -  Ритмическая игра «Раз, два, три, за мною повтори!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звивать ритмический и интонационный слу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5" name="Picture 5" descr="http://infourok.ru/images/doc/236/134232/1/img6.jpg"/>
          <p:cNvPicPr/>
          <p:nvPr/>
        </p:nvPicPr>
        <p:blipFill>
          <a:blip r:embed="rId1"/>
          <a:stretch/>
        </p:blipFill>
        <p:spPr>
          <a:xfrm>
            <a:off x="785880" y="92880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7" descr="http://skuki.net/photos/10974/6d0399.jpg"/>
          <p:cNvPicPr/>
          <p:nvPr/>
        </p:nvPicPr>
        <p:blipFill>
          <a:blip r:embed="rId2"/>
          <a:stretch/>
        </p:blipFill>
        <p:spPr>
          <a:xfrm>
            <a:off x="5000760" y="3500280"/>
            <a:ext cx="3238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428616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. Танец инсценировка «Веселые сапожники» -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их способностей детей, эмоциональности, артистичности, музыкально-ритмических способностей детей , пластики и координации движений в танце</a:t>
            </a:r>
            <a:endParaRPr b="1" lang="en-US" sz="16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000400" y="3642840"/>
            <a:ext cx="3400200" cy="171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marL="438840" indent="-26172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граем в оркестре» – «Итальянская полечка»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знание детей об оркестре,  повторить партии «звучащими жестами», исполнять свою партию в созвучии с другими инструмент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8840" indent="-261720">
              <a:lnSpc>
                <a:spcPct val="100000"/>
              </a:lnSpc>
              <a:spcBef>
                <a:spcPts val="4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Заголовок 1"/>
          <p:cNvSpPr/>
          <p:nvPr/>
        </p:nvSpPr>
        <p:spPr>
          <a:xfrm>
            <a:off x="571680" y="5786280"/>
            <a:ext cx="8001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 занятия -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атия, обратная связь чему мы сегодня науч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7" descr="http://1ds.ucoz.ru/kartinka/foto_40pesnja.jpg"/>
          <p:cNvPicPr/>
          <p:nvPr/>
        </p:nvPicPr>
        <p:blipFill>
          <a:blip r:embed="rId1"/>
          <a:stretch/>
        </p:blipFill>
        <p:spPr>
          <a:xfrm>
            <a:off x="5286240" y="714240"/>
            <a:ext cx="2849760" cy="26067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1" descr="http://i.sinjaja-ptica.ru/u/pic/b4/c28b366bfd11e3b9f75bc4b4853424/-/0_1ba8e_1512356a_XL.jpg"/>
          <p:cNvPicPr/>
          <p:nvPr/>
        </p:nvPicPr>
        <p:blipFill>
          <a:blip r:embed="rId2"/>
          <a:stretch/>
        </p:blipFill>
        <p:spPr>
          <a:xfrm>
            <a:off x="1214280" y="3286080"/>
            <a:ext cx="32864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Заголовок 1" descr=""/>
          <p:cNvPicPr/>
          <p:nvPr/>
        </p:nvPicPr>
        <p:blipFill>
          <a:blip r:embed="rId1"/>
          <a:stretch/>
        </p:blipFill>
        <p:spPr>
          <a:xfrm>
            <a:off x="487440" y="-12600"/>
            <a:ext cx="8254800" cy="950760"/>
          </a:xfrm>
          <a:prstGeom prst="rect">
            <a:avLst/>
          </a:prstGeom>
          <a:ln w="0">
            <a:noFill/>
          </a:ln>
        </p:spPr>
      </p:pic>
      <p:pic>
        <p:nvPicPr>
          <p:cNvPr id="603" name="Содержимое 3" descr=""/>
          <p:cNvPicPr/>
          <p:nvPr/>
        </p:nvPicPr>
        <p:blipFill>
          <a:blip r:embed="rId2"/>
          <a:stretch/>
        </p:blipFill>
        <p:spPr>
          <a:xfrm>
            <a:off x="622440" y="987480"/>
            <a:ext cx="7789680" cy="5516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Заголовок 1" descr=""/>
          <p:cNvPicPr/>
          <p:nvPr/>
        </p:nvPicPr>
        <p:blipFill>
          <a:blip r:embed="rId1"/>
          <a:stretch/>
        </p:blipFill>
        <p:spPr>
          <a:xfrm>
            <a:off x="774720" y="-6967440"/>
            <a:ext cx="7601040" cy="9045360"/>
          </a:xfrm>
          <a:prstGeom prst="rect">
            <a:avLst/>
          </a:prstGeom>
          <a:ln w="0">
            <a:noFill/>
          </a:ln>
        </p:spPr>
      </p:pic>
      <p:grpSp>
        <p:nvGrpSpPr>
          <p:cNvPr id="542" name="Текст 11"/>
          <p:cNvGrpSpPr/>
          <p:nvPr/>
        </p:nvGrpSpPr>
        <p:grpSpPr>
          <a:xfrm>
            <a:off x="4327560" y="2401920"/>
            <a:ext cx="4060800" cy="3627360"/>
            <a:chOff x="4327560" y="2401920"/>
            <a:chExt cx="4060800" cy="3627360"/>
          </a:xfrm>
        </p:grpSpPr>
        <p:pic>
          <p:nvPicPr>
            <p:cNvPr id="543" name="Текст 11" descr=""/>
            <p:cNvPicPr/>
            <p:nvPr/>
          </p:nvPicPr>
          <p:blipFill>
            <a:blip r:embed="rId2"/>
            <a:stretch/>
          </p:blipFill>
          <p:spPr>
            <a:xfrm>
              <a:off x="4327560" y="2401920"/>
              <a:ext cx="4060800" cy="36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 Box 4"/>
            <p:cNvSpPr/>
            <p:nvPr/>
          </p:nvSpPr>
          <p:spPr>
            <a:xfrm>
              <a:off x="4572000" y="2643120"/>
              <a:ext cx="357192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marL="4572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a2d6c"/>
                  </a:solidFill>
                  <a:latin typeface="Times New Roman"/>
                </a:rPr>
                <a:t>Предварительная работа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1" lang="ru-RU" sz="1600" spc="-1" strike="noStrike">
                  <a:solidFill>
                    <a:srgbClr val="2a2d6c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2a2d6c"/>
                  </a:solidFill>
                  <a:latin typeface="Times New Roman"/>
                </a:rPr>
                <a:t>- разучивание русской народной потешки «Божья коровка» , песни «Про сапожника» и  движений к  танцу «Танец сапожников»;</a:t>
              </a:r>
              <a:br>
                <a:rPr sz="1600"/>
              </a:br>
              <a:r>
                <a:rPr b="1" lang="ru-RU" sz="1600" spc="-1" strike="noStrike">
                  <a:solidFill>
                    <a:srgbClr val="2a2d6c"/>
                  </a:solidFill>
                  <a:latin typeface="Times New Roman"/>
                </a:rPr>
                <a:t>-  знакомство со «звучащими жестами»;</a:t>
              </a:r>
              <a:br>
                <a:rPr sz="1600"/>
              </a:br>
              <a:r>
                <a:rPr b="1" lang="ru-RU" sz="1600" spc="-1" strike="noStrike">
                  <a:solidFill>
                    <a:srgbClr val="2a2d6c"/>
                  </a:solidFill>
                  <a:latin typeface="Times New Roman"/>
                </a:rPr>
                <a:t>- разучивание партий инструментов в оркестре;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Текст 11"/>
          <p:cNvGrpSpPr/>
          <p:nvPr/>
        </p:nvGrpSpPr>
        <p:grpSpPr>
          <a:xfrm>
            <a:off x="1042920" y="828720"/>
            <a:ext cx="6985080" cy="1701720"/>
            <a:chOff x="1042920" y="828720"/>
            <a:chExt cx="6985080" cy="1701720"/>
          </a:xfrm>
        </p:grpSpPr>
        <p:pic>
          <p:nvPicPr>
            <p:cNvPr id="546" name="Текст 11" descr=""/>
            <p:cNvPicPr/>
            <p:nvPr/>
          </p:nvPicPr>
          <p:blipFill>
            <a:blip r:embed="rId3"/>
            <a:stretch/>
          </p:blipFill>
          <p:spPr>
            <a:xfrm>
              <a:off x="1042920" y="828720"/>
              <a:ext cx="69850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Text Box 7"/>
            <p:cNvSpPr/>
            <p:nvPr/>
          </p:nvSpPr>
          <p:spPr>
            <a:xfrm>
              <a:off x="1285920" y="1071720"/>
              <a:ext cx="650088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marL="45720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a2d6c"/>
                  </a:solidFill>
                  <a:latin typeface="Times New Roman"/>
                </a:rPr>
                <a:t>Материал к занятию:  </a:t>
              </a:r>
              <a:r>
                <a:rPr b="1" lang="ru-RU" sz="1600" spc="-1" strike="noStrike">
                  <a:solidFill>
                    <a:srgbClr val="2a2d6c"/>
                  </a:solidFill>
                  <a:latin typeface="Times New Roman"/>
                </a:rPr>
                <a:t>шумовые инструменты – бубны, тарелочки, маракасы, треугольники, ксилофоны, рубель, трещетка, блок-тон, деревянные палочки по количеству детей, хрустальные стаканы, листочки шуршащей бумаги, молоточки.</a:t>
              </a:r>
              <a:r>
                <a:rPr b="0" lang="ru-RU" sz="1600" spc="-1" strike="noStrike">
                  <a:solidFill>
                    <a:srgbClr val="2a2d6c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8" name="Рисунок 6" descr="IMGA0852.JPG"/>
          <p:cNvPicPr/>
          <p:nvPr/>
        </p:nvPicPr>
        <p:blipFill>
          <a:blip r:embed="rId4"/>
          <a:stretch/>
        </p:blipFill>
        <p:spPr>
          <a:xfrm>
            <a:off x="774720" y="2706840"/>
            <a:ext cx="3664080" cy="3035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Багетная рамка 6"/>
          <p:cNvGrpSpPr/>
          <p:nvPr/>
        </p:nvGrpSpPr>
        <p:grpSpPr>
          <a:xfrm>
            <a:off x="334800" y="1189080"/>
            <a:ext cx="8480520" cy="2127240"/>
            <a:chOff x="334800" y="1189080"/>
            <a:chExt cx="8480520" cy="2127240"/>
          </a:xfrm>
        </p:grpSpPr>
        <p:pic>
          <p:nvPicPr>
            <p:cNvPr id="550" name="Багетная рамка 6" descr=""/>
            <p:cNvPicPr/>
            <p:nvPr/>
          </p:nvPicPr>
          <p:blipFill>
            <a:blip r:embed="rId1"/>
            <a:stretch/>
          </p:blipFill>
          <p:spPr>
            <a:xfrm>
              <a:off x="334800" y="1189080"/>
              <a:ext cx="848052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 Box 3"/>
            <p:cNvSpPr/>
            <p:nvPr/>
          </p:nvSpPr>
          <p:spPr>
            <a:xfrm>
              <a:off x="776160" y="1633680"/>
              <a:ext cx="759168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ЦЕЛЬ</a:t>
              </a: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Verdana"/>
                </a:rPr>
                <a:t>: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мочь детям дошкольного возраста в музыкально-дидактической игре войти в мир музыки, найти свои собственные формы общения с ней, удовлетворить потребности детей в эмоциональном и двигательном самовыражен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Багетная рамка 7"/>
          <p:cNvGrpSpPr/>
          <p:nvPr/>
        </p:nvGrpSpPr>
        <p:grpSpPr>
          <a:xfrm>
            <a:off x="334800" y="2908440"/>
            <a:ext cx="8480520" cy="3693960"/>
            <a:chOff x="334800" y="2908440"/>
            <a:chExt cx="8480520" cy="3693960"/>
          </a:xfrm>
        </p:grpSpPr>
        <p:pic>
          <p:nvPicPr>
            <p:cNvPr id="553" name="Багетная рамка 7" descr=""/>
            <p:cNvPicPr/>
            <p:nvPr/>
          </p:nvPicPr>
          <p:blipFill>
            <a:blip r:embed="rId2"/>
            <a:stretch/>
          </p:blipFill>
          <p:spPr>
            <a:xfrm>
              <a:off x="334800" y="2908440"/>
              <a:ext cx="8480520" cy="36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Text Box 6"/>
            <p:cNvSpPr/>
            <p:nvPr/>
          </p:nvSpPr>
          <p:spPr>
            <a:xfrm>
              <a:off x="973080" y="3544920"/>
              <a:ext cx="7197840" cy="24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Verdana"/>
                </a:rPr>
                <a:t>ЗАДАЧИ:</a:t>
              </a: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955e00"/>
                </a:buClr>
                <a:buSzPct val="114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Развива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ритмический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интонационный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тембровый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слух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играх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со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словом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и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инструментами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955e00"/>
                </a:buClr>
                <a:buSzPct val="114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Знакомство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со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звучанием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стеклянных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и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бумажных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звуко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955e00"/>
                </a:buClr>
                <a:buSzPct val="114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Формирова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умение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фантазирова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придумыва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комбинирова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речевых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и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двигательных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упражнениях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955e00"/>
                </a:buClr>
                <a:buSzPct val="114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Созда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условия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для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получения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детьми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удовольствия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от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процесса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игры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955e00"/>
                </a:buClr>
                <a:buSzPct val="114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Вовлека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детей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стихийное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музицирование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использованием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пения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звучащих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жесто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музыкальных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инструменто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955e00"/>
                </a:buClr>
                <a:buSzPct val="114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Учи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детей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новым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приемом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исполнения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пения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каноном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955e00"/>
                </a:buClr>
                <a:buSzPct val="114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Да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возможнос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и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шанс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каждому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ребенку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выразит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себя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.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Прямоугольник 9"/>
          <p:cNvSpPr/>
          <p:nvPr/>
        </p:nvSpPr>
        <p:spPr>
          <a:xfrm>
            <a:off x="500040" y="50004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b73"/>
                </a:solidFill>
                <a:latin typeface="Times New Roman"/>
              </a:rPr>
              <a:t>Непосредственно образовательная деятельность по разделу «Музыка» </a:t>
            </a:r>
            <a:br>
              <a:rPr sz="1800"/>
            </a:br>
            <a:r>
              <a:rPr b="1" lang="ru-RU" sz="1800" spc="-1" strike="noStrike">
                <a:solidFill>
                  <a:srgbClr val="171b73"/>
                </a:solidFill>
                <a:latin typeface="Times New Roman"/>
              </a:rPr>
              <a:t>с использованием игр по программе «Элементарное музицирование» по теме: «Давайте поиграем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Заголовок 1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242560" cy="822240"/>
          </a:xfrm>
          <a:prstGeom prst="rect">
            <a:avLst/>
          </a:prstGeom>
          <a:ln w="0">
            <a:noFill/>
          </a:ln>
        </p:spPr>
      </p:pic>
      <p:pic>
        <p:nvPicPr>
          <p:cNvPr id="557" name="Содержимое 5" descr=""/>
          <p:cNvPicPr/>
          <p:nvPr/>
        </p:nvPicPr>
        <p:blipFill>
          <a:blip r:embed="rId2"/>
          <a:stretch/>
        </p:blipFill>
        <p:spPr>
          <a:xfrm>
            <a:off x="493560" y="749160"/>
            <a:ext cx="8296560" cy="5877000"/>
          </a:xfrm>
          <a:prstGeom prst="rect">
            <a:avLst/>
          </a:prstGeom>
          <a:ln w="0">
            <a:noFill/>
          </a:ln>
        </p:spPr>
      </p:pic>
      <p:pic>
        <p:nvPicPr>
          <p:cNvPr id="558" name="Прямоугольник 6" descr=""/>
          <p:cNvPicPr/>
          <p:nvPr/>
        </p:nvPicPr>
        <p:blipFill>
          <a:blip r:embed="rId3"/>
          <a:stretch/>
        </p:blipFill>
        <p:spPr>
          <a:xfrm>
            <a:off x="5541840" y="1542960"/>
            <a:ext cx="320544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Oval 8"/>
          <p:cNvSpPr/>
          <p:nvPr/>
        </p:nvSpPr>
        <p:spPr>
          <a:xfrm>
            <a:off x="3500280" y="2000160"/>
            <a:ext cx="2057400" cy="1257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ар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иц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"/>
          <p:cNvSpPr/>
          <p:nvPr/>
        </p:nvSpPr>
        <p:spPr>
          <a:xfrm>
            <a:off x="6643800" y="3214800"/>
            <a:ext cx="1942920" cy="928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чевое музиц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571680" y="3286080"/>
            <a:ext cx="1928520" cy="928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ровизирова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1214280" y="4500720"/>
            <a:ext cx="1514520" cy="92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6572160" y="4429080"/>
            <a:ext cx="1500120" cy="928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6643800" y="2143080"/>
            <a:ext cx="1928880" cy="928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понта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ровизирова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иза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571680" y="2143080"/>
            <a:ext cx="1885680" cy="928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гра на дет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3000240" y="5000760"/>
            <a:ext cx="1300320" cy="1000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звуч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ов и ска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7"/>
          <p:cNvSpPr/>
          <p:nvPr/>
        </p:nvSpPr>
        <p:spPr>
          <a:xfrm>
            <a:off x="4929120" y="5000760"/>
            <a:ext cx="1285920" cy="1000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том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8"/>
          <p:cNvSpPr/>
          <p:nvPr/>
        </p:nvSpPr>
        <p:spPr>
          <a:xfrm>
            <a:off x="1071720" y="1143000"/>
            <a:ext cx="6972120" cy="690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вить детям первоначальные навыки совместного творческого музицир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9"/>
          <p:cNvSpPr/>
          <p:nvPr/>
        </p:nvSpPr>
        <p:spPr>
          <a:xfrm>
            <a:off x="84960" y="21600"/>
            <a:ext cx="680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виды деятель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занятиях элементарного музиц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0"/>
          <p:cNvSpPr/>
          <p:nvPr/>
        </p:nvSpPr>
        <p:spPr>
          <a:xfrm>
            <a:off x="3701880" y="151560"/>
            <a:ext cx="173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2"/>
          <p:cNvSpPr/>
          <p:nvPr/>
        </p:nvSpPr>
        <p:spPr>
          <a:xfrm>
            <a:off x="4129560" y="654480"/>
            <a:ext cx="8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Стрелка вниз 25"/>
          <p:cNvSpPr/>
          <p:nvPr/>
        </p:nvSpPr>
        <p:spPr>
          <a:xfrm rot="5247600">
            <a:off x="2642760" y="2179440"/>
            <a:ext cx="714240" cy="854280"/>
          </a:xfrm>
          <a:prstGeom prst="downArrow">
            <a:avLst>
              <a:gd name="adj1" fmla="val 22185"/>
              <a:gd name="adj2" fmla="val 42205"/>
            </a:avLst>
          </a:prstGeom>
          <a:solidFill>
            <a:srgbClr val="e0b602"/>
          </a:solidFill>
          <a:ln w="12600">
            <a:solidFill>
              <a:srgbClr val="a48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Стрелка вниз 26"/>
          <p:cNvSpPr/>
          <p:nvPr/>
        </p:nvSpPr>
        <p:spPr>
          <a:xfrm rot="2819400">
            <a:off x="2764800" y="2830320"/>
            <a:ext cx="714240" cy="1035000"/>
          </a:xfrm>
          <a:prstGeom prst="downArrow">
            <a:avLst>
              <a:gd name="adj1" fmla="val 22185"/>
              <a:gd name="adj2" fmla="val 42191"/>
            </a:avLst>
          </a:prstGeom>
          <a:solidFill>
            <a:srgbClr val="e0b602"/>
          </a:solidFill>
          <a:ln w="12600">
            <a:solidFill>
              <a:srgbClr val="a48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Стрелка вниз 27"/>
          <p:cNvSpPr/>
          <p:nvPr/>
        </p:nvSpPr>
        <p:spPr>
          <a:xfrm rot="2300400">
            <a:off x="3198960" y="3157200"/>
            <a:ext cx="714240" cy="1517760"/>
          </a:xfrm>
          <a:prstGeom prst="downArrow">
            <a:avLst>
              <a:gd name="adj1" fmla="val 22185"/>
              <a:gd name="adj2" fmla="val 42195"/>
            </a:avLst>
          </a:prstGeom>
          <a:solidFill>
            <a:srgbClr val="e0b602"/>
          </a:solidFill>
          <a:ln w="12600">
            <a:solidFill>
              <a:srgbClr val="a48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Стрелка вниз 28"/>
          <p:cNvSpPr/>
          <p:nvPr/>
        </p:nvSpPr>
        <p:spPr>
          <a:xfrm rot="877200">
            <a:off x="3885840" y="3405240"/>
            <a:ext cx="714240" cy="1446120"/>
          </a:xfrm>
          <a:prstGeom prst="downArrow">
            <a:avLst>
              <a:gd name="adj1" fmla="val 22185"/>
              <a:gd name="adj2" fmla="val 42190"/>
            </a:avLst>
          </a:prstGeom>
          <a:solidFill>
            <a:srgbClr val="e0b602"/>
          </a:solidFill>
          <a:ln w="12600">
            <a:solidFill>
              <a:srgbClr val="a48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Стрелка вниз 29"/>
          <p:cNvSpPr/>
          <p:nvPr/>
        </p:nvSpPr>
        <p:spPr>
          <a:xfrm rot="20880000">
            <a:off x="4811400" y="3409920"/>
            <a:ext cx="714240" cy="1459080"/>
          </a:xfrm>
          <a:prstGeom prst="downArrow">
            <a:avLst>
              <a:gd name="adj1" fmla="val 22185"/>
              <a:gd name="adj2" fmla="val 42200"/>
            </a:avLst>
          </a:prstGeom>
          <a:solidFill>
            <a:srgbClr val="e0b602"/>
          </a:solidFill>
          <a:ln w="12600">
            <a:solidFill>
              <a:srgbClr val="a48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Стрелка вниз 30"/>
          <p:cNvSpPr/>
          <p:nvPr/>
        </p:nvSpPr>
        <p:spPr>
          <a:xfrm rot="18962400">
            <a:off x="5416560" y="3121200"/>
            <a:ext cx="714240" cy="1565280"/>
          </a:xfrm>
          <a:prstGeom prst="downArrow">
            <a:avLst>
              <a:gd name="adj1" fmla="val 22185"/>
              <a:gd name="adj2" fmla="val 42197"/>
            </a:avLst>
          </a:prstGeom>
          <a:solidFill>
            <a:srgbClr val="e0b602"/>
          </a:solidFill>
          <a:ln w="12600">
            <a:solidFill>
              <a:srgbClr val="a48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Стрелка вниз 31"/>
          <p:cNvSpPr/>
          <p:nvPr/>
        </p:nvSpPr>
        <p:spPr>
          <a:xfrm rot="18115200">
            <a:off x="5662440" y="2772000"/>
            <a:ext cx="714240" cy="1098360"/>
          </a:xfrm>
          <a:prstGeom prst="downArrow">
            <a:avLst>
              <a:gd name="adj1" fmla="val 22185"/>
              <a:gd name="adj2" fmla="val 42190"/>
            </a:avLst>
          </a:prstGeom>
          <a:solidFill>
            <a:srgbClr val="e0b602"/>
          </a:solidFill>
          <a:ln w="12600">
            <a:solidFill>
              <a:srgbClr val="a48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Стрелка вниз 32"/>
          <p:cNvSpPr/>
          <p:nvPr/>
        </p:nvSpPr>
        <p:spPr>
          <a:xfrm rot="16200000">
            <a:off x="5728680" y="2235960"/>
            <a:ext cx="714240" cy="852480"/>
          </a:xfrm>
          <a:prstGeom prst="downArrow">
            <a:avLst>
              <a:gd name="adj1" fmla="val 22185"/>
              <a:gd name="adj2" fmla="val 42194"/>
            </a:avLst>
          </a:prstGeom>
          <a:solidFill>
            <a:srgbClr val="e0b602"/>
          </a:solidFill>
          <a:ln w="12600">
            <a:solidFill>
              <a:srgbClr val="a48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Текст 11" descr=""/>
          <p:cNvPicPr/>
          <p:nvPr/>
        </p:nvPicPr>
        <p:blipFill>
          <a:blip r:embed="rId1"/>
          <a:stretch/>
        </p:blipFill>
        <p:spPr>
          <a:xfrm>
            <a:off x="1785960" y="3000240"/>
            <a:ext cx="5857920" cy="3273480"/>
          </a:xfrm>
          <a:prstGeom prst="rect">
            <a:avLst/>
          </a:prstGeom>
          <a:ln w="0">
            <a:noFill/>
          </a:ln>
        </p:spPr>
      </p:pic>
      <p:pic>
        <p:nvPicPr>
          <p:cNvPr id="581" name="Текст 11" descr=""/>
          <p:cNvPicPr/>
          <p:nvPr/>
        </p:nvPicPr>
        <p:blipFill>
          <a:blip r:embed="rId2"/>
          <a:stretch/>
        </p:blipFill>
        <p:spPr>
          <a:xfrm>
            <a:off x="615960" y="255600"/>
            <a:ext cx="8131320" cy="2633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Заголовок 1" descr=""/>
          <p:cNvPicPr/>
          <p:nvPr/>
        </p:nvPicPr>
        <p:blipFill>
          <a:blip r:embed="rId1"/>
          <a:stretch/>
        </p:blipFill>
        <p:spPr>
          <a:xfrm>
            <a:off x="420840" y="328680"/>
            <a:ext cx="8242200" cy="750960"/>
          </a:xfrm>
          <a:prstGeom prst="rect">
            <a:avLst/>
          </a:prstGeom>
          <a:ln w="0">
            <a:noFill/>
          </a:ln>
        </p:spPr>
      </p:pic>
      <p:grpSp>
        <p:nvGrpSpPr>
          <p:cNvPr id="583" name="Текст 11"/>
          <p:cNvGrpSpPr/>
          <p:nvPr/>
        </p:nvGrpSpPr>
        <p:grpSpPr>
          <a:xfrm>
            <a:off x="1071720" y="1000080"/>
            <a:ext cx="7071840" cy="5205600"/>
            <a:chOff x="1071720" y="1000080"/>
            <a:chExt cx="7071840" cy="5205600"/>
          </a:xfrm>
        </p:grpSpPr>
        <p:pic>
          <p:nvPicPr>
            <p:cNvPr id="584" name="Текст 11" descr=""/>
            <p:cNvPicPr/>
            <p:nvPr/>
          </p:nvPicPr>
          <p:blipFill>
            <a:blip r:embed="rId2"/>
            <a:stretch/>
          </p:blipFill>
          <p:spPr>
            <a:xfrm>
              <a:off x="1071720" y="1000080"/>
              <a:ext cx="7071840" cy="520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4"/>
            <p:cNvSpPr/>
            <p:nvPr/>
          </p:nvSpPr>
          <p:spPr>
            <a:xfrm>
              <a:off x="1384920" y="1246320"/>
              <a:ext cx="6445440" cy="47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Verdana"/>
                </a:rPr>
                <a:t>Структура НОД определена исходя из поставленных целей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Verdana"/>
                </a:rPr>
                <a:t>Представлена   восемью   частями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Verdana"/>
                </a:rPr>
                <a:t>: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I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.Организационная часть </a:t>
              </a: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– 1 мину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II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. Веселая  разминка –</a:t>
              </a: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 3 мину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III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.Игра «Прыг-скок» – речевое музицирование </a:t>
              </a: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–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3 мину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IV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.Песенка «Шаловливые сосульки» –игра импровизация </a:t>
              </a: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–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 </a:t>
              </a: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6 мину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V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.Поем каноном - попевка «Божья коровка» –</a:t>
              </a: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4 мину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VI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.Игра на воображение «Нет, не палочки!» </a:t>
              </a: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2 мину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VII. 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Ритмическая игра «Раз, два, три, за мною повтори!»  </a:t>
              </a: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 2 минут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VIII. 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Танец инсценировка «Веселые сапожники» -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4 мину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IX. 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Играем в оркестре «Итальянская полечка»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4 мину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X. 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Итог занятия - </a:t>
              </a:r>
              <a:r>
                <a:rPr b="0" lang="ru-RU" sz="1600" spc="-1" strike="noStrike">
                  <a:solidFill>
                    <a:srgbClr val="ff0000"/>
                  </a:solidFill>
                  <a:latin typeface="Georgia"/>
                  <a:ea typeface="Verdana"/>
                </a:rPr>
                <a:t>1 минута</a:t>
              </a:r>
              <a:r>
                <a:rPr b="0" lang="ru-RU" sz="1600" spc="-1" strike="noStrike">
                  <a:solidFill>
                    <a:srgbClr val="000000"/>
                  </a:solidFill>
                  <a:latin typeface="Georgia"/>
                  <a:ea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42876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узыкально-ритмические движен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селая разминка»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авливают детей к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нтанным  двигательным упражнениям, учат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изображать звуки и настроения с помощью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арных движений, при этом у дете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атывается быстрота реакции, умение ждать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ь момент вступл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ечевое музицирование с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омпониментом звучащих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ов- упражнение «Прыг-скок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упражнения важны, потому что  музыкальны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х  развивается в тесной связи со слуховы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349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7" name="Picture 4" descr="http://www.filmaalten.nl/img/nieuws/29398_groot.jpg"/>
          <p:cNvPicPr/>
          <p:nvPr/>
        </p:nvPicPr>
        <p:blipFill>
          <a:blip r:embed="rId1"/>
          <a:stretch/>
        </p:blipFill>
        <p:spPr>
          <a:xfrm>
            <a:off x="785880" y="1143000"/>
            <a:ext cx="3286080" cy="24354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6" descr="http://boombob.ru/img/picture/Oct/14/9524e3bf90f0e4e100cf97037e46d6ef/5.jpg"/>
          <p:cNvPicPr/>
          <p:nvPr/>
        </p:nvPicPr>
        <p:blipFill>
          <a:blip r:embed="rId2"/>
          <a:stretch/>
        </p:blipFill>
        <p:spPr>
          <a:xfrm>
            <a:off x="4643280" y="3714840"/>
            <a:ext cx="4000680" cy="2500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404352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Импровизация и озвучивание» -песенка «Шаловливые сосульки» </a:t>
            </a:r>
            <a:r>
              <a:rPr b="0" lang="ru-RU" sz="1600" spc="-1" strike="noStrike">
                <a:solidFill>
                  <a:srgbClr val="171b73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ическое музицирование с использованием «хрустального оркестра» - разучивание песенки с озвучиванием «хрустального оркестра» помогает детям ощутить красоту звучания поэзии и музыки. Дети осознают связь музыки и слова и легко запоминают текс песенки. </a:t>
            </a:r>
            <a:br>
              <a:rPr sz="1600"/>
            </a:br>
            <a:endParaRPr b="1" lang="en-US" sz="16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929120" y="3571560"/>
            <a:ext cx="3371760" cy="2685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Поем каноном» – попевка «Божья коровка»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детей с новым приемом  исполнения  пения. Учить петь двухголосьем и слышать красоту звуч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spcBef>
                <a:spcPts val="4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1" name="Picture 5" descr="http://pgr-ds4.sch.b-edu.ru/files/4000764.jpg"/>
          <p:cNvPicPr/>
          <p:nvPr/>
        </p:nvPicPr>
        <p:blipFill>
          <a:blip r:embed="rId1"/>
          <a:srcRect l="4540" t="0" r="4640" b="6248"/>
          <a:stretch/>
        </p:blipFill>
        <p:spPr>
          <a:xfrm>
            <a:off x="5214960" y="10000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9" descr="http://merkaba-kirov.ru/wp-content/uploads/6.jpg"/>
          <p:cNvPicPr/>
          <p:nvPr/>
        </p:nvPicPr>
        <p:blipFill>
          <a:blip r:embed="rId2"/>
          <a:stretch/>
        </p:blipFill>
        <p:spPr>
          <a:xfrm>
            <a:off x="928800" y="3357720"/>
            <a:ext cx="36432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8T07:45:09Z</dcterms:created>
  <dc:creator>Andry</dc:creator>
  <dc:description/>
  <dc:language>en-US</dc:language>
  <cp:lastModifiedBy>Алла</cp:lastModifiedBy>
  <dcterms:modified xsi:type="dcterms:W3CDTF">2017-08-23T16:50:33Z</dcterms:modified>
  <cp:revision>25</cp:revision>
  <dc:subject/>
  <dc:title>Слайд 1</dc:title>
</cp:coreProperties>
</file>