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2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5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D398-4AE4-4EC5-BABC-C4AF4F3B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9862-2FAE-4E7D-BC3E-AE0124D1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B07-1969-4C6C-B10A-969D857B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8E65-D1FE-45CA-BA8F-30CC6308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8E2A-2A4C-41C3-97AD-846F0EEA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F158-3630-4ED1-91EE-B55642F2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16AC-3FE2-457B-8409-54033682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C5F3-74B8-45EA-B2D5-CE6D2D63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A188-EFF5-452E-B8EB-4C8EA87A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E6A5-FB10-4534-BB85-0B46AE95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EBB5-078C-43C4-B120-8A46DDDA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4E0-BA49-4DBD-8093-AE0329E8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2417-E281-46B6-886E-34322231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0A46-1F0F-464F-A41D-6BBC126E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43CD-9A63-449C-81AA-6C42FD88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705D-8809-4DA1-A2AD-1D54B704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50F8-4555-4790-9109-C2542DDD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EF8B1-AB66-4262-BE6B-62EF41CE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D00EF-489A-476D-8072-82329A88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84C84-80C4-4477-8499-B0DAE302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E65DB-B06B-4556-9241-0630D73F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9F087-734F-43CE-8121-530F0C13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6036-DDB6-40DF-85F2-99C816D0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BC44A-F98E-41B5-88BF-200FBD73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B2E00-6F5C-4EE1-9731-B1A8800C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CE07D-44D1-4287-B26D-EFC80AC2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DA9E2-E5BB-40F8-A0EE-B077F206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84F66-5625-48FC-BDA2-66F0377F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F43F9-1D8B-4468-ABB4-73B2C27C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3CB97-6903-4CFB-9826-4341CB5B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479E8-C0DD-4AB7-B015-CF9C83A7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AFE16-652D-46C4-B0D8-4542162B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9F0BA-25AD-4683-A384-8B0ED6B2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90A9-8E17-4280-95BB-F6863E58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BA523-77CB-40B9-A7C0-B0195A3A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567FE-89C8-4581-9558-F311FF8B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DC4C4-810F-4A48-AF60-67BE3E01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AAC85-4C3E-4B6D-9683-371F026D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6C6E1-E1AA-42FC-A2FF-26981E25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3F42C-B9E3-4DA8-BF2F-D2099D4B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592CE-A61B-48FC-9F39-2E81421B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2A1F2-DA98-43C6-ABC2-9BF45541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25F4B-4BFF-42C9-B2E7-392789C2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1AC6-B631-418C-85C6-E682E187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131-7E76-4AD1-94D7-1C6AF634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382-ECF3-45DF-8B2D-D5A46734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AB0-33F6-48D8-A8A3-C32EC399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63E7-88C3-4EF8-ADA4-4CA0AF5E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DB4D-0A4A-4F98-91FA-D688A2E1260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67B0-F85D-4E1B-8E9F-318A5162D43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C996-7CD4-4D8C-BE51-C191E1A26CD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4558-FAEF-41E6-905C-F59EA980EE2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9.gif"/><Relationship Id="rId3" Type="http://schemas.openxmlformats.org/officeDocument/2006/relationships/image" Target="../media/image7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76440" y="1695600"/>
            <a:ext cx="7785000" cy="2584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618920" y="4941360"/>
            <a:ext cx="4753080" cy="1560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втор:  Безяева Виктор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БОУ СОШ №46    1 «А» клас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. Хабаровск   2016-2017 г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7" descr="ptisa050"/>
          <p:cNvPicPr/>
          <p:nvPr/>
        </p:nvPicPr>
        <p:blipFill>
          <a:blip r:embed="rId2"/>
          <a:stretch/>
        </p:blipFill>
        <p:spPr>
          <a:xfrm>
            <a:off x="468360" y="549360"/>
            <a:ext cx="1174680" cy="107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5" descr="b29"/>
          <p:cNvPicPr/>
          <p:nvPr/>
        </p:nvPicPr>
        <p:blipFill>
          <a:blip r:embed="rId3"/>
          <a:stretch/>
        </p:blipFill>
        <p:spPr>
          <a:xfrm>
            <a:off x="7164360" y="5084640"/>
            <a:ext cx="1558800" cy="135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45 0.02521 C 0.16129 0.06705 0.25729 0.1089 0.37031 0.1607 C 0.48333 0.21249 0.69202 0.27584 0.74323 0.33596 C 0.79445 0.39607 0.68924 0.48833 0.67813 0.52208 C 0.66702 0.55584 0.6717 0.54729 0.67656 0.53896 E">
                                      <p:cBhvr>
                                        <p:cTn id="23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99640" y="980640"/>
            <a:ext cx="75596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Мысли вслух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Юный художник» – это  один из кружков, которые я посещаю после уроков - моя внеурочная деятельнос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изостудию  я хожу первый год и мне очень нравить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 все получалось сразу, но самые удачные работы участвовали в разных конкурс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исунками  я  украсила  свою комнату, они поднимают  настроение мне и радуют мам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воими  достижениями я хочу поделиться и с вами – порадуйтесь вместе со мн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7" descr="c02"/>
          <p:cNvPicPr/>
          <p:nvPr/>
        </p:nvPicPr>
        <p:blipFill>
          <a:blip r:embed="rId1"/>
          <a:stretch/>
        </p:blipFill>
        <p:spPr>
          <a:xfrm flipH="1">
            <a:off x="7020000" y="5157720"/>
            <a:ext cx="1620720" cy="1392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5" descr="b29"/>
          <p:cNvPicPr/>
          <p:nvPr/>
        </p:nvPicPr>
        <p:blipFill>
          <a:blip r:embed="rId2"/>
          <a:stretch/>
        </p:blipFill>
        <p:spPr>
          <a:xfrm>
            <a:off x="6443640" y="5732640"/>
            <a:ext cx="898560" cy="7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24360" y="836640"/>
            <a:ext cx="273528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«Неизведанные дали»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Picture 2" descr="C:\Users\Admin\Desktop\ШЕВЧУК\1 ФОТО_ Детское ТВОРЧЕСТВО\Кружок 2016-17\ЦРМИ_2017\P1040262.JPG"/>
          <p:cNvPicPr/>
          <p:nvPr/>
        </p:nvPicPr>
        <p:blipFill>
          <a:blip r:embed="rId1"/>
          <a:stretch/>
        </p:blipFill>
        <p:spPr>
          <a:xfrm>
            <a:off x="641520" y="1268280"/>
            <a:ext cx="3889080" cy="5185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Users\Admin\Desktop\ШЕВЧУК\ГРАМОТЫ 2013-14-15-16- 17\2017_ЦРМИ_май\1 место  Безяева Виктория_1А.jpg"/>
          <p:cNvPicPr/>
          <p:nvPr/>
        </p:nvPicPr>
        <p:blipFill>
          <a:blip r:embed="rId2"/>
          <a:stretch/>
        </p:blipFill>
        <p:spPr>
          <a:xfrm>
            <a:off x="5508720" y="1989000"/>
            <a:ext cx="3213000" cy="452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4537080" cy="849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«Морской пейзаж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3" descr="C:\Users\Admin\Desktop\БИНАРЫ _Дипломы\Грамоты_Дети\Безяева Виктория.jpg"/>
          <p:cNvPicPr/>
          <p:nvPr/>
        </p:nvPicPr>
        <p:blipFill>
          <a:blip r:embed="rId1"/>
          <a:stretch/>
        </p:blipFill>
        <p:spPr>
          <a:xfrm>
            <a:off x="630360" y="1557360"/>
            <a:ext cx="3431880" cy="4797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Admin\Desktop\ШЕВЧУК\1 ФОТО_ Детское ТВОРЧЕСТВО\Кружок 2016-17\ЦРМИ_2017\Безяева Вика_1 А.JPG"/>
          <p:cNvPicPr/>
          <p:nvPr/>
        </p:nvPicPr>
        <p:blipFill>
          <a:blip r:embed="rId2"/>
          <a:stretch/>
        </p:blipFill>
        <p:spPr>
          <a:xfrm>
            <a:off x="4932360" y="1197000"/>
            <a:ext cx="3745080" cy="51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42465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«И снова будет 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Новый год!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3" descr="C:\Users\Admin\Desktop\ШЕВЧУК\ГРАМОТЫ 2013-14-15-16- 17\2017_ЦРМИ_янв\Безяева_ 1место.jpg"/>
          <p:cNvPicPr/>
          <p:nvPr/>
        </p:nvPicPr>
        <p:blipFill>
          <a:blip r:embed="rId1"/>
          <a:stretch/>
        </p:blipFill>
        <p:spPr>
          <a:xfrm>
            <a:off x="611280" y="2060640"/>
            <a:ext cx="3213000" cy="452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Users\Admin\Desktop\ШЕВЧУК\1 ФОТО_ Детское ТВОРЧЕСТВО\Кружок 2016-17\ЦРМИ_2017\P1040055.JPG"/>
          <p:cNvPicPr/>
          <p:nvPr/>
        </p:nvPicPr>
        <p:blipFill>
          <a:blip r:embed="rId2"/>
          <a:stretch/>
        </p:blipFill>
        <p:spPr>
          <a:xfrm>
            <a:off x="4559400" y="1268280"/>
            <a:ext cx="4013280" cy="526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86920" y="5157720"/>
            <a:ext cx="3816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«Была метель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2" descr="C:\Users\Admin\Desktop\ШЕВЧУК\ГРАМОТЫ 2013-14-15-16- 17\2017_ЦРМИ_март\1а_Безяева.jpg"/>
          <p:cNvPicPr/>
          <p:nvPr/>
        </p:nvPicPr>
        <p:blipFill>
          <a:blip r:embed="rId1"/>
          <a:stretch/>
        </p:blipFill>
        <p:spPr>
          <a:xfrm>
            <a:off x="5724360" y="1557360"/>
            <a:ext cx="3146760" cy="4433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C:\Users\Admin\Desktop\ШЕВЧУК\1 ФОТО_ Детское ТВОРЧЕСТВО\Кружок 2016-17\ЦРМИ_2017\P104_Безяева.JPG"/>
          <p:cNvPicPr/>
          <p:nvPr/>
        </p:nvPicPr>
        <p:blipFill>
          <a:blip r:embed="rId2"/>
          <a:stretch/>
        </p:blipFill>
        <p:spPr>
          <a:xfrm>
            <a:off x="395280" y="1557360"/>
            <a:ext cx="5111640" cy="35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1640" y="5373360"/>
            <a:ext cx="309564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«Птица счастья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2" descr="C:\Users\Admin\Desktop\ШЕВЧУК\1 ФОТО_ Детское ТВОРЧЕСТВО\Кружок 2016-17\ЦРМИ_2017\ptitsa schastya.JPG"/>
          <p:cNvPicPr/>
          <p:nvPr/>
        </p:nvPicPr>
        <p:blipFill>
          <a:blip r:embed="rId1"/>
          <a:stretch/>
        </p:blipFill>
        <p:spPr>
          <a:xfrm>
            <a:off x="3924360" y="1628640"/>
            <a:ext cx="4824360" cy="3436920"/>
          </a:xfrm>
          <a:prstGeom prst="rect">
            <a:avLst/>
          </a:prstGeom>
          <a:ln w="0">
            <a:noFill/>
          </a:ln>
        </p:spPr>
      </p:pic>
      <p:pic>
        <p:nvPicPr>
          <p:cNvPr id="217" name="Содержимое 4" descr="C:\Users\Admin\Desktop\БИНАРЫ _Дипломы\Грамоты_Дети\Вика Безяева.png"/>
          <p:cNvPicPr/>
          <p:nvPr/>
        </p:nvPicPr>
        <p:blipFill>
          <a:blip r:embed="rId2"/>
          <a:stretch/>
        </p:blipFill>
        <p:spPr>
          <a:xfrm>
            <a:off x="395280" y="1628640"/>
            <a:ext cx="3279960" cy="47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Users\Admin\Desktop\ШЕВЧУК\1 ФОТО_ Детское ТВОРЧЕСТВО\Кружок 2016-17\ЦРМИ_2017\ptitsa schastya.JPG"/>
          <p:cNvPicPr/>
          <p:nvPr/>
        </p:nvPicPr>
        <p:blipFill>
          <a:blip r:embed="rId1"/>
          <a:stretch/>
        </p:blipFill>
        <p:spPr>
          <a:xfrm>
            <a:off x="264960" y="4221000"/>
            <a:ext cx="3265560" cy="2329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C:\Users\Admin\Desktop\ШЕВЧУК\1 ФОТО_ Детское ТВОРЧЕСТВО\Кружок 2016-17\ЦРМИ_2017\morskoy peyzazh.JPG"/>
          <p:cNvPicPr/>
          <p:nvPr/>
        </p:nvPicPr>
        <p:blipFill>
          <a:blip r:embed="rId2"/>
          <a:stretch/>
        </p:blipFill>
        <p:spPr>
          <a:xfrm>
            <a:off x="5364000" y="4005360"/>
            <a:ext cx="3600720" cy="26478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5832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оя персональная выставк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2" descr="C:\Users\Admin\Desktop\ШЕВЧУК\1 ФОТО_ Детское ТВОРЧЕСТВО\Кружок 2016-17\ЦРМИ_2017\P104_Безяева.JPG"/>
          <p:cNvPicPr/>
          <p:nvPr/>
        </p:nvPicPr>
        <p:blipFill>
          <a:blip r:embed="rId3"/>
          <a:stretch/>
        </p:blipFill>
        <p:spPr>
          <a:xfrm>
            <a:off x="250920" y="1341360"/>
            <a:ext cx="3390840" cy="2374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Users\Admin\Desktop\ШЕВЧУК\1 ФОТО_ Детское ТВОРЧЕСТВО\Кружок 2016-17\ЦРМИ_2017\P1040046_Вика.JPG"/>
          <p:cNvPicPr/>
          <p:nvPr/>
        </p:nvPicPr>
        <p:blipFill>
          <a:blip r:embed="rId4"/>
          <a:stretch/>
        </p:blipFill>
        <p:spPr>
          <a:xfrm>
            <a:off x="3419640" y="2565360"/>
            <a:ext cx="2304720" cy="3247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C:\Users\Admin\Desktop\ШЕВЧУК\1 ФОТО_ Детское ТВОРЧЕСТВО\Кружок 2016-17\ЦРМИ_2017\Безяева Вика 1А.JPG"/>
          <p:cNvPicPr/>
          <p:nvPr/>
        </p:nvPicPr>
        <p:blipFill>
          <a:blip r:embed="rId5"/>
          <a:stretch/>
        </p:blipFill>
        <p:spPr>
          <a:xfrm>
            <a:off x="5724360" y="1268280"/>
            <a:ext cx="32086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98440" y="2219400"/>
            <a:ext cx="7686720" cy="19922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7" descr="c02"/>
          <p:cNvPicPr/>
          <p:nvPr/>
        </p:nvPicPr>
        <p:blipFill>
          <a:blip r:embed="rId2"/>
          <a:stretch/>
        </p:blipFill>
        <p:spPr>
          <a:xfrm flipH="1">
            <a:off x="6227280" y="4351320"/>
            <a:ext cx="2592360" cy="2228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7" descr="ptisa050"/>
          <p:cNvPicPr/>
          <p:nvPr/>
        </p:nvPicPr>
        <p:blipFill>
          <a:blip r:embed="rId3"/>
          <a:stretch/>
        </p:blipFill>
        <p:spPr>
          <a:xfrm>
            <a:off x="539640" y="836640"/>
            <a:ext cx="1024200" cy="1006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B_Fly07"/>
          <p:cNvPicPr/>
          <p:nvPr/>
        </p:nvPicPr>
        <p:blipFill>
          <a:blip r:embed="rId4"/>
          <a:stretch/>
        </p:blipFill>
        <p:spPr>
          <a:xfrm>
            <a:off x="5003640" y="5229360"/>
            <a:ext cx="1440000" cy="12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8.67052E-007 C 0.08142 -0.00393 0.16285 -0.00763 0.27309 0.01272 C 0.38333 0.03306 0.62309 0.08463 0.66198 0.12254 C 0.70087 0.16046 0.49236 0.21249 0.50642 0.24093 C 0.52049 0.26937 0.63333 0.28162 0.74618 0.29387 E">
                                      <p:cBhvr>
                                        <p:cTn id="73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9:59:16Z</dcterms:created>
  <dc:creator>GEG</dc:creator>
  <dc:description/>
  <dc:language>en-US</dc:language>
  <cp:lastModifiedBy>Admin</cp:lastModifiedBy>
  <dcterms:modified xsi:type="dcterms:W3CDTF">2017-08-26T11:44:50Z</dcterms:modified>
  <cp:revision>49</cp:revision>
  <dc:subject/>
  <dc:title>Çèìíèé äâîðåö             ÝÐÌÈÒ˜ÀÆ â Ñàíêò-Ïåòåðáóðãå (îò ôðàíö. ermitage — ìåñòî óåäèíåíèÿ), îäèí èç êðóïíåéøèõ â ìèðå õóäîæåñòâåííûõ è êóëüòóðíî-èñòîðè÷åñêèõ ìóçååâ. Âîçíèê â 1764 êàê ÷àñòíîå ñîáðàíèå Åêàòåðèíû II, îòêðûò äëÿ ïóáëèêè â 1852.</dc:title>
</cp:coreProperties>
</file>