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B4F-3C1C-4585-8B3C-B237C2CE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C14-9A3E-49A1-805E-0CA9DE1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C55-0E68-4002-9960-56E04607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B5D-3F74-4087-A547-EF642D02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2CCF-3941-4B97-B449-A5581C34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B1B7-7C83-49EE-8CD9-42CEC9A5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51A6-8732-48EF-92F1-64DC5777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62F7-2FDB-41C2-AB13-20C3B72F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E02F-5EAD-44D7-86F3-BB84377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A4E4-6F10-4219-8A2C-801ADDEF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C1FE-A121-4229-A308-3BED60AE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9F8-54DB-4D6A-B545-5865633F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AFCD-BFC2-4C20-B173-B6D27CB5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7B72-BA51-496D-9C8A-32DA391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AA5B-540B-4F7E-AEE5-5FE1468B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B4D8-A406-4B95-BF9E-BBE05015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615A-4B3C-4A94-A0E7-2BC91383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863F-A41B-40B6-AC94-9103ED04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9B4E-6DD0-46DE-A329-46CD665B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C00ED-DAE4-4A7C-AC40-570BE31E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03BD-37C8-4BD7-9F4F-834553C2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207D-140A-472C-BF39-92685B69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BDC-F825-4F67-91C2-B430D31F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8042-B550-4AB7-A37A-67E58308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49F5-0775-497B-BADA-C42BDBBF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FF08-CACC-498A-BD0E-DEC99D35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82AE-D780-429A-857B-D6006A0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1E05-0134-4267-8F1C-5FD3B51F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85EF-6B30-436B-B5C6-0E28A130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8448-8C3B-4770-A5C0-901FC986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C07B-2FB2-4916-8E0C-7E6A7DDA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D5151-AD4B-479F-B1EE-9C3AD8B9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72E0-54FC-450D-88F1-91876FE2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CB8-A2FF-488A-B36D-26789628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3144-D6F2-49C3-BDCA-2E63FBA2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5E79-5908-478B-971C-3BE8CFC5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8CB4-55AB-485E-A908-AEFBB5F5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E5A2-4C20-4491-A164-AD372663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9C006-344A-4AB6-9DFF-9ECF0E7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D7BD3-7F78-4FFA-99C0-0332524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7A38-7697-41CB-8479-088F9594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5536-8647-4ED3-85EF-D67EC840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8AEC-C235-444B-BD8E-6E826EB4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CD6-CECA-4DC1-A6BF-A37BEA49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CC6-69C0-4D33-A394-A36A4344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310-9E34-477D-8C84-E8BCE941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B48-19F8-440E-B166-146917C2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77E-AD06-4455-96D1-8F47D8A2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A478-3B9E-474D-92CF-0E7D917D581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DA2A-D954-4312-B839-0E94268F28A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75EE-0AB9-4479-B32C-F887427F42B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9DB3-F194-45F2-9B7D-CA23E2A2C32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76440" y="1695600"/>
            <a:ext cx="7785000" cy="2584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618920" y="4941360"/>
            <a:ext cx="4753080" cy="1560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втор:  Безяева Виктор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БОУ СОШ №46    1 «А»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. Хабаровск   2016-2017 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7" descr="ptisa050"/>
          <p:cNvPicPr/>
          <p:nvPr/>
        </p:nvPicPr>
        <p:blipFill>
          <a:blip r:embed="rId2"/>
          <a:stretch/>
        </p:blipFill>
        <p:spPr>
          <a:xfrm>
            <a:off x="468360" y="549360"/>
            <a:ext cx="1174680" cy="107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5" descr="b29"/>
          <p:cNvPicPr/>
          <p:nvPr/>
        </p:nvPicPr>
        <p:blipFill>
          <a:blip r:embed="rId3"/>
          <a:stretch/>
        </p:blipFill>
        <p:spPr>
          <a:xfrm>
            <a:off x="7164360" y="5084640"/>
            <a:ext cx="1558800" cy="13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0.02521 C 0.16129 0.06705 0.25729 0.1089 0.37031 0.1607 C 0.48333 0.21249 0.69202 0.27584 0.74323 0.33596 C 0.79445 0.39607 0.68924 0.48833 0.67813 0.52208 C 0.66702 0.55584 0.6717 0.54729 0.67656 0.53896 E">
                                      <p:cBhvr>
                                        <p:cTn id="2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ысли вслух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Юный художник» – это  один из кружков, которые я посещаю после уроков - моя внеурочная деятель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изостудию  я хожу первый год и мне очень нравить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се получалось сразу, но самые удачные работы участвовали в разных конкурс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исунками  я  украсила  свою комнату, они поднимают  настроение мне и радуют ма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ими  достижениями я хочу поделиться и с вами – порадуйтесь вместе со мн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7" descr="c02"/>
          <p:cNvPicPr/>
          <p:nvPr/>
        </p:nvPicPr>
        <p:blipFill>
          <a:blip r:embed="rId1"/>
          <a:stretch/>
        </p:blipFill>
        <p:spPr>
          <a:xfrm flipH="1">
            <a:off x="7020000" y="5157720"/>
            <a:ext cx="1620720" cy="1392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5" descr="b29"/>
          <p:cNvPicPr/>
          <p:nvPr/>
        </p:nvPicPr>
        <p:blipFill>
          <a:blip r:embed="rId2"/>
          <a:stretch/>
        </p:blipFill>
        <p:spPr>
          <a:xfrm>
            <a:off x="6443640" y="5732640"/>
            <a:ext cx="898560" cy="7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24360" y="836640"/>
            <a:ext cx="273528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«Неизведанные дали»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2" descr="C:\Users\Admin\Desktop\ШЕВЧУК\1 ФОТО_ Детское ТВОРЧЕСТВО\Кружок 2016-17\ЦРМИ_2017\P1040262.JPG"/>
          <p:cNvPicPr/>
          <p:nvPr/>
        </p:nvPicPr>
        <p:blipFill>
          <a:blip r:embed="rId1"/>
          <a:stretch/>
        </p:blipFill>
        <p:spPr>
          <a:xfrm>
            <a:off x="641520" y="1268280"/>
            <a:ext cx="3889080" cy="518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Users\Admin\Desktop\ШЕВЧУК\ГРАМОТЫ 2013-14-15-16- 17\2017_ЦРМИ_май\1 место  Безяева Виктория_1А.jpg"/>
          <p:cNvPicPr/>
          <p:nvPr/>
        </p:nvPicPr>
        <p:blipFill>
          <a:blip r:embed="rId2"/>
          <a:stretch/>
        </p:blipFill>
        <p:spPr>
          <a:xfrm>
            <a:off x="5508720" y="1989000"/>
            <a:ext cx="3213000" cy="452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4537080" cy="849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Морской пейзаж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3" descr="C:\Users\Admin\Desktop\БИНАРЫ _Дипломы\Грамоты_Дети\Безяева Виктория.jpg"/>
          <p:cNvPicPr/>
          <p:nvPr/>
        </p:nvPicPr>
        <p:blipFill>
          <a:blip r:embed="rId1"/>
          <a:stretch/>
        </p:blipFill>
        <p:spPr>
          <a:xfrm>
            <a:off x="630360" y="1557360"/>
            <a:ext cx="3431880" cy="4797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\Desktop\ШЕВЧУК\1 ФОТО_ Детское ТВОРЧЕСТВО\Кружок 2016-17\ЦРМИ_2017\Безяева Вика_1 А.JPG"/>
          <p:cNvPicPr/>
          <p:nvPr/>
        </p:nvPicPr>
        <p:blipFill>
          <a:blip r:embed="rId2"/>
          <a:stretch/>
        </p:blipFill>
        <p:spPr>
          <a:xfrm>
            <a:off x="4932360" y="1197000"/>
            <a:ext cx="374508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42465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И снова будет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овый год!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3" descr="C:\Users\Admin\Desktop\ШЕВЧУК\ГРАМОТЫ 2013-14-15-16- 17\2017_ЦРМИ_янв\Безяева_ 1место.jpg"/>
          <p:cNvPicPr/>
          <p:nvPr/>
        </p:nvPicPr>
        <p:blipFill>
          <a:blip r:embed="rId1"/>
          <a:stretch/>
        </p:blipFill>
        <p:spPr>
          <a:xfrm>
            <a:off x="611280" y="2060640"/>
            <a:ext cx="32130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Admin\Desktop\ШЕВЧУК\1 ФОТО_ Детское ТВОРЧЕСТВО\Кружок 2016-17\ЦРМИ_2017\P1040055.JPG"/>
          <p:cNvPicPr/>
          <p:nvPr/>
        </p:nvPicPr>
        <p:blipFill>
          <a:blip r:embed="rId2"/>
          <a:stretch/>
        </p:blipFill>
        <p:spPr>
          <a:xfrm>
            <a:off x="4559400" y="1268280"/>
            <a:ext cx="4013280" cy="52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6920" y="5157720"/>
            <a:ext cx="3816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Была метель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C:\Users\Admin\Desktop\ШЕВЧУК\ГРАМОТЫ 2013-14-15-16- 17\2017_ЦРМИ_март\1а_Безяева.jpg"/>
          <p:cNvPicPr/>
          <p:nvPr/>
        </p:nvPicPr>
        <p:blipFill>
          <a:blip r:embed="rId1"/>
          <a:stretch/>
        </p:blipFill>
        <p:spPr>
          <a:xfrm>
            <a:off x="5724360" y="1557360"/>
            <a:ext cx="3146760" cy="4433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Users\Admin\Desktop\ШЕВЧУК\1 ФОТО_ Детское ТВОРЧЕСТВО\Кружок 2016-17\ЦРМИ_2017\P104_Безяева.JPG"/>
          <p:cNvPicPr/>
          <p:nvPr/>
        </p:nvPicPr>
        <p:blipFill>
          <a:blip r:embed="rId2"/>
          <a:stretch/>
        </p:blipFill>
        <p:spPr>
          <a:xfrm>
            <a:off x="395280" y="1557360"/>
            <a:ext cx="511164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1640" y="5373360"/>
            <a:ext cx="309564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Птица счастья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2" descr="C:\Users\Admin\Desktop\ШЕВЧУК\1 ФОТО_ Детское ТВОРЧЕСТВО\Кружок 2016-17\ЦРМИ_2017\ptitsa schastya.JPG"/>
          <p:cNvPicPr/>
          <p:nvPr/>
        </p:nvPicPr>
        <p:blipFill>
          <a:blip r:embed="rId1"/>
          <a:stretch/>
        </p:blipFill>
        <p:spPr>
          <a:xfrm>
            <a:off x="3924360" y="1628640"/>
            <a:ext cx="4824360" cy="343692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4" descr="C:\Users\Admin\Desktop\БИНАРЫ _Дипломы\Грамоты_Дети\Вика Безяева.png"/>
          <p:cNvPicPr/>
          <p:nvPr/>
        </p:nvPicPr>
        <p:blipFill>
          <a:blip r:embed="rId2"/>
          <a:stretch/>
        </p:blipFill>
        <p:spPr>
          <a:xfrm>
            <a:off x="395280" y="1628640"/>
            <a:ext cx="3279960" cy="47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Admin\Desktop\ШЕВЧУК\1 ФОТО_ Детское ТВОРЧЕСТВО\Кружок 2016-17\ЦРМИ_2017\ptitsa schastya.JPG"/>
          <p:cNvPicPr/>
          <p:nvPr/>
        </p:nvPicPr>
        <p:blipFill>
          <a:blip r:embed="rId1"/>
          <a:stretch/>
        </p:blipFill>
        <p:spPr>
          <a:xfrm>
            <a:off x="264960" y="4221000"/>
            <a:ext cx="3265560" cy="2329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Admin\Desktop\ШЕВЧУК\1 ФОТО_ Детское ТВОРЧЕСТВО\Кружок 2016-17\ЦРМИ_2017\morskoy peyzazh.JPG"/>
          <p:cNvPicPr/>
          <p:nvPr/>
        </p:nvPicPr>
        <p:blipFill>
          <a:blip r:embed="rId2"/>
          <a:stretch/>
        </p:blipFill>
        <p:spPr>
          <a:xfrm>
            <a:off x="5364000" y="4005360"/>
            <a:ext cx="3600720" cy="26478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5832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оя персональная выставк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Users\Admin\Desktop\ШЕВЧУК\1 ФОТО_ Детское ТВОРЧЕСТВО\Кружок 2016-17\ЦРМИ_2017\P104_Безяева.JPG"/>
          <p:cNvPicPr/>
          <p:nvPr/>
        </p:nvPicPr>
        <p:blipFill>
          <a:blip r:embed="rId3"/>
          <a:stretch/>
        </p:blipFill>
        <p:spPr>
          <a:xfrm>
            <a:off x="250920" y="1341360"/>
            <a:ext cx="3390840" cy="237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Admin\Desktop\ШЕВЧУК\1 ФОТО_ Детское ТВОРЧЕСТВО\Кружок 2016-17\ЦРМИ_2017\P1040046_Вика.JPG"/>
          <p:cNvPicPr/>
          <p:nvPr/>
        </p:nvPicPr>
        <p:blipFill>
          <a:blip r:embed="rId4"/>
          <a:stretch/>
        </p:blipFill>
        <p:spPr>
          <a:xfrm>
            <a:off x="3419640" y="2565360"/>
            <a:ext cx="2304720" cy="324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C:\Users\Admin\Desktop\ШЕВЧУК\1 ФОТО_ Детское ТВОРЧЕСТВО\Кружок 2016-17\ЦРМИ_2017\Безяева Вика 1А.JPG"/>
          <p:cNvPicPr/>
          <p:nvPr/>
        </p:nvPicPr>
        <p:blipFill>
          <a:blip r:embed="rId5"/>
          <a:stretch/>
        </p:blipFill>
        <p:spPr>
          <a:xfrm>
            <a:off x="5724360" y="1268280"/>
            <a:ext cx="32086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98440" y="2219400"/>
            <a:ext cx="7686720" cy="1992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c02"/>
          <p:cNvPicPr/>
          <p:nvPr/>
        </p:nvPicPr>
        <p:blipFill>
          <a:blip r:embed="rId2"/>
          <a:stretch/>
        </p:blipFill>
        <p:spPr>
          <a:xfrm flipH="1">
            <a:off x="6227280" y="4351320"/>
            <a:ext cx="2592360" cy="2228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7" descr="ptisa050"/>
          <p:cNvPicPr/>
          <p:nvPr/>
        </p:nvPicPr>
        <p:blipFill>
          <a:blip r:embed="rId3"/>
          <a:stretch/>
        </p:blipFill>
        <p:spPr>
          <a:xfrm>
            <a:off x="539640" y="836640"/>
            <a:ext cx="1024200" cy="1006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B_Fly07"/>
          <p:cNvPicPr/>
          <p:nvPr/>
        </p:nvPicPr>
        <p:blipFill>
          <a:blip r:embed="rId4"/>
          <a:stretch/>
        </p:blipFill>
        <p:spPr>
          <a:xfrm>
            <a:off x="5003640" y="5229360"/>
            <a:ext cx="1440000" cy="12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67052E-007 C 0.08142 -0.00393 0.16285 -0.00763 0.27309 0.01272 C 0.38333 0.03306 0.62309 0.08463 0.66198 0.12254 C 0.70087 0.16046 0.49236 0.21249 0.50642 0.24093 C 0.52049 0.26937 0.63333 0.28162 0.74618 0.29387 E">
                                      <p:cBhvr>
                                        <p:cTn id="7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9:59:16Z</dcterms:created>
  <dc:creator>GEG</dc:creator>
  <dc:description/>
  <dc:language>en-US</dc:language>
  <cp:lastModifiedBy>Admin</cp:lastModifiedBy>
  <dcterms:modified xsi:type="dcterms:W3CDTF">2017-08-26T11:44:50Z</dcterms:modified>
  <cp:revision>49</cp:revision>
  <dc:subject/>
  <dc:title>Çèìíèé äâîðåö             ÝÐÌÈÒ˜ÀÆ â Ñàíêò-Ïåòåðáóðãå (îò ôðàíö. ermitage — ìåñòî óåäèíåíèÿ), îäèí èç êðóïíåéøèõ â ìèðå õóäîæåñòâåííûõ è êóëüòóðíî-èñòîðè÷åñêèõ ìóçååâ. Âîçíèê â 1764 êàê ÷àñòíîå ñîáðàíèå Åêàòåðèíû II, îòêðûò äëÿ ïóáëèêè â 1852.</dc:title>
</cp:coreProperties>
</file>