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F58-0068-4FE8-A827-30D5FBA3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303-5A2A-4160-9BAA-AE291EF1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708-7415-42F4-AA57-DF005272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617-B567-4C04-B634-ADFA790A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7E4-390F-445B-AA6B-FE38E988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23B-D9E6-4CC8-811A-4781604E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A6B-96C4-4E3E-AEAB-38659BA0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F75-D692-441A-ABD1-49C45CCB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1D7-D3B9-4696-A6FB-6316F68A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044-D03D-4EC2-9734-55419139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A3E-1FAD-4512-8538-869C26EF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67A-BA4F-4A30-A9FD-C36CBF27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>
            <a:alpha val="2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3791-D3DF-4C8D-8CF5-78B4C71827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ная часть экзамен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 французскому язы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П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3492360" y="47628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>
            <a:off x="219240" y="765000"/>
            <a:ext cx="3960720" cy="59738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5497560" y="288144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4). Les tar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" dur="2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670200" y="47628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219240" y="765000"/>
            <a:ext cx="3960720" cy="59738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4427640" y="267480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5). S’il y a des visites guid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5" dur="2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24000" y="1370880"/>
            <a:ext cx="83484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дание 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нологическое тематическое высказы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50920" y="-360"/>
            <a:ext cx="83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211640" y="3873600"/>
            <a:ext cx="46814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endant la présentation de votre photo, n’oubliez pas de mentionner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l’endroit où vous l'avez pr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e qu’elle représ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e qui s’est pass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urquoi vous l'avez p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urquoi vous avez décidé de la montrer à votre ami(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3564000" y="39204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3851280" y="2997360"/>
            <a:ext cx="720720" cy="7189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8238960" y="2968560"/>
            <a:ext cx="720720" cy="719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3348000" y="5950080"/>
            <a:ext cx="720720" cy="7189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109440" y="649440"/>
            <a:ext cx="4695840" cy="30384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4"/>
          <p:cNvSpPr/>
          <p:nvPr/>
        </p:nvSpPr>
        <p:spPr>
          <a:xfrm>
            <a:off x="3851280" y="2781360"/>
            <a:ext cx="720720" cy="7189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2"/>
          <a:stretch/>
        </p:blipFill>
        <p:spPr>
          <a:xfrm>
            <a:off x="4788000" y="677880"/>
            <a:ext cx="4356000" cy="30384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4"/>
          <p:cNvSpPr/>
          <p:nvPr/>
        </p:nvSpPr>
        <p:spPr>
          <a:xfrm>
            <a:off x="8238960" y="2847960"/>
            <a:ext cx="720720" cy="719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3"/>
          <a:stretch/>
        </p:blipFill>
        <p:spPr>
          <a:xfrm>
            <a:off x="11160" y="3824280"/>
            <a:ext cx="4211640" cy="290664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4"/>
          <p:cNvSpPr/>
          <p:nvPr/>
        </p:nvSpPr>
        <p:spPr>
          <a:xfrm>
            <a:off x="3268800" y="5950080"/>
            <a:ext cx="720720" cy="7189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2" dur="9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8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endant la présentation de votre photo, n’oubliez pas de mentionner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endroit où vous l'avez pr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qu’elle repré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qui s’est pas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vous l'avez 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vous avez décidé de la montrer à votre ami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564000" y="83664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>
            <a:hlinkClick r:id="" action="ppaction://hlinkshowjump?jump=nextslide"/>
          </p:cNvPr>
          <p:cNvSpPr/>
          <p:nvPr/>
        </p:nvSpPr>
        <p:spPr>
          <a:xfrm>
            <a:off x="8459640" y="6381720"/>
            <a:ext cx="144720" cy="1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Картинка 6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9" dur="12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1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endant la présentation de votre photo, n’oubliez pas de mentionner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endroit où vous l'avez pr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qu’elle repré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qui s’est pas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vous l'avez 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vous avez décidé de la montrer à votre ami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3564000" y="83664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>
            <a:hlinkClick r:id="" action="ppaction://hlinkshowjump?jump=nextslide"/>
          </p:cNvPr>
          <p:cNvSpPr/>
          <p:nvPr/>
        </p:nvSpPr>
        <p:spPr>
          <a:xfrm>
            <a:off x="8459640" y="6308640"/>
            <a:ext cx="144720" cy="216000"/>
          </a:xfrm>
          <a:custGeom>
            <a:avLst/>
            <a:gdLst>
              <a:gd name="textAreaLeft" fmla="*/ 6840 w 144720"/>
              <a:gd name="textAreaRight" fmla="*/ 137880 w 144720"/>
              <a:gd name="textAreaTop" fmla="*/ 6840 h 216000"/>
              <a:gd name="textAreaBottom" fmla="*/ 209160 h 216000"/>
            </a:gdLst>
            <a:ahLst/>
            <a:rect l="textAreaLeft" t="textAreaTop" r="textAreaRight" b="textAreaBottom"/>
            <a:pathLst>
              <a:path w="21600" h="32212">
                <a:moveTo>
                  <a:pt x="3600" y="0"/>
                </a:moveTo>
                <a:arcTo wR="3600" hR="3600" stAng="16200000" swAng="-5400000"/>
                <a:lnTo>
                  <a:pt x="0" y="28612"/>
                </a:lnTo>
                <a:arcTo wR="3600" hR="3600" stAng="10800000" swAng="-5400000"/>
                <a:lnTo>
                  <a:pt x="18000" y="32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Картинка 6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316400" cy="31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6" dur="12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1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endant la présentation de votre photo, n’oubliez pas de mentionner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endroit où vous l'avez pr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qu’elle repré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qui s’est pas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vous l'avez 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vous avez décidé de la montrer à votre ami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564000" y="83664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>
            <a:hlinkClick r:id="" action="ppaction://hlinkshowjump?jump=nextslide"/>
          </p:cNvPr>
          <p:cNvSpPr/>
          <p:nvPr/>
        </p:nvSpPr>
        <p:spPr>
          <a:xfrm>
            <a:off x="8317080" y="6308640"/>
            <a:ext cx="215640" cy="14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Картинка 6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316400" cy="322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3" dur="12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1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24000" y="1556640"/>
            <a:ext cx="84960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дание 4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нологическое тематическое высказы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24000" y="259560"/>
            <a:ext cx="80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95640" y="4290840"/>
            <a:ext cx="7473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udiez les deux photos. Dans 1 mn 30, vous devrez les comparer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ites une courte description (action, li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dites ce que ces photos ont en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dites ce que ces photos ont de diffé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dites quel mode d’information vous pré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expliquez pourquo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635280" y="69228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4024440" cy="31431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"/>
          <p:cNvPicPr/>
          <p:nvPr/>
        </p:nvPicPr>
        <p:blipFill>
          <a:blip r:embed="rId2"/>
          <a:stretch/>
        </p:blipFill>
        <p:spPr>
          <a:xfrm>
            <a:off x="4211640" y="1000080"/>
            <a:ext cx="48243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0" dur="9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8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24000" y="259560"/>
            <a:ext cx="80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95640" y="4122720"/>
            <a:ext cx="7473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udiez les deux photos. Dans 1 mn 30, vous devrez les comparer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ites une courte description (action, li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dites ce que ces photos ont en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dites ce que ces photos ont de diffé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dites quel mode d’information vous pré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expliquez pourquo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635280" y="69228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6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4024440" cy="3143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"/>
          <p:cNvPicPr/>
          <p:nvPr/>
        </p:nvPicPr>
        <p:blipFill>
          <a:blip r:embed="rId2"/>
          <a:stretch/>
        </p:blipFill>
        <p:spPr>
          <a:xfrm>
            <a:off x="4351320" y="1000080"/>
            <a:ext cx="46846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7" dur="12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1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187280" y="1840680"/>
            <a:ext cx="6769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дание 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79280" y="88380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Boulimie et anorex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Opposés en apparence, ces deux troubles du comportement alternent en fait souvent chez l’adolescente. La jeune fille commtnce par développer ce que les spécialistes appellent une «dysmorphophobie», c’est-a-dire une mauvaise image d’elle-même, 35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d’entre elles n’aiment pas leur corps. Ce rejet de sa propre apparence la conduit à s’attacher aux standards de la minceur en vogue et l’amène à opter pour une restruction volontaire de on apport alimentaire. C’est la phase d’anorex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Puis, comme elle a faim et que cette faim devient insoutenable, elle se met à manger compulsivement. C’est la phase boulimique qui peut s’accompagner de vomissements volont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(D’après M. Montign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706920" y="404640"/>
            <a:ext cx="525780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" dur="90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89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3564000" y="33192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185760" y="907920"/>
            <a:ext cx="87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Boulimie et anorex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Opposés en apparence, ces deux troubles du comportement alternent en fait souvent chez l’adolescente. La jeune fille commtnce par développer ce que les spécialistes appellent une «dysmorphophobie», c’est-a-dire une mauvaise image d’elle-même, 35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d’entre elles n’aiment pas leur corps. Ce rejet de sa propre apparence la conduit à s’attacher aux standards de la minceur en vogue et l’amène à opter pour une restruction volontaire de on apport alimentaire. C’est la phase d’anorex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Puis, comme elle a faim et que cette faim devient insoutenable, elle se met à manger compulsivement. C’est la phase boulimique qui peut s’accompagner de vomissements volont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(D’après M. Montign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" dur="90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89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542240"/>
            <a:ext cx="9144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словны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диалог-расс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-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470480" y="3913200"/>
            <a:ext cx="456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). L’aménagement de la grot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2). Les heures d’ouver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3). S’il y a un restaurant à la proximité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4). Les tarif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5). S’il y a des visites guid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405320" y="870480"/>
            <a:ext cx="441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Vous avez décidé de visiter cet endroit et vous téléphonez pour demander des renseignements. Dans 1 minute 30 vous devez poser 5 questions directes pour trouver les informations suiv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635280" y="47628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722760" cy="581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" dur="9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8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971640" y="-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4520" y="36684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"/>
          <p:cNvPicPr/>
          <p:nvPr/>
        </p:nvPicPr>
        <p:blipFill>
          <a:blip r:embed="rId1"/>
          <a:stretch/>
        </p:blipFill>
        <p:spPr>
          <a:xfrm>
            <a:off x="219240" y="765000"/>
            <a:ext cx="3960720" cy="59738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4427640" y="2490840"/>
            <a:ext cx="441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1). L’aménagement de la gr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" dur="2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3535200" y="404640"/>
            <a:ext cx="525780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219240" y="765000"/>
            <a:ext cx="3960720" cy="59738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4739400" y="298764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2). Les heures d’ouve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" dur="2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3708360" y="404640"/>
            <a:ext cx="525780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219240" y="765000"/>
            <a:ext cx="3960720" cy="59738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4394160" y="2890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3). S’il y a un restaurant à la proxim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" dur="2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17:01:08Z</dcterms:created>
  <dc:creator>Admin</dc:creator>
  <dc:description/>
  <dc:language>en-US</dc:language>
  <cp:lastModifiedBy>1</cp:lastModifiedBy>
  <dcterms:modified xsi:type="dcterms:W3CDTF">2017-08-26T09:34:01Z</dcterms:modified>
  <cp:revision>68</cp:revision>
  <dc:subject/>
  <dc:title>Не знаю</dc:title>
</cp:coreProperties>
</file>