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C31-91AC-4333-878D-0088C654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4F5-ABF7-4CEC-B89C-E417F403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022-01AA-426D-8CCC-14568BA6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230-3942-423C-8132-CC8055B0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EEA-7BD3-4F80-8F6B-47D56139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DFB-BCD7-4196-84E6-B0CF507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E79-7017-464B-8CCD-00BF0E0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8D3-D0C3-476B-8D9D-D01046E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86F-EAF5-4126-87AD-E186C12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DF9-8E51-48AE-A3AF-B23672B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D33-7529-402A-BBFB-8EB3388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92F-ED38-4FA1-A326-7A644AB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CB1-9F03-46AF-9D1E-992EAA1B8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ная часть экзамен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 француз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П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349236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497560" y="28814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4). Les tar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67020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4427640" y="267480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5). S’il y a des visites guid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370880"/>
            <a:ext cx="83484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0920" y="-360"/>
            <a:ext cx="83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211640" y="3873600"/>
            <a:ext cx="4681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564000" y="3920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851280" y="299736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8238960" y="2968560"/>
            <a:ext cx="720720" cy="719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3348000" y="595008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09440" y="649440"/>
            <a:ext cx="4695840" cy="30384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4"/>
          <p:cNvSpPr/>
          <p:nvPr/>
        </p:nvSpPr>
        <p:spPr>
          <a:xfrm>
            <a:off x="3851280" y="278136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4788000" y="677880"/>
            <a:ext cx="4356000" cy="3038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4"/>
          <p:cNvSpPr/>
          <p:nvPr/>
        </p:nvSpPr>
        <p:spPr>
          <a:xfrm>
            <a:off x="8238960" y="2847960"/>
            <a:ext cx="720720" cy="719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3"/>
          <a:stretch/>
        </p:blipFill>
        <p:spPr>
          <a:xfrm>
            <a:off x="11160" y="3824280"/>
            <a:ext cx="4211640" cy="29066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4"/>
          <p:cNvSpPr/>
          <p:nvPr/>
        </p:nvSpPr>
        <p:spPr>
          <a:xfrm>
            <a:off x="3268800" y="5950080"/>
            <a:ext cx="720720" cy="7189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" dur="9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459640" y="6381720"/>
            <a:ext cx="144720" cy="1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Картинка 6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" dur="12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>
            <a:hlinkClick r:id="" action="ppaction://hlinkshowjump?jump=nextslide"/>
          </p:cNvPr>
          <p:cNvSpPr/>
          <p:nvPr/>
        </p:nvSpPr>
        <p:spPr>
          <a:xfrm>
            <a:off x="8459640" y="6308640"/>
            <a:ext cx="144720" cy="21600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216000"/>
              <a:gd name="textAreaBottom" fmla="*/ 209160 h 216000"/>
            </a:gdLst>
            <a:ahLst/>
            <a:rect l="textAreaLeft" t="textAreaTop" r="textAreaRight" b="textAreaBottom"/>
            <a:pathLst>
              <a:path w="21600" h="32212">
                <a:moveTo>
                  <a:pt x="3600" y="0"/>
                </a:moveTo>
                <a:arcTo wR="3600" hR="3600" stAng="16200000" swAng="-5400000"/>
                <a:lnTo>
                  <a:pt x="0" y="28612"/>
                </a:lnTo>
                <a:arcTo wR="3600" hR="3600" stAng="10800000" swAng="-5400000"/>
                <a:lnTo>
                  <a:pt x="18000" y="32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Картинка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31640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" dur="12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ndant la présentation de votre photo, n’oubliez pas de mentionner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endroit où vous l'avez 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’elle repré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qui s’est pas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l'avez 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vous avez décidé de la montrer à votre ami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564000" y="8366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>
            <a:hlinkClick r:id="" action="ppaction://hlinkshowjump?jump=nextslide"/>
          </p:cNvPr>
          <p:cNvSpPr/>
          <p:nvPr/>
        </p:nvSpPr>
        <p:spPr>
          <a:xfrm>
            <a:off x="8317080" y="6308640"/>
            <a:ext cx="215640" cy="1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Картинка 6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316400" cy="32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1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24000" y="1556640"/>
            <a:ext cx="8496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24000" y="259560"/>
            <a:ext cx="80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5640" y="4290840"/>
            <a:ext cx="7473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udiez les deux photos. Dans 1 mn 30, vous devrez les comparer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es une courte description (action,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en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de diffé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quel mode d’information vous pré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xpliquez pourquo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635280" y="692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024440" cy="3143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2"/>
          <a:stretch/>
        </p:blipFill>
        <p:spPr>
          <a:xfrm>
            <a:off x="4211640" y="1000080"/>
            <a:ext cx="4824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9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259560"/>
            <a:ext cx="80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5640" y="4122720"/>
            <a:ext cx="7473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udiez les deux photos. Dans 1 mn 30, vous devrez les comparer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es une courte description (action,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en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ce que ces photos ont de diffé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dites quel mode d’information vous pré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xpliquez pourquo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635280" y="692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02444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2"/>
          <a:stretch/>
        </p:blipFill>
        <p:spPr>
          <a:xfrm>
            <a:off x="4351320" y="1000080"/>
            <a:ext cx="46846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" dur="12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187280" y="1840680"/>
            <a:ext cx="676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79280" y="8838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Boulimie et anorex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Opposés en apparence, ces deux troubles du comportement alternent en fait souvent chez l’adolescente. La jeune fille commtnce par développer ce que les spécialistes appellent une «dysmorphophobie», c’est-a-dire une mauvaise image d’elle-même, 3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’entre elles n’aiment pas leur corps. Ce rejet de sa propre apparence la conduit à s’attacher aux standards de la minceur en vogue et l’amène à opter pour une restruction volontaire de on apport alimentaire. C’est la phase d’anorex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Puis, comme elle a faim et que cette faim devient insoutenable, elle se met à manger compulsivement. C’est la phase boulimique qui peut s’accompagner de vomissements volont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(D’après M. Montig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70692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90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564000" y="33192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85760" y="907920"/>
            <a:ext cx="87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Boulimie et anorex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Opposés en apparence, ces deux troubles du comportement alternent en fait souvent chez l’adolescente. La jeune fille commtnce par développer ce que les spécialistes appellent une «dysmorphophobie», c’est-a-dire une mauvaise image d’elle-même, 3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’entre elles n’aiment pas leur corps. Ce rejet de sa propre apparence la conduit à s’attacher aux standards de la minceur en vogue et l’amène à opter pour une restruction volontaire de on apport alimentaire. C’est la phase d’anorex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Puis, comme elle a faim et que cette faim devient insoutenable, elle se met à manger compulsivement. C’est la phase boulimique qui peut s’accompagner de vomissements volont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(D’après M. Montig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" dur="90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542240"/>
            <a:ext cx="9144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словны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иалог-расс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-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470480" y="3913200"/>
            <a:ext cx="456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). L’aménagement de la grot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2). Les heures d’ouver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3). S’il y a un restaurant à la proxim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4). Les tarif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5). S’il y a des visites guid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05320" y="870480"/>
            <a:ext cx="441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Vous avez décidé de visiter cet endroit et vous téléphonez pour demander des renseignements. Dans 1 minute 30 vous devez poser 5 questions directes pour trouver les informations sui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635280" y="47628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9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8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71640" y="-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4520" y="366840"/>
            <a:ext cx="52578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4427640" y="2490840"/>
            <a:ext cx="441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1). L’aménagement de la gr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" dur="2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353520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4739400" y="298764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2). Les heures d’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" dur="2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708360" y="404640"/>
            <a:ext cx="52578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219240" y="765000"/>
            <a:ext cx="3960720" cy="5973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4394160" y="2890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3). S’il y a un restaurant à la proxim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17:01:08Z</dcterms:created>
  <dc:creator>Admin</dc:creator>
  <dc:description/>
  <dc:language>en-US</dc:language>
  <cp:lastModifiedBy>1</cp:lastModifiedBy>
  <dcterms:modified xsi:type="dcterms:W3CDTF">2017-08-26T09:34:01Z</dcterms:modified>
  <cp:revision>68</cp:revision>
  <dc:subject/>
  <dc:title>Не знаю</dc:title>
</cp:coreProperties>
</file>