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808-7228-4C81-890A-CA9A214D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D96-5187-41FD-B665-1AE6988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61D-800D-4FE1-ACBB-B626579B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1F7-2CFC-4B22-BF5F-CC907EEF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CD5-F913-49BB-9C73-E014C3B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13A-B428-4909-83DC-C75CC58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90F-7697-40BB-ADFA-A7B6800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625-E0C3-409A-BBB5-7433BE4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97D-DF32-427E-97E0-D92D8FBE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611-984C-43C2-AC9C-4BE175C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9CC-DD87-4C05-8643-92D47F5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935-7887-43B0-8040-F326193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0264F-F830-4409-BA40-A100C2C83E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8;&#1085;&#1075;&#1088;&#1077;&#1076;&#1080;&#1077;&#1085;&#1090;&#1099;%20&#1076;&#1083;&#1103;%20&#1090;&#1086;&#1088;&#1090;&#1072;%20&#1095;&#1077;&#1088;&#1077;&#1087;&#1072;&#1093;&#1072;.docx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87160"/>
            <a:ext cx="9070920" cy="26938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Математика в кулинар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280" y="33814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и: Марченкова Ан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ева П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используется не только в науке, но и кулинарии, при приготовлении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107964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Century Schoolbook L"/>
              </a:rPr>
              <a:t>Целью нашей работы является узнать назначение математики в кулин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60000" y="394920"/>
            <a:ext cx="906948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тема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пользуется не только в науке, но и в кулинарии, при приготовлении пищ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амом деле, все этапы приготовления пищи, в том числе покупка продуктов питания, израсходование бюджета требуют некоторые математические з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lide-2-728"/>
          <p:cNvPicPr/>
          <p:nvPr/>
        </p:nvPicPr>
        <p:blipFill>
          <a:blip r:embed="rId2"/>
          <a:srcRect l="19733" t="41548" r="24198" b="3087"/>
          <a:stretch/>
        </p:blipFill>
        <p:spPr>
          <a:xfrm>
            <a:off x="1584360" y="3274920"/>
            <a:ext cx="694836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6360" y="61092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 в кулинарии имеет большое значение, так как для приготовления любого блюда должен соблюдаться рецепт. В рецепте указывается точное соотношение продуктов, которое необходимо соблюдать в процессе приготовления. При взвешивании продуктов в кулинарии используются математические величины масса и объём. Ими тоже необходимо уметь пользоваться. Единицы времени играют далеко не последнюю роль в приготовлении блюд.  Приготовленные блюда нужно умело делить на порции, в чём нам опять же поможет математика. 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:\альмира  картинки по математике\i (8).jpg"/>
          <p:cNvPicPr/>
          <p:nvPr/>
        </p:nvPicPr>
        <p:blipFill>
          <a:blip r:embed="rId3"/>
          <a:stretch/>
        </p:blipFill>
        <p:spPr>
          <a:xfrm>
            <a:off x="936720" y="3564000"/>
            <a:ext cx="2616120" cy="213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альмира  картинки по математике\i (9).jpg"/>
          <p:cNvPicPr/>
          <p:nvPr/>
        </p:nvPicPr>
        <p:blipFill>
          <a:blip r:embed="rId4"/>
          <a:stretch/>
        </p:blipFill>
        <p:spPr>
          <a:xfrm>
            <a:off x="3456000" y="3492360"/>
            <a:ext cx="26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альмира  картинки по математике\i (10).jpg"/>
          <p:cNvPicPr/>
          <p:nvPr/>
        </p:nvPicPr>
        <p:blipFill>
          <a:blip r:embed="rId5"/>
          <a:stretch/>
        </p:blipFill>
        <p:spPr>
          <a:xfrm>
            <a:off x="6408720" y="3419640"/>
            <a:ext cx="285264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ello_html_m443a2357.jpg"/>
          <p:cNvPicPr/>
          <p:nvPr/>
        </p:nvPicPr>
        <p:blipFill>
          <a:blip r:embed="rId6"/>
          <a:stretch/>
        </p:blipFill>
        <p:spPr>
          <a:xfrm>
            <a:off x="2519280" y="5580000"/>
            <a:ext cx="1971720" cy="15922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52" name="Picture 4" descr=""/>
          <p:cNvPicPr/>
          <p:nvPr/>
        </p:nvPicPr>
        <p:blipFill>
          <a:blip r:embed="rId7"/>
          <a:stretch/>
        </p:blipFill>
        <p:spPr>
          <a:xfrm>
            <a:off x="5256360" y="5435640"/>
            <a:ext cx="2232000" cy="17143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99280" y="3419640"/>
            <a:ext cx="1778040" cy="161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272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 КУЛИНАРИИ ИСПОЛЬЗУЕТСЯ ТАКИЕ ВЕЛЕЧИНЫ К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14935" r="0" b="14935"/>
          <a:stretch/>
        </p:blipFill>
        <p:spPr>
          <a:xfrm>
            <a:off x="6624720" y="2124000"/>
            <a:ext cx="243360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79280" y="558000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319640" y="5435640"/>
            <a:ext cx="2076480" cy="204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696000" y="5265720"/>
            <a:ext cx="3384720" cy="2293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77752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ЗМЕРИТЬ СТОЛОВОЙ ИЛИ ЧАЙНОЙ ЛОЖ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Ъ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КОСТИ МОЖНО ИЗМЕРИТЬ СПЕЦИАЛЬНЫМ МЕРНЫМ СТАК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ЛЮДА ГОТОВЯТСЯ П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БЛЮДО ГОТОВИТСЯ ПРИ СВОЕЙ ТЕМП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ЕОМЕТРИЧЕСКИЕ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ФОРМЛЕНИИ БЛЮ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1:08:50Z</dcterms:created>
  <dc:creator/>
  <dc:description/>
  <dc:language>en-US</dc:language>
  <cp:lastModifiedBy>ALT</cp:lastModifiedBy>
  <dcterms:modified xsi:type="dcterms:W3CDTF">2016-12-12T19:52:52Z</dcterms:modified>
  <cp:revision>4</cp:revision>
  <dc:subject/>
  <dc:title>Математика в кулинарии</dc:title>
</cp:coreProperties>
</file>