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41720" y="685440"/>
            <a:ext cx="237456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C077-DE59-4630-AEC8-32F270B41979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3C27-BA80-4D3E-9A1E-D48AB8A09F68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6A99-AB7D-45CF-938C-3FE6B6978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0BED-48A5-4D65-BDBA-037B3E17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F99A-753B-4C11-A8A1-1FDD2F3A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A3D4-45E3-4AFD-8889-941C070C4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5851-893D-4455-961C-F4EC3A92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2104-5513-4716-B5DC-1959367E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2406-F622-4C99-BD02-17329B25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8022-8679-46E4-AEC5-9D889978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C703-DB2C-473B-980D-18D1CBF9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6221-ED38-4B75-A21D-78B4559B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F5ED-EEAD-421C-87C1-755E91B5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3D03-4E67-4228-8C54-A81FFFD1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6EFA-8B67-4B01-8F42-F780D9FAB0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" Target="slide32.xml"/><Relationship Id="rId32" Type="http://schemas.openxmlformats.org/officeDocument/2006/relationships/slide" Target="slide33.xml"/><Relationship Id="rId33" Type="http://schemas.openxmlformats.org/officeDocument/2006/relationships/slide" Target="slide34.xml"/><Relationship Id="rId34" Type="http://schemas.openxmlformats.org/officeDocument/2006/relationships/slide" Target="slide35.xml"/><Relationship Id="rId35" Type="http://schemas.openxmlformats.org/officeDocument/2006/relationships/slide" Target="slide36.xml"/><Relationship Id="rId36" Type="http://schemas.openxmlformats.org/officeDocument/2006/relationships/slide" Target="slide37.xml"/><Relationship Id="rId37" Type="http://schemas.openxmlformats.org/officeDocument/2006/relationships/slide" Target="slide38.xml"/><Relationship Id="rId38" Type="http://schemas.openxmlformats.org/officeDocument/2006/relationships/slide" Target="slide39.xml"/><Relationship Id="rId39" Type="http://schemas.openxmlformats.org/officeDocument/2006/relationships/slide" Target="slide40.xml"/><Relationship Id="rId40" Type="http://schemas.openxmlformats.org/officeDocument/2006/relationships/slide" Target="slide41.xml"/><Relationship Id="rId41" Type="http://schemas.openxmlformats.org/officeDocument/2006/relationships/slide" Target="slide42.xml"/><Relationship Id="rId42" Type="http://schemas.openxmlformats.org/officeDocument/2006/relationships/slide" Target="slide43.xml"/><Relationship Id="rId4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3">
            <a:hlinkClick r:id="" action="ppaction://hlinkshowjump?jump=nextslide"/>
          </p:cNvPr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Рисунок 15" descr="https://www.metod-kopilka.ru/images/doc/22/16318/img0.jpg"/>
          <p:cNvPicPr/>
          <p:nvPr/>
        </p:nvPicPr>
        <p:blipFill>
          <a:blip r:embed="rId1"/>
          <a:stretch/>
        </p:blipFill>
        <p:spPr>
          <a:xfrm>
            <a:off x="0" y="0"/>
            <a:ext cx="6858000" cy="50976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1"/>
          <p:cNvSpPr/>
          <p:nvPr/>
        </p:nvSpPr>
        <p:spPr>
          <a:xfrm>
            <a:off x="11160" y="509760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тодическое пособие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внеурочной деятельност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Основы православной культуры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2133720" y="6824520"/>
            <a:ext cx="472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ставитель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МБОУ ЯСШ №6  г.Ярцев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итова Р.Н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14г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981000" y="2083320"/>
            <a:ext cx="49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">
            <a:hlinkClick r:id="rId1" action="ppaction://hlinksldjump"/>
          </p:cNvPr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Прямоугольник 1"/>
          <p:cNvSpPr/>
          <p:nvPr/>
        </p:nvSpPr>
        <p:spPr>
          <a:xfrm>
            <a:off x="333360" y="200160"/>
            <a:ext cx="633564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Славный фина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тёнок с травинкой в поле играл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я вместе с Муркой за ним наблюдал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дим: несётся к котёнку собака большая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наш несмышлёныш хвостом лишь виляет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шка к котёнку помчалась стрелой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 же – навстречу к собаке чужой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видев меня, пёс как вкопанный стал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тут же хозяин его подбежал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этой истории славный финал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икто в ней ни капельки не пострадал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5">
            <a:hlinkClick r:id="rId1" action="ppaction://hlinksldjump"/>
          </p:cNvPr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Прямоугольник 1"/>
          <p:cNvSpPr/>
          <p:nvPr/>
        </p:nvSpPr>
        <p:spPr>
          <a:xfrm>
            <a:off x="115920" y="31680"/>
            <a:ext cx="6553080" cy="9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Ё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братом по лесу мы шли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жа под ёлками нашли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 хотел от нас бежать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 мы смогли его поймать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 маленький, колючий и пугливый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 милый очень и красивый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ожили мы его в корзинку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гладили колючую спинку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мотрели ёжику в глаза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от туда тихо капает слеза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ачет ёжик, покидая лес родной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му, конечно, хочется домой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ам ждёт его ежиная семья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дные братья, сёстры и друзья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стали из корзинки мы ежа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лист осины он дрожал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Беги, дружок, в родной свой лес!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Ёж побежал, потом в траве исчез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5">
            <a:hlinkClick r:id="rId1" action="ppaction://hlinksldjump"/>
          </p:cNvPr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Прямоугольник 1"/>
          <p:cNvSpPr/>
          <p:nvPr/>
        </p:nvSpPr>
        <p:spPr>
          <a:xfrm>
            <a:off x="476280" y="333360"/>
            <a:ext cx="6121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Верный дру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Петькой мы теперь враги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были ведь друзья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днажды плыли по реке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арбос, мой друг и я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ня теченьем понесло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начал я тонуть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друг мой даже не хоте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не руку протянуть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страхе Петька убежал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й телефон унёс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от гибели спаса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ня мой верный пёс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5">
            <a:hlinkClick r:id="rId1" action="ppaction://hlinksldjump"/>
          </p:cNvPr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Прямоугольник 1"/>
          <p:cNvSpPr/>
          <p:nvPr/>
        </p:nvSpPr>
        <p:spPr>
          <a:xfrm>
            <a:off x="144360" y="200160"/>
            <a:ext cx="6481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Щено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коло подъезда девочка стояла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ирожок в руке она держала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явился вдруг откуда – то щенок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 пристально смотрел на пирожок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Ты голоден, обижен, одинок?»-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Сказала девочка и протянула пирожок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ъел пирожок он и послышалось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Тяф! Тяф!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 ноге девчушки, мордочку прижал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Щенка бездомного девочка взяла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домой скорее беднягу понесла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удет жить щенок в уюте и тепле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юдей хороших  много на земле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5">
            <a:hlinkClick r:id="rId1" action="ppaction://hlinksldjump"/>
          </p:cNvPr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Прямоугольник 1"/>
          <p:cNvSpPr/>
          <p:nvPr/>
        </p:nvSpPr>
        <p:spPr>
          <a:xfrm>
            <a:off x="260280" y="415800"/>
            <a:ext cx="61930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Поход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й класс идёт в поход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олько Владик не идёт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 сказал: «Всё  ерунда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стёр, палатки и река!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оворил он, что ему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орошо бывает одному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нам весело было в походе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ного мы узнали о природе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упались, пели у костра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 чего же лето – чудная пора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ладику об этом рассказали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тографии ему показали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горелись у Владика глаза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катилась горькая слеза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5">
            <a:hlinkClick r:id="rId1" action="ppaction://hlinksldjump"/>
          </p:cNvPr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Прямоугольник 1"/>
          <p:cNvSpPr/>
          <p:nvPr/>
        </p:nvSpPr>
        <p:spPr>
          <a:xfrm>
            <a:off x="266760" y="415800"/>
            <a:ext cx="6264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Чашк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ашку я случайно уронил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хотел, но всё - таки разбил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молчать, солгать или признаться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 мне делать? Как мне разобраться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чень трудно было мне решить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Я честным человеком должен быть!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5">
            <a:hlinkClick r:id="rId1" action="ppaction://hlinksldjump"/>
          </p:cNvPr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Прямоугольник 1"/>
          <p:cNvSpPr/>
          <p:nvPr/>
        </p:nvSpPr>
        <p:spPr>
          <a:xfrm>
            <a:off x="189000" y="488880"/>
            <a:ext cx="6553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Быть хорошим нелегко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друга телефон крутой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на него теперь я злой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лефон отец ему купил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м друг его так заслужил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днажды друг похлопал по плечу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Я без тебя на юг не полечу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ететь с тобой я буду рад!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т это друг! Вот это клад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охие мысли убежали далеко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а, быть хорошим нелегко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5">
            <a:hlinkClick r:id="rId1" action="ppaction://hlinksldjump"/>
          </p:cNvPr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Прямоугольник 1"/>
          <p:cNvSpPr/>
          <p:nvPr/>
        </p:nvSpPr>
        <p:spPr>
          <a:xfrm>
            <a:off x="309600" y="415800"/>
            <a:ext cx="62643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Жадин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 партой  сижу я с Наташей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неё попросил карандаш я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меня она косо взглянула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 пеналу руку протянул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сказала, сердито сопя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А своего что ли нет у тебя?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«Карандаш мой сломался, Наташ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жет быть мне точилку хоть дашь?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«То карандаш, то точилку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ать бы тебе по затылку!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 чего же мне стало обидно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Наташе совсем не стыдно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Жадина Наташка, вот и всё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ичего не надо от неё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5">
            <a:hlinkClick r:id="rId1" action="ppaction://hlinksldjump"/>
          </p:cNvPr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Прямоугольник 1"/>
          <p:cNvSpPr/>
          <p:nvPr/>
        </p:nvSpPr>
        <p:spPr>
          <a:xfrm>
            <a:off x="372960" y="272880"/>
            <a:ext cx="6481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Хвасту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Димкой - мы товарищи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Димкой - мы друзья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 чтобы он не сделал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ичит всегда он: «Я!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Я выучил уроки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арушке я помог!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ведь про то, что сделал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 промолчать бы мог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5">
            <a:hlinkClick r:id="rId1" action="ppaction://hlinksldjump"/>
          </p:cNvPr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рямоугольник 1"/>
          <p:cNvSpPr/>
          <p:nvPr/>
        </p:nvSpPr>
        <p:spPr>
          <a:xfrm>
            <a:off x="981000" y="1065240"/>
            <a:ext cx="4954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Ссор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сорятся два мальчика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руг друга обзывают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ловещими словами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грязью обливают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учше б не злословили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мирно всё решили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огда быть может и слов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охие бы забыли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5">
            <a:hlinkClick r:id="" action="ppaction://hlinkshowjump?jump=nextslide"/>
          </p:cNvPr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0" y="598320"/>
            <a:ext cx="6858000" cy="612900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1.Введение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1                                           </a:t>
            </a: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2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Введение 2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3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Наставленья для души                       </a:t>
            </a: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4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Мамина песн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5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Столовая для птичек                          </a:t>
            </a: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6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7" action="ppaction://hlinksldjump"/>
              </a:rPr>
              <a:t>Цветы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7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На берегу реки                                    </a:t>
            </a: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8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9" action="ppaction://hlinksldjump"/>
              </a:rPr>
              <a:t>Славный финал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9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0" action="ppaction://hlinksldjump"/>
              </a:rPr>
              <a:t>Ёж  </a:t>
            </a: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                                                      10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1" action="ppaction://hlinksldjump"/>
              </a:rPr>
              <a:t>Верный друг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11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2" action="ppaction://hlinksldjump"/>
              </a:rPr>
              <a:t>Щенок </a:t>
            </a: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                                               12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3" action="ppaction://hlinksldjump"/>
              </a:rPr>
              <a:t>Поход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13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4" action="ppaction://hlinksldjump"/>
              </a:rPr>
              <a:t>Чашка   </a:t>
            </a: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                                              14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5" action="ppaction://hlinksldjump"/>
              </a:rPr>
              <a:t>. Быть хорошим нелегко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15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6" action="ppaction://hlinksldjump"/>
              </a:rPr>
              <a:t>Жадина    </a:t>
            </a: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                                           16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7" action="ppaction://hlinksldjump"/>
              </a:rPr>
              <a:t>. Хвасту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17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8" action="ppaction://hlinksldjump"/>
              </a:rPr>
              <a:t> Ссора                                                  </a:t>
            </a: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18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9" action="ppaction://hlinksldjump"/>
              </a:rPr>
              <a:t>Девчонк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19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20" action="ppaction://hlinksldjump"/>
              </a:rPr>
              <a:t>Ябеда    </a:t>
            </a: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                                              20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21" action="ppaction://hlinksldjump"/>
              </a:rPr>
              <a:t>Клевет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21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22" action="ppaction://hlinksldjump"/>
              </a:rPr>
              <a:t>Хулиган</a:t>
            </a: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                                              22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23" action="ppaction://hlinksldjump"/>
              </a:rPr>
              <a:t>Стул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23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24" action="ppaction://hlinksldjump"/>
              </a:rPr>
              <a:t>Сплетницы </a:t>
            </a: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                                         24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25" action="ppaction://hlinksldjump"/>
              </a:rPr>
              <a:t>Очк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25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26" action="ppaction://hlinksldjump"/>
              </a:rPr>
              <a:t>Драка    </a:t>
            </a: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                                                26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27" action="ppaction://hlinksldjump"/>
              </a:rPr>
              <a:t>Обещалкин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27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28" action="ppaction://hlinksldjump"/>
              </a:rPr>
              <a:t>Обманщик    </a:t>
            </a: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                                        28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29" action="ppaction://hlinksldjump"/>
              </a:rPr>
              <a:t>Сове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30" action="ppaction://hlinksldjump"/>
              </a:rPr>
              <a:t>29.Две дочери</a:t>
            </a: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                                           30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31" action="ppaction://hlinksldjump"/>
              </a:rPr>
              <a:t>Старушк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32" action="ppaction://hlinksldjump"/>
              </a:rPr>
              <a:t>31.Лучше мира нет на свете ничего</a:t>
            </a: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!      32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33" action="ppaction://hlinksldjump"/>
              </a:rPr>
              <a:t>Доброт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33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34" action="ppaction://hlinksldjump"/>
              </a:rPr>
              <a:t>Разве друг так поступает?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35" action="ppaction://hlinksldjump"/>
              </a:rPr>
              <a:t>34.Пять рублей </a:t>
            </a: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                                  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36" action="ppaction://hlinksldjump"/>
              </a:rPr>
              <a:t>35.Ангел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36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37" action="ppaction://hlinksldjump"/>
              </a:rPr>
              <a:t>Заповеди  </a:t>
            </a:r>
            <a:r>
              <a:rPr b="0" lang="ru-RU" sz="1800" spc="-1" strike="noStrike">
                <a:solidFill>
                  <a:srgbClr val="92d050"/>
                </a:solidFill>
                <a:latin typeface="Times New Roman"/>
              </a:rPr>
              <a:t>                                      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38" action="ppaction://hlinksldjump"/>
              </a:rPr>
              <a:t>37.Заповеди Божии (1-2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39" action="ppaction://hlinksldjump"/>
              </a:rPr>
              <a:t>38.Заповеди Божии (3-5)                   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40" action="ppaction://hlinksldjump"/>
              </a:rPr>
              <a:t>39.Заповеди Божии (6-8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41" action="ppaction://hlinksldjump"/>
              </a:rPr>
              <a:t>40.Заповеди Божии (9-10)                   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42" action="ppaction://hlinksldjump"/>
              </a:rPr>
              <a:t>41.Список используемой литературы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5">
            <a:hlinkClick r:id="rId1" action="ppaction://hlinksldjump"/>
          </p:cNvPr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Прямоугольник 1"/>
          <p:cNvSpPr/>
          <p:nvPr/>
        </p:nvSpPr>
        <p:spPr>
          <a:xfrm>
            <a:off x="176040" y="776160"/>
            <a:ext cx="6551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Девчонк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ежит девчонка по дорожк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задевает камень ножкой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пала, ей очень больно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рядом мальчик стоит спокойно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 даже руку ей не подал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глядя на неё лишь хохотал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ругой мальчишка мимо проходил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верно  очень он чутким был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му с ней было не  по пути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 ей до дома помог дойти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девочки  не катится слеза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крятся благодарностью глаза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333360" y="4731120"/>
            <a:ext cx="63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5">
            <a:hlinkClick r:id="rId1" action="ppaction://hlinksldjump"/>
          </p:cNvPr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Прямоугольник 1"/>
          <p:cNvSpPr/>
          <p:nvPr/>
        </p:nvSpPr>
        <p:spPr>
          <a:xfrm>
            <a:off x="301680" y="1208160"/>
            <a:ext cx="6119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Ябед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стю случайно кто – то задел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ичит она тут же: «Какой беспредел!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корей бежит к учителю и плача, говорит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У  меня всё тело кажется болит!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же оступится Настя на ступеньке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новь к учителю спешит: «Виноват в том Венька!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сем классом тяжело вздыхаем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Настя – ябеда, да ещё и злая!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5">
            <a:hlinkClick r:id="rId1" action="ppaction://hlinksldjump"/>
          </p:cNvPr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Прямоугольник 1"/>
          <p:cNvSpPr/>
          <p:nvPr/>
        </p:nvSpPr>
        <p:spPr>
          <a:xfrm>
            <a:off x="260280" y="560520"/>
            <a:ext cx="6408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Клевет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то – то взял у Зины мяч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зял и не отдал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Это Толик мяч твой брал» -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Саша ей сказал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спросила Зина Толю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Ты зачем мой мяч присвоил?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«Зина, мяч я не присвоил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ы же ведь друзья с тобою!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ы у Сашеньки спроси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 вчера твой мяч носил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Саши след уже пропал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клеветал и убежал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5"/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Прямоугольник 1"/>
          <p:cNvSpPr/>
          <p:nvPr/>
        </p:nvSpPr>
        <p:spPr>
          <a:xfrm>
            <a:off x="333360" y="200160"/>
            <a:ext cx="590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Хулига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тька – одноклассник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 же – хулиган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 посадил лягушку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риночке в карман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а испугана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ичит и плачет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злобный мальчуга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зжит от радости и скачет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стали мы лягушку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отпустили в сад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Петьке и не стыдно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ужой беде он рад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5"/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Прямоугольник 1"/>
          <p:cNvSpPr/>
          <p:nvPr/>
        </p:nvSpPr>
        <p:spPr>
          <a:xfrm>
            <a:off x="476280" y="1136520"/>
            <a:ext cx="6192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Сту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классу бегали мы с Саше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сломали стул Наташин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ул сломался – не беда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ульев в классе - целая гора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 нам подходят Дима с Галей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оворят: «Вы стул сломали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его ведь делал кто – то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о столяра работа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ережливыми вам  нужно быт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труд чужой всегда ценить!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5"/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Прямоугольник 1"/>
          <p:cNvSpPr/>
          <p:nvPr/>
        </p:nvSpPr>
        <p:spPr>
          <a:xfrm>
            <a:off x="189000" y="415800"/>
            <a:ext cx="6408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Сплетниц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оят на школьной лестниц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ве девчонки – сплетницы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 всех они всё знаю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злобно обсуждают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то пришёл не в том пальто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кого надето платье, да не то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мотреть им лучше на себя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м на сплетни тратить время зря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5"/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Прямоугольник 1"/>
          <p:cNvSpPr/>
          <p:nvPr/>
        </p:nvSpPr>
        <p:spPr>
          <a:xfrm>
            <a:off x="349200" y="272880"/>
            <a:ext cx="6392880" cy="81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Очк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 сижу и голову ломаю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го в подруги взять не знаю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могают бабушке очки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учше видит она в них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чки у бабушки беру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фото девочек смотрю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дна красива, но глупа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атьяна очень высока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этой на носу веснушки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ней рядом – вредная толстушка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могу опять найти ответ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то моей подругой будет, а кто – нет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в очках не вижу подружки для себя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оворю бабуле: «Очки плохие у тебя!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Нет, внученька, хорошие очки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и ведь показали, какая ты внутри!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5"/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оугольник 1"/>
          <p:cNvSpPr/>
          <p:nvPr/>
        </p:nvSpPr>
        <p:spPr>
          <a:xfrm>
            <a:off x="404640" y="415800"/>
            <a:ext cx="626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Драк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рутся Паша с Колей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раку затеяли в школе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чему же дерутся ребята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емена во всём виновата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ж слишком она большая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ходится драться, скучая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5"/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оугольник 1"/>
          <p:cNvSpPr/>
          <p:nvPr/>
        </p:nvSpPr>
        <p:spPr>
          <a:xfrm>
            <a:off x="122400" y="0"/>
            <a:ext cx="640872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Обещалкин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еру мама попросила: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Прополи мне грядки»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«Хорошо, моя мамуля,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удет всё в порядке!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шла мама в огород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мотреть работу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ера тут же к ней бежит: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Прополю в субботу!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суббота пробежала,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недельник и среда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 по- прежнему работа, как и раньше не видна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много обещалкиных есть среди людей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альше вы держите от них своих детей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5"/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1"/>
          <p:cNvSpPr/>
          <p:nvPr/>
        </p:nvSpPr>
        <p:spPr>
          <a:xfrm>
            <a:off x="360360" y="488880"/>
            <a:ext cx="597528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Обманщи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росила мама сына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Как дела, сынок?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Отличный!» - отвечает,-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мне выдался денёк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чтению пятёрка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по изо мне пять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нравится пятёрк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не, мама,  получать!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тут приходит Петька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Ну, двоечник, привет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ой же был ужасный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вой у доски ответ!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укором мама смотри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сына своего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он в ответ не може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казать ей ничего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50760" y="-32040"/>
            <a:ext cx="6669000" cy="9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ВЕДЕНИЕ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лагаемое пособие составлено для проведения занятий по внеурочной деятельности (Основы православной культуры)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данного пособия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уховно – нравственное воспитание младших школьников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териалы пособия дают возможность каждому ребёнку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 увидеть единство требований к личности каждого человека, предъявляемых современным обществом и православной культурой, имеющей многовековую историю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) сформировать свой духовно – нравственный мир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) приобщиться к православной культуре 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) сформировать навык чтения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) расширить кругозор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) усвоить понятия о доброте, доброжелательности,   отзывчивости, справедливости, научиться их различать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пособии 34 стихотворения, тексты которых невелики по объёму и каждое из них может быть использовано на любом этапе отдельного урока.  Кроме этого, в пособии размещены Заповеди Божии. Прочитав и обсудив прочитанное стихотворение, ребята читают те Заповеди, которые можно соотнести  с поступками героев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ям предоставлена возможность познакомиться с текстами стихотворений, ориентированных на наиболее полное использование нравственного потенциала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5">
            <a:hlinkClick r:id="rId1" action="ppaction://hlinksldjump"/>
          </p:cNvPr>
          <p:cNvSpPr/>
          <p:nvPr/>
        </p:nvSpPr>
        <p:spPr>
          <a:xfrm>
            <a:off x="6031080" y="9097920"/>
            <a:ext cx="826920" cy="754200"/>
          </a:xfrm>
          <a:custGeom>
            <a:avLst/>
            <a:gdLst>
              <a:gd name="textAreaLeft" fmla="*/ 48600 w 826920"/>
              <a:gd name="textAreaRight" fmla="*/ 778320 w 826920"/>
              <a:gd name="textAreaTop" fmla="*/ 48600 h 754200"/>
              <a:gd name="textAreaBottom" fmla="*/ 705600 h 754200"/>
            </a:gdLst>
            <a:ahLst/>
            <a:rect l="textAreaLeft" t="textAreaTop" r="textAreaRight" b="textAreaBottom"/>
            <a:pathLst>
              <a:path w="23682" h="21600">
                <a:moveTo>
                  <a:pt x="0" y="0"/>
                </a:moveTo>
                <a:lnTo>
                  <a:pt x="23682" y="0"/>
                </a:lnTo>
                <a:lnTo>
                  <a:pt x="23682" y="21600"/>
                </a:lnTo>
                <a:lnTo>
                  <a:pt x="0" y="21600"/>
                </a:lnTo>
                <a:close/>
              </a:path>
              <a:path fill="lightenLess" w="23682" h="21600">
                <a:moveTo>
                  <a:pt x="0" y="0"/>
                </a:moveTo>
                <a:lnTo>
                  <a:pt x="23682" y="0"/>
                </a:lnTo>
                <a:lnTo>
                  <a:pt x="22282" y="1400"/>
                </a:lnTo>
                <a:lnTo>
                  <a:pt x="1400" y="1400"/>
                </a:lnTo>
                <a:close/>
              </a:path>
              <a:path fill="darken" w="23682" h="21600">
                <a:moveTo>
                  <a:pt x="23682" y="0"/>
                </a:moveTo>
                <a:lnTo>
                  <a:pt x="23682" y="21600"/>
                </a:lnTo>
                <a:lnTo>
                  <a:pt x="22282" y="20200"/>
                </a:lnTo>
                <a:lnTo>
                  <a:pt x="22282" y="1400"/>
                </a:lnTo>
                <a:close/>
              </a:path>
              <a:path fill="darkenLess" w="23682" h="21600">
                <a:moveTo>
                  <a:pt x="23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82" y="20200"/>
                </a:lnTo>
                <a:close/>
              </a:path>
              <a:path fill="lighten" w="23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82" h="21600">
                <a:moveTo>
                  <a:pt x="8342" y="10800"/>
                </a:moveTo>
                <a:lnTo>
                  <a:pt x="18847" y="3794"/>
                </a:lnTo>
                <a:lnTo>
                  <a:pt x="18847" y="17806"/>
                </a:lnTo>
                <a:close/>
              </a:path>
              <a:path fill="darken" w="23682" h="21600">
                <a:moveTo>
                  <a:pt x="4834" y="3794"/>
                </a:moveTo>
                <a:lnTo>
                  <a:pt x="6497" y="3794"/>
                </a:lnTo>
                <a:lnTo>
                  <a:pt x="6497" y="17806"/>
                </a:lnTo>
                <a:lnTo>
                  <a:pt x="483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5"/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Прямоугольник 1"/>
          <p:cNvSpPr/>
          <p:nvPr/>
        </p:nvSpPr>
        <p:spPr>
          <a:xfrm>
            <a:off x="765000" y="128520"/>
            <a:ext cx="575964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Совест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асивое колечко у Тан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о подарок Тане от мамы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шла Таня к Оле играть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лечко своё показать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вочки играли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село смеялись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друг Таня поняла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лечко потерялось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ня  плачет, рыдает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де кольцо найти не знает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подружка в уголк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– то прячет в кулаке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ня к Оле подошл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спросила: «Ты нашла?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ы нашла моё кольцо?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смотрит прямо ей в лицо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цо Оли красным стало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дь в кулаке кольцо лежало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Таня, вот твоё кольцо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но лежало под крыльцом»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Спасибо, Оля! Как я рада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часто совесть нам - награда!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6"/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Прямоугольник 1"/>
          <p:cNvSpPr/>
          <p:nvPr/>
        </p:nvSpPr>
        <p:spPr>
          <a:xfrm>
            <a:off x="260280" y="415800"/>
            <a:ext cx="6337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Две дочер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мамы есть две дочери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 разные уж очень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ма просит: «Помойте посуду!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ина кричит: «Не хочу! Не буду!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шенька молча помоет посуду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от неё не услышишь: «Не буду!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 только лишь мама торт испечёт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иночка первой кусочек берёт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5"/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оугольник 1"/>
          <p:cNvSpPr/>
          <p:nvPr/>
        </p:nvSpPr>
        <p:spPr>
          <a:xfrm>
            <a:off x="189000" y="488880"/>
            <a:ext cx="6481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Старушк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арушка не спеша ведро взяла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 колодцу медленно пошла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брав воды, присела отдохнуть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 дома предстоит нелёгкий путь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седский мальчик мимо проходил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едёрко мимоходом прихватил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нёс он бабушке  ведёрко до крыльца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овам похвальным не было конца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5"/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1"/>
          <p:cNvSpPr/>
          <p:nvPr/>
        </p:nvSpPr>
        <p:spPr>
          <a:xfrm>
            <a:off x="341280" y="704880"/>
            <a:ext cx="6192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Лучше мира нет на свете ничего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стрелы, бомбёжка, крики, стоны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локольные тревожны перезвоны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сё это признаки жестокие войны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тей и стариков убийство без какой – либо вины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чем нужна война и для чего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едь лучше мира нет на свете ничего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5"/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Прямоугольник 1"/>
          <p:cNvSpPr/>
          <p:nvPr/>
        </p:nvSpPr>
        <p:spPr>
          <a:xfrm>
            <a:off x="549360" y="560520"/>
            <a:ext cx="590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Доброт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деревушку пришла война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горела деревенька вся до тла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талась жива лишь девчушка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ютила её добрая старушка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огрела, накормила сироту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йна не убила души доброту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3"/>
          <p:cNvSpPr/>
          <p:nvPr/>
        </p:nvSpPr>
        <p:spPr>
          <a:xfrm>
            <a:off x="765000" y="1496880"/>
            <a:ext cx="5616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Разве друг так поступает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меня игрушка – самосвал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 мне Серёжка подбежал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 предложил: «Давай дружить!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ы дашь мне самосвал свой повозить?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ругу невозможно отказать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Конечно, можешь с ним играть!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рёжка взял мой самосвал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 долго во дворе его катал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я смотрел, как он играет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думал: «Разве друг так поступает?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5"/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Прямоугольник 1"/>
          <p:cNvSpPr/>
          <p:nvPr/>
        </p:nvSpPr>
        <p:spPr>
          <a:xfrm>
            <a:off x="260280" y="522360"/>
            <a:ext cx="6408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Пять рубле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соседки пять рублей я взял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рез день вернуть ей обещал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чень время быстро пробежало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кармане пять рублей уже лежало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хочется мне долг свой отдавать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 за это может мама отругать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лжен пятачок к соседке возвратиться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иначе мама, точно, огорчится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5"/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оугольник 1"/>
          <p:cNvSpPr/>
          <p:nvPr/>
        </p:nvSpPr>
        <p:spPr>
          <a:xfrm>
            <a:off x="765000" y="631800"/>
            <a:ext cx="5759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Анге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 тьме лампочка тускло горит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ольная мама беспокойно спит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зле мамы рядом я сижу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ангела о помощи прошу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Добрый ангел, маме помоги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 тяжёлой болезни её исцели!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лыбнулась мамочка,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и прежде мне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нь от крыльев лёгких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чезла на стене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5"/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Прямоугольник 1"/>
          <p:cNvSpPr/>
          <p:nvPr/>
        </p:nvSpPr>
        <p:spPr>
          <a:xfrm>
            <a:off x="692280" y="488880"/>
            <a:ext cx="5905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Заповед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школе Заповеди Божь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с учили понимать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 хорошо, что плохо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могли понять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перь мы уже знаем,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нужно поступать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бы заслужить нам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ожью благодать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210960" y="195120"/>
            <a:ext cx="648036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из детской Библии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ПОВЕДИ БОЖИ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ервая заповедь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Да не будет у тебя других Богов, кроме Меня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забывайте Бога и знайте, что Он все видит и знает не только то, что мы делаем и говорим, но и то, что мы думаем про себя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торая заповедь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е делай себе кумира и никаких изображений того, что ты видишь вверху на небе, внизу на земле, под землею, в воде. Смотри! Не молись этим изваяниям и не приноси им жертвы - не служи им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 идолам не молимся, но бываем горды, скупы, объедаемся, любим лакомства и этим грешим против второй заповеди, считаем за идолов наши дурные наклонности и служим им, как божеству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179280" y="236880"/>
            <a:ext cx="6480360" cy="80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ВЕДЕНИЕ 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итая стихи, ребёнок знакомится с окружающей жизнью, природой, трудом людей, со сверстниками, их радостями, а порой и неудачами. Художественное слово воздействует не только на сознание, но и на чувства и поступки ребенка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ово может окрылить ребёнка, вызвать желание стать лучше, сделать что – то хорошее, помогает осознать человеческие взаимоотношения, познакомиться с нормами поведения. Важно научить детей видеть проявление нравственных качеств в жизни, различать добро и зло, чуткость и равнодушие, справедливость и обман, действительную и ложную помощь товарищу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ихи, воздействуя на чувства ребёнка, будут способствовать усвоению им нравственных представлений, формированию не только его сознания и поведения, но и тех неизменных качеств, которые присущи русскому народу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нное пособие может использоваться на уроках литературного чтения, природоведения, русского языка, во внеклассной работе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о гиперссылке осуществляется  переход к нужному слайду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5">
            <a:hlinkClick r:id="rId1" action="ppaction://hlinksldjump"/>
          </p:cNvPr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3"/>
          <p:cNvSpPr/>
          <p:nvPr/>
        </p:nvSpPr>
        <p:spPr>
          <a:xfrm>
            <a:off x="136440" y="200160"/>
            <a:ext cx="662472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ретья заповедь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е произноси напрасно имя Божие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божитесь; не торопитесь читать молитвы, молитесь со вниманием; на молитве в церкви и дома думайте о Боге, а не о шалостях, одежде, игрушках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Четвертая заповедь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икогда не забывай о дне покоя, свято храни его; шесть дней трудись и делай в них всякие дела свои; а седьмой день посвяти Господу Богу твоему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воскресенье и другие праздники ходите в церковь, а в будни кто ленится работать или учиться, тот грешит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ятая заповедь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Почитай отца своего и матерь свою, и хорошо тебе будет, и долго проживешь на свет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чешь быть счастлив и дожить до старости? Почитай, люби и слушай родителей, священников, учителей и старших. Береги отца и мать; помогай им;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хаживай за ними, если они больны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убить родителям, не слушаться и обманыват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х – большой грех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Управляющая кнопка: в начало 1"/>
          <p:cNvSpPr/>
          <p:nvPr/>
        </p:nvSpPr>
        <p:spPr>
          <a:xfrm>
            <a:off x="5718240" y="88138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189000" y="84240"/>
            <a:ext cx="65358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Шестая заповедь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Не убивай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деритесь, не обижайте, не браните никого. Берегите и свое здоровье. Помогайте всем, кому только чем – нибудь можете помочь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едьмая заповедь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Не развратничай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е следует браниться худыми словами, петь и слушать соблазнительные песн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осьмая заповедь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Не укради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когда не бери потихоньку чужого, хотя бы это был кусок сахару, иголка, ручка, листок бумаги или другая какая – нибудь маленькая вещь. Сначала украдешь пустяки, а потом сделаешься и большим вором. Начнешь воровать по копеечке, а под конец жизни станешь краст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ые тысячи. Все воры начинают с малого. Грешно брать в долг и не отдавать, обмеривать, обвешивать, не отдавать сдачи. Не хорошо меняться и взять у товарища хорошую вещь, а ему дать плохую, никуда не годную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3"/>
          <p:cNvSpPr/>
          <p:nvPr/>
        </p:nvSpPr>
        <p:spPr>
          <a:xfrm>
            <a:off x="119160" y="488880"/>
            <a:ext cx="6553080" cy="77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вятая заповедь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Не произноси и не принимай ложного свидетельства или показания на ближнего твоего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ябедничай, не жалуйся понапрасну, не сплетничай. Когда сделана шалость и спрашивают, кто это сделал, - не скрывай. Плохо, когда про одного не хотят сказать плохого, потому что боятся его, а на другого наговаривают, оттого что не любят его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сятая заповедь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е смей и желать жены ближнего твоего, или поля, или слуги, или служанки его, или вола, или осла, или какого- нибудь животного, словом, всего, что принадлежит ближнему твоему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е только не берите чужого, но даже и не желайте иметь того, что вам нравится у других. Не завидуйте, если у ваших товарищей одежда и другие вещи лучше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у вас хуже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Управляющая кнопка: в начало 1"/>
          <p:cNvSpPr/>
          <p:nvPr/>
        </p:nvSpPr>
        <p:spPr>
          <a:xfrm>
            <a:off x="5629320" y="86248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476280" y="617760"/>
            <a:ext cx="619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писок используемой литературы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иблия для детей. Баку, 1991. С. 86-89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Прямоугольник 4"/>
          <p:cNvSpPr/>
          <p:nvPr/>
        </p:nvSpPr>
        <p:spPr>
          <a:xfrm>
            <a:off x="476280" y="1936800"/>
            <a:ext cx="585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Интернет – ресурсы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yabovagim10.ucoz.ru/biblejskie_skazanija.doc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‎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5">
            <a:hlinkClick r:id="rId1" action="ppaction://hlinksldjump"/>
          </p:cNvPr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Прямоугольник 1"/>
          <p:cNvSpPr/>
          <p:nvPr/>
        </p:nvSpPr>
        <p:spPr>
          <a:xfrm>
            <a:off x="1052640" y="1496880"/>
            <a:ext cx="5184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Наставленья для душ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губи ты свою душу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будь драчлив, жесток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ля слов плохих, ненужных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крой свой ротик на замок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юби своих отца и маму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забывай дорогу к Храму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ворить добро всегда спеши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мни наставленья для души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5">
            <a:hlinkClick r:id="rId1" action="ppaction://hlinksldjump"/>
          </p:cNvPr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1"/>
          <p:cNvSpPr/>
          <p:nvPr/>
        </p:nvSpPr>
        <p:spPr>
          <a:xfrm>
            <a:off x="189000" y="415800"/>
            <a:ext cx="6553080" cy="35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Мамина песн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Мама сына уложила на кровать,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тала тихо ему песню напевать: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«Спи, мой милый, любимый и родной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Ангел будет всегда рядышком с тобой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Только честен будь, и добр, и справедлив,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Чистотой души своей всегда красив!»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476280" y="2853360"/>
            <a:ext cx="61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5">
            <a:hlinkClick r:id="rId1" action="ppaction://hlinksldjump"/>
          </p:cNvPr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692280" y="420840"/>
            <a:ext cx="5761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Столовая для птиче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има холодная придё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птицам голод принесёт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ы поможем бедным птичкам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робью, снегирю и синичке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делаем с папой нову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ля птичек кормушку - столовую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юда смогут они прилетать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ошки, зёрнышки поклевать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обед они будут слетаться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мы станем на них любоваться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5">
            <a:hlinkClick r:id="rId1" action="ppaction://hlinksldjump"/>
          </p:cNvPr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оугольник 1"/>
          <p:cNvSpPr/>
          <p:nvPr/>
        </p:nvSpPr>
        <p:spPr>
          <a:xfrm>
            <a:off x="549360" y="849240"/>
            <a:ext cx="5786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Цвет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реди цветов я на лугу сижу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глаз своих от них не отвожу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рву я маме полевых цветов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вот букет уже готов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веты поставил в вазу я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и завяли за три дня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мотрю печально на цветы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колько погубил я красоты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5">
            <a:hlinkClick r:id="rId1" action="ppaction://hlinksldjump"/>
          </p:cNvPr>
          <p:cNvSpPr/>
          <p:nvPr/>
        </p:nvSpPr>
        <p:spPr>
          <a:xfrm>
            <a:off x="5815080" y="8862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Прямоугольник 1"/>
          <p:cNvSpPr/>
          <p:nvPr/>
        </p:nvSpPr>
        <p:spPr>
          <a:xfrm>
            <a:off x="404640" y="488880"/>
            <a:ext cx="6193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На берегу рек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братом летом у рек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ы машину мыли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ут же рядом рыбак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котле уху варили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ошли к нам рыбак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грозно так сказали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Разве жители рек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убить их разрешали?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 ответить на вопро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братом мы не знали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 беречь свою природу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вёрдо обещали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7T18:33:37Z</dcterms:created>
  <dc:creator>Xp</dc:creator>
  <dc:description/>
  <dc:language>en-US</dc:language>
  <cp:lastModifiedBy>Денис</cp:lastModifiedBy>
  <dcterms:modified xsi:type="dcterms:W3CDTF">2017-08-26T12:06:44Z</dcterms:modified>
  <cp:revision>76</cp:revision>
  <dc:subject/>
  <dc:title>Слайд 1</dc:title>
</cp:coreProperties>
</file>