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9F47-6D10-4E32-A1CA-9AF6BF0B9F5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0906-B85E-457B-8517-1A307E7C099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A5F-F006-4C51-A515-F4800907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F29-6F40-4039-9FBE-1A78D09E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61F-A49F-4C81-894F-0F4A3E40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E21-F923-47AD-A453-C2BC0460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5CA-1397-4FC7-8365-C7E2C831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500-B728-4D5A-9D03-9A2971BA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526-4674-4120-9161-EF699096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D5D-55D2-440E-8068-FA004FEC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0F6-283D-4179-950A-AE6D73B6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000-FA62-4CA9-B4C1-67EDB5F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23A-D892-4627-8543-1B040111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F54-2144-45C0-ABA3-D9406204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3F16-9125-40F4-AA2F-FC1B347957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3">
            <a:hlinkClick r:id="" action="ppaction://hlinkshowjump?jump=nextslide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15" descr="https://www.metod-kopilka.ru/images/doc/22/16318/img0.jpg"/>
          <p:cNvPicPr/>
          <p:nvPr/>
        </p:nvPicPr>
        <p:blipFill>
          <a:blip r:embed="rId1"/>
          <a:stretch/>
        </p:blipFill>
        <p:spPr>
          <a:xfrm>
            <a:off x="0" y="0"/>
            <a:ext cx="6858000" cy="5097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1160" y="5097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ическое пособи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внеурочной деятельно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Основы православной культуры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2133720" y="682452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ставитель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БОУ ЯСШ №6  г.Ярце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това Р.Н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4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981000" y="2083320"/>
            <a:ext cx="49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333360" y="200160"/>
            <a:ext cx="6335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лавный фина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ёнок с травинкой в поле игр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я вместе с Муркой за ним наблюд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им: несётся к котёнку собака больша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аш несмышлёныш хвостом лишь виляет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шка к котёнку помчалась стрело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же – навстречу к собаке чужо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идев меня, пёс как вкопанный ста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ут же хозяин его подбе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этой истории славный финал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кто в ней ни капельки не пострада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115920" y="31680"/>
            <a:ext cx="6553080" cy="9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Ё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братом по лесу мы шл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жа под ёлками нашл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хотел от нас бежа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мы смогли его пойма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маленький, колючий и пугливы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милый очень и красивы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или мы его в корзинк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ладили колючую спинк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ли ёжику в глаз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от туда тихо капает слез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чет ёжик, покидая лес родно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му, конечно, хочется домо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м ждёт его ежиная семь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ные братья, сёстры и друзь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стали из корзинки мы еж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лист осины он дро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Беги, дружок, в родной свой лес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Ёж побежал, потом в траве исчез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1"/>
          <p:cNvSpPr/>
          <p:nvPr/>
        </p:nvSpPr>
        <p:spPr>
          <a:xfrm>
            <a:off x="476280" y="333360"/>
            <a:ext cx="6121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Верный дру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етькой мы теперь враг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были ведь друзь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жды плыли по реке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рбос, мой друг и 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ня теченьем понесл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ачал я тону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друг мой даже не хоте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е руку протянуть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трахе Петька убеж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й телефон унёс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от гибели спаса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ня мой верный пёс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144360" y="200160"/>
            <a:ext cx="6481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Щено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оло подъезда девочка стоя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рожок в руке она держа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ился вдруг откуда – то щен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пристально смотрел на пирож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Ты голоден, обижен, одинок?»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казала девочка и протянула пирож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ъел пирожок он и послышалось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Тяф! Тяф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ноге девчушки, мордочку при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енка бездомного девочка взя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омой скорее беднягу понес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т жить щенок в уюте и тепл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дей хороших  много на земле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60280" y="415800"/>
            <a:ext cx="61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Похо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й класс идёт в поход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лько Владик не идё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сказал: «Всё  ерунда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стёр, палатки и река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ворил он, что ем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о бывает одном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ам весело было в поход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о мы узнали о природ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пались, пели у костр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чего же лето – чудная пор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ладику об этом рассказал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графии ему показал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горелись у Владика глаз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тилась горькая слез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266760" y="41580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Чаш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шку я случайно урони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хотел, но всё - таки разби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молчать, солгать или признаться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мне делать? Как мне разобраться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нь трудно было мне решить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Я честным человеком должен быть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189000" y="48888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Быть хорошим нелегк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руга телефон круто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а него теперь я зло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лефон отец ему куп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друг его так заслужил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жды друг похлопал по плечу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Я без тебя на юг не полечу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ететь с тобой я буду рад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т это друг! Вот это клад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хие мысли убежали далек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, быть хорошим нелегк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309600" y="415800"/>
            <a:ext cx="6264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Жади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 партой  сижу я с Наташе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неё попросил карандаш 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меня она косо взгляну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пеналу руку протянул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казала, сердито сопя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А своего что ли нет у тебя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Карандаш мой сломался, Наташ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быть мне точилку хоть дашь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То карандаш, то точилку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ть бы тебе по затылк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чего же мне стало обидн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аташе совсем не стыдн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адина Наташка, вот и всё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чего не надо от неё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372960" y="272880"/>
            <a:ext cx="64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Хвасту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имкой - мы товарищ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имкой - мы друзь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чтобы он не сдел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чит всегда он: «Я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Я выучил урок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ушке я помог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едь про то, что сдел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промолчать бы мог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981000" y="1065240"/>
            <a:ext cx="495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сор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сорятся два мальчик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г друга обзываю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ловещими словам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грязью обливаю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чше б не злословил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мирно всё решил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гда быть может и слов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хие бы забыл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5">
            <a:hlinkClick r:id="" action="ppaction://hlinkshowjump?jump=nextslide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0" y="598320"/>
            <a:ext cx="6858000" cy="61290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.Введ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1                    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Введение 2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Наставленья для души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Мамина пес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5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Столовая для птичек   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Цвет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7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На берегу реки             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8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Славный фина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9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Ёж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        10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Верный друг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1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Щенок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 1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Пох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Чашка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14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. Быть хорошим нелегк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5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Жадина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16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. Хвасту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7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 Ссора                           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8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Девчон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9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0" action="ppaction://hlinksldjump"/>
              </a:rPr>
              <a:t>Ябеда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20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1" action="ppaction://hlinksldjump"/>
              </a:rPr>
              <a:t>Клеве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1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2" action="ppaction://hlinksldjump"/>
              </a:rPr>
              <a:t>Хулиган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2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3" action="ppaction://hlinksldjump"/>
              </a:rPr>
              <a:t>Сту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3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4" action="ppaction://hlinksldjump"/>
              </a:rPr>
              <a:t>Сплетницы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24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5" action="ppaction://hlinksldjump"/>
              </a:rPr>
              <a:t>Оч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5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6" action="ppaction://hlinksldjump"/>
              </a:rPr>
              <a:t>Драка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  26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7" action="ppaction://hlinksldjump"/>
              </a:rPr>
              <a:t>Обещалки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7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8" action="ppaction://hlinksldjump"/>
              </a:rPr>
              <a:t>Обманщик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28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9" action="ppaction://hlinksldjump"/>
              </a:rPr>
              <a:t>Сове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0" action="ppaction://hlinksldjump"/>
              </a:rPr>
              <a:t>29.Две дочери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30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1" action="ppaction://hlinksldjump"/>
              </a:rPr>
              <a:t>Стару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2" action="ppaction://hlinksldjump"/>
              </a:rPr>
              <a:t>31.Лучше мира нет на свете ничего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!      32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3" action="ppaction://hlinksldjump"/>
              </a:rPr>
              <a:t>Добро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33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4" action="ppaction://hlinksldjump"/>
              </a:rPr>
              <a:t>Разве друг так поступает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5" action="ppaction://hlinksldjump"/>
              </a:rPr>
              <a:t>34.Пять рублей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6" action="ppaction://hlinksldjump"/>
              </a:rPr>
              <a:t>35.Анге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36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7" action="ppaction://hlinksldjump"/>
              </a:rPr>
              <a:t>Заповеди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8" action="ppaction://hlinksldjump"/>
              </a:rPr>
              <a:t>37.Заповеди Божии (1-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9" action="ppaction://hlinksldjump"/>
              </a:rPr>
              <a:t>38.Заповеди Божии (3-5)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0" action="ppaction://hlinksldjump"/>
              </a:rPr>
              <a:t>39.Заповеди Божии (6-8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1" action="ppaction://hlinksldjump"/>
              </a:rPr>
              <a:t>40.Заповеди Божии (9-10)        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2" action="ppaction://hlinksldjump"/>
              </a:rPr>
              <a:t>41.Список используемой литерату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176040" y="776160"/>
            <a:ext cx="6551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Девчон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жит девчонка по дорожк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задевает камень ножко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ала, ей очень боль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рядом мальчик стоит спокой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даже руку ей не под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глядя на неё лишь хохот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гой мальчишка мимо проход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верно  очень он чутким бы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му с ней было не  по пу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ей до дома помог дойт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вочки  не катится слез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крятся благодарностью глаз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33360" y="4731120"/>
            <a:ext cx="63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301680" y="1208160"/>
            <a:ext cx="611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Ябед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тю случайно кто – то заде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чит она тут же: «Какой беспредел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рей бежит к учителю и плача, говорит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У  меня всё тело кажется болит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же оступится Настя на ступеньке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новь к учителю спешит: «Виноват в том Венька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м классом тяжело вздыхаем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Настя – ябеда, да ещё и злая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260280" y="560520"/>
            <a:ext cx="64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Клевет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– то взял у Зины мяч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зял и не отд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Это Толик мяч твой брал» 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аша ей сказ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просила Зина Толю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Ты зачем мой мяч присвоил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Зина, мяч я не присвои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же ведь друзья с тобою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 у Сашеньки спрос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вчера твой мяч нос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Саши след уже проп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леветал и убе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333360" y="200160"/>
            <a:ext cx="590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Хулига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тька – одноклассни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же – хулиган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посадил лягушк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риночке в карман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испуган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чит и плаче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злобный мальчуга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зжит от радости и скаче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стали мы лягушк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пустили в сад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Петьке и не стыд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ужой беде он рад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476280" y="1136520"/>
            <a:ext cx="619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ту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классу бегали мы с Саш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ломали стул Наташин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л сломался – не бед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льев в классе - целая гор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нам подходят Дима с Гал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ворят: «Вы стул сломали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его ведь делал кто – 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толяра работ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режливыми вам  нужно бы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руд чужой всегда ценить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189000" y="415800"/>
            <a:ext cx="64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плетниц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ят на школьной лестниц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е девчонки – сплетниц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 всех они всё знаю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злобно обсуждают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пришёл не в том пальт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кого надето платье, да не т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ть им лучше на себ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на сплетни тратить время зр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349200" y="272880"/>
            <a:ext cx="639288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ч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сижу и голову ломаю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о в подруги взять не знаю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гают бабушке очк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чше видит она в них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ки у бабушки бер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фото девочек смотрю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 красива, но глуп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тьяна очень высо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этой на носу веснушк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ней рядом – вредная толстушк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могу опять найти ответ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моей подругой будет, а кто – нет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в очках не вижу подружки для себ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ворю бабуле: «Очки плохие у тебя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Нет, внученька, хорошие очк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и ведь показали, какая ты внутри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404640" y="415800"/>
            <a:ext cx="62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Дра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рутся Паша с Коле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аку затеяли в школ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же дерутся ребята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мена во всём виноват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ж слишком она больша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ходится драться, скуча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122400" y="0"/>
            <a:ext cx="6408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бещалки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у мама попросила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Прополи мне грядки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Хорошо, моя мамуля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т всё в порядке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шла мама в огоро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ть работ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а тут же к ней бежит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Прополю в суббот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уббота пробежала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едельник и сред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по- прежнему работа, как и раньше не видн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ного обещалкиных есть среди люде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альше вы держите от них своих дете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360360" y="488880"/>
            <a:ext cx="59752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бманщи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осила мама сына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Как дела, сынок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Отличный!» - отвечает,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не выдался денёк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чтению пятёрк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о изо мне пять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равится пятёрк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е, мама,  получать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ут приходит Петь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Ну, двоечник, привет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ой же был ужасны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вой у доски ответ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укором мама смотри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сына своег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он в ответ не може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азать ей ничег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0760" y="-32040"/>
            <a:ext cx="6669000" cy="9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ВЕДЕНИЕ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агаемое пособие составлено для проведения занятий по внеурочной деятельности (Основы православной культуры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данного пособ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уховно – нравственное воспитание младших школьников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ы пособия дают возможность каждому ребёнку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увидеть единство требований к личности каждого человека, предъявляемых современным обществом и православной культурой, имеющей многовековую историю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сформировать свой духовно – нравственный мир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приобщиться к православной культуре 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сформировать навык чтения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) расширить кругозор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) усвоить понятия о доброте, доброжелательности,   отзывчивости, справедливости, научиться их различат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собии 34 стихотворения, тексты которых невелики по объёму и каждое из них может быть использовано на любом этапе отдельного урока.  Кроме этого, в пособии размещены Заповеди Божии. Прочитав и обсудив прочитанное стихотворение, ребята читают те Заповеди, которые можно соотнести  с поступками героев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ям предоставлена возможность познакомиться с текстами стихотворений, ориентированных на наиболее полное использование нравственного потенциал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>
            <a:hlinkClick r:id="rId1" action="ppaction://hlinksldjump"/>
          </p:cNvPr>
          <p:cNvSpPr/>
          <p:nvPr/>
        </p:nvSpPr>
        <p:spPr>
          <a:xfrm>
            <a:off x="6031080" y="9097920"/>
            <a:ext cx="826920" cy="754200"/>
          </a:xfrm>
          <a:custGeom>
            <a:avLst/>
            <a:gdLst>
              <a:gd name="textAreaLeft" fmla="*/ 48600 w 826920"/>
              <a:gd name="textAreaRight" fmla="*/ 778320 w 826920"/>
              <a:gd name="textAreaTop" fmla="*/ 48600 h 754200"/>
              <a:gd name="textAreaBottom" fmla="*/ 705600 h 754200"/>
            </a:gdLst>
            <a:ahLst/>
            <a:rect l="textAreaLeft" t="textAreaTop" r="textAreaRight" b="textAreaBottom"/>
            <a:pathLst>
              <a:path w="23682" h="21600">
                <a:moveTo>
                  <a:pt x="0" y="0"/>
                </a:moveTo>
                <a:lnTo>
                  <a:pt x="23682" y="0"/>
                </a:lnTo>
                <a:lnTo>
                  <a:pt x="23682" y="21600"/>
                </a:lnTo>
                <a:lnTo>
                  <a:pt x="0" y="21600"/>
                </a:lnTo>
                <a:close/>
              </a:path>
              <a:path fill="lightenLess" w="23682" h="21600">
                <a:moveTo>
                  <a:pt x="0" y="0"/>
                </a:moveTo>
                <a:lnTo>
                  <a:pt x="23682" y="0"/>
                </a:lnTo>
                <a:lnTo>
                  <a:pt x="22282" y="1400"/>
                </a:lnTo>
                <a:lnTo>
                  <a:pt x="1400" y="1400"/>
                </a:lnTo>
                <a:close/>
              </a:path>
              <a:path fill="darken" w="23682" h="21600">
                <a:moveTo>
                  <a:pt x="23682" y="0"/>
                </a:moveTo>
                <a:lnTo>
                  <a:pt x="23682" y="21600"/>
                </a:lnTo>
                <a:lnTo>
                  <a:pt x="22282" y="20200"/>
                </a:lnTo>
                <a:lnTo>
                  <a:pt x="22282" y="1400"/>
                </a:lnTo>
                <a:close/>
              </a:path>
              <a:path fill="darkenLess" w="23682" h="21600">
                <a:moveTo>
                  <a:pt x="23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2" y="20200"/>
                </a:lnTo>
                <a:close/>
              </a:path>
              <a:path fill="lighten" w="23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82" h="21600">
                <a:moveTo>
                  <a:pt x="8342" y="10800"/>
                </a:moveTo>
                <a:lnTo>
                  <a:pt x="18847" y="3794"/>
                </a:lnTo>
                <a:lnTo>
                  <a:pt x="18847" y="17806"/>
                </a:lnTo>
                <a:close/>
              </a:path>
              <a:path fill="darken" w="23682" h="21600">
                <a:moveTo>
                  <a:pt x="4834" y="3794"/>
                </a:moveTo>
                <a:lnTo>
                  <a:pt x="6497" y="3794"/>
                </a:lnTo>
                <a:lnTo>
                  <a:pt x="6497" y="17806"/>
                </a:lnTo>
                <a:lnTo>
                  <a:pt x="4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765000" y="128520"/>
            <a:ext cx="57596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Совест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ивое колечко у Тан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подарок Тане от мамы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шла Таня к Оле играть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ечко своё показать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вочки играли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ело смеялись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друг Таня поняла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ечко потерялось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ня  плачет, рыдае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 кольцо найти не знае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подружка в уголк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– то прячет в кула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ня к Оле подош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просила: «Ты нашла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нашла моё кольцо?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мотрит прямо ей в лиц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цо Оли красным стало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дь в кулаке кольцо лежало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Таня, вот твоё кольцо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о лежало под крыльцом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Спасибо, Оля! Как я рада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часто совесть нам - награда!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6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260280" y="415800"/>
            <a:ext cx="633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Две дочер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мамы есть две дочер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разные уж очень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ма просит: «Помойте посуд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на кричит: «Не хочу! Не буд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шенька молча помоет посуд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 неё не услышишь: «Не буд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только лишь мама торт испечёт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ночка первой кусочек берёт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9000" y="488880"/>
            <a:ext cx="648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таруш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ушка не спеша ведро взя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колодцу медленно пош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брав воды, присела отдохнуть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дома предстоит нелёгкий пу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едский мальчик мимо проход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дёрко мимоходом прихвати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нёс он бабушке  ведёрко до крыльц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ам похвальным не было конц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341280" y="704880"/>
            <a:ext cx="619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Лучше мира нет на свете ничег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трелы, бомбёжка, крики, стоны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окольные тревожны перезвоны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ё это признаки жестокие вой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ей и стариков убийство без какой – либо вины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чем нужна война и для чего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дь лучше мира нет на свете ничег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1"/>
          <p:cNvSpPr/>
          <p:nvPr/>
        </p:nvSpPr>
        <p:spPr>
          <a:xfrm>
            <a:off x="549360" y="56052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Доброт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еревушку пришла войн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горела деревенька вся до т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талась жива лишь девчуш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ютила её добрая старуш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рела, накормила сирот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йна не убила души доброту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765000" y="1496880"/>
            <a:ext cx="561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Разве друг так поступает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меня игрушка – самосв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 мне Серёжка подбе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предложил: «Давай дружить!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 дашь мне самосвал свой повозить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гу невозможно отказать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Конечно, можешь с ним играть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ёжка взял мой самосв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долго во дворе его кат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я смотрел, как он играет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умал: «Разве друг так поступает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260280" y="522360"/>
            <a:ext cx="64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Пять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соседки пять рублей я взя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з день вернуть ей обещ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нь время быстро пробежал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армане пять рублей уже лежал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хочется мне долг свой отдава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за это может мама отруга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лжен пятачок к соседке возвратитьс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иначе мама, точно, огорчитс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765000" y="631800"/>
            <a:ext cx="5759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Анге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тьме лампочка тускло гори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ная мама беспокойно спи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ле мамы рядом я сиж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ангела о помощи прошу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Добрый ангел, маме помог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тяжёлой болезни её исцели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лыбнулась мамочка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и прежде м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нь от крыльев лёгких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чезла на сте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1"/>
          <p:cNvSpPr/>
          <p:nvPr/>
        </p:nvSpPr>
        <p:spPr>
          <a:xfrm>
            <a:off x="692280" y="488880"/>
            <a:ext cx="590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Заповед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школе Заповеди Божь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 учили понима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хорошо, что плох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гли поня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перь мы уже знаем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ужно поступа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заслужить нам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жью благодать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10960" y="195120"/>
            <a:ext cx="6480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из детской Библии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ПОВЕДИ БОЖ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в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а не будет у тебя других Богов, кроме Мен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ывайте Бога и знайте, что Он все видит и знает не только то, что мы делаем и говорим, но и то, что мы думаем про себ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орая запове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делай себе кумира и никаких изображений того, что ты видишь вверху на небе, внизу на земле, под землею, в воде. Смотри! Не молись этим изваяниям и не приноси им жертвы - не служи им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идолам не молимся, но бываем горды, скупы, объедаемся, любим лакомства и этим грешим против второй заповеди, считаем за идолов наши дурные наклонности и служим им, как божеств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79280" y="236880"/>
            <a:ext cx="6480360" cy="80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ВЕДЕНИЕ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тая стихи, ребёнок знакомится с окружающей жизнью, природой, трудом людей, со сверстниками, их радостями, а порой и неудачами. Художественное слово воздействует не только на сознание, но и на чувства и поступки ребенк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о может окрылить ребёнка, вызвать желание стать лучше, сделать что – то хорошее, помогает осознать человеческие взаимоотношения, познакомиться с нормами поведения. Важно научить детей видеть проявление нравственных качеств в жизни, различать добро и зло, чуткость и равнодушие, справедливость и обман, действительную и ложную помощь товарищу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хи, воздействуя на чувства ребёнка, будут способствовать усвоению им нравственных представлений, формированию не только его сознания и поведения, но и тех неизменных качеств, которые присущи русскому народу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ое пособие может использоваться на уроках литературного чтения, природоведения, русского языка, во внеклассной работ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гиперссылке осуществляется  переход к нужному слайду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136440" y="200160"/>
            <a:ext cx="662472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тья запове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произноси напрасно имя Бож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божитесь; не торопитесь читать молитвы, молитесь со вниманием; на молитве в церкви и дома думайте о Боге, а не о шалостях, одежде, игрушка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етвертая запове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икогда не забывай о дне покоя, свято храни его; шесть дней трудись и делай в них всякие дела свои; а седьмой день посвяти Господу Богу твоем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скресенье и другие праздники ходите в церковь, а в будни кто ленится работать или учиться, тот греши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ят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Почитай отца своего и матерь свою, и хорошо тебе будет, и долго проживешь на свет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шь быть счастлив и дожить до старости? Почитай, люби и слушай родителей, священников, учителей и старших. Береги отца и мать; помогай им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хаживай за ними, если они больны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бить родителям, не слушаться и обманыват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х – большой гре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Управляющая кнопка: в начало 1"/>
          <p:cNvSpPr/>
          <p:nvPr/>
        </p:nvSpPr>
        <p:spPr>
          <a:xfrm>
            <a:off x="5718240" y="8813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89000" y="84240"/>
            <a:ext cx="6535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ест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е убива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деритесь, не обижайте, не браните никого. Берегите и свое здоровье. Помогайте всем, кому только чем – нибудь можете помочь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дьм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е развратнича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следует браниться худыми словами, петь и слушать соблазнительные песн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ьм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е украд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не бери потихоньку чужого, хотя бы это был кусок сахару, иголка, ручка, листок бумаги или другая какая – нибудь маленькая вещь. Сначала украдешь пустяки, а потом сделаешься и большим вором. Начнешь воровать по копеечке, а под конец жизни станешь краст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ые тысячи. Все воры начинают с малого. Грешно брать в долг и не отдавать, обмеривать, обвешивать, не отдавать сдачи. Не хорошо меняться и взять у товарища хорошую вещь, а ему дать плохую, никуда не годную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3"/>
          <p:cNvSpPr/>
          <p:nvPr/>
        </p:nvSpPr>
        <p:spPr>
          <a:xfrm>
            <a:off x="119160" y="488880"/>
            <a:ext cx="6553080" cy="77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вят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е произноси и не принимай ложного свидетельства или показания на ближнего твоего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бедничай, не жалуйся понапрасну, не сплетничай. Когда сделана шалость и спрашивают, кто это сделал, - не скрывай. Плохо, когда про одного не хотят сказать плохого, потому что боятся его, а на другого наговаривают, оттого что не любят 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сятая заповедь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смей и желать жены ближнего твоего, или поля, или слуги, или служанки его, или вола, или осла, или какого- нибудь животного, словом, всего, что принадлежит ближнему твоем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только не берите чужого, но даже и не желайте иметь того, что вам нравится у других. Не завидуйте, если у ваших товарищей одежда и другие вещи лучше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у вас хуж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Управляющая кнопка: в начало 1"/>
          <p:cNvSpPr/>
          <p:nvPr/>
        </p:nvSpPr>
        <p:spPr>
          <a:xfrm>
            <a:off x="5629320" y="8624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76280" y="617760"/>
            <a:ext cx="61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писок используемой литератур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блия для детей. Баку, 1991. С. 86-89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476280" y="1936800"/>
            <a:ext cx="585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Интернет – ресурсы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yabovagim10.ucoz.ru/biblejskie_skazanija.doc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‎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1052640" y="1496880"/>
            <a:ext cx="518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Наставленья для душ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губи ты свою душ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будь драчлив, жест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слов плохих, ненужны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ой свой ротик на зам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би своих отца и мам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забывай дорогу к Храму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ворить добро всегда спеш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ни наставленья для душ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189000" y="415800"/>
            <a:ext cx="655308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Мамина песн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ама сына уложила на кровать,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ла тихо ему песню напевать: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Спи, мой милый, любимый и родной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гел будет всегда рядышком с тобой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олько честен будь, и добр, и справедлив,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Чистотой души своей всегда красив!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76280" y="285336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692280" y="420840"/>
            <a:ext cx="57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толовая для птиче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ма холодная придё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тицам голод принесё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поможем бедным птичкам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робью, снегирю и синичк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делаем с папой нову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птичек кормушку - столовую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юда смогут они прилета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шки, зёрнышки поклева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обед они будут слетатьс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мы станем на них любоватьс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549360" y="849240"/>
            <a:ext cx="5786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Цвет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цветов я на лугу сиж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глаз своих от них не отвож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ву я маме полевых цветов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вот букет уже готов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веты поставил в вазу 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и завяли за три дн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отрю печально на цвет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погубил я красоты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404640" y="488880"/>
            <a:ext cx="61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На берегу ре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братом летом у ре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машину мыл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ут же рядом рыбак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отле уху варил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шли к нам рыбак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грозно так сказал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Разве жители рек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убить их разрешали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ответить на вопро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братом мы не знал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беречь свою природ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вёрдо обещал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8:33:37Z</dcterms:created>
  <dc:creator>Xp</dc:creator>
  <dc:description/>
  <dc:language>en-US</dc:language>
  <cp:lastModifiedBy>Денис</cp:lastModifiedBy>
  <dcterms:modified xsi:type="dcterms:W3CDTF">2017-08-26T12:06:44Z</dcterms:modified>
  <cp:revision>76</cp:revision>
  <dc:subject/>
  <dc:title>Слайд 1</dc:title>
</cp:coreProperties>
</file>