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E48-2EDF-4B53-A5C9-88015D57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E47-0592-4918-9FC9-C9E1733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242-B809-4595-AB9D-FC606D6F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5E7-FF36-4ACB-A40B-ED514E57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1A17-8712-4F10-9ACE-08D694CB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CE9D-BF3B-463D-B989-144E7E9B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5F6-8484-47FF-8EC8-8E98260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536F-7C32-4F68-999C-5800844B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5518-0223-4194-B607-DD8C9BD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37C-894C-4004-BEE0-33F38F9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694-2D30-4D9D-9CB3-95F0323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953-6F56-4B46-8CE2-770B85F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0A20-31C0-4635-9BFB-BC473BD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4C8-4879-40A7-99E3-DA206FE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484E-1E65-4496-8F9A-05AF653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2606-1DA3-4754-8133-6F9EE801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08B2-939F-4EA8-B514-5095AAED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044-FA0F-4DF7-A89C-FD614EE4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ACA-4688-4547-AC1A-70FA4B3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188-BDBD-4C8F-B76F-ADD31B93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635-111F-4F31-95F5-B834D622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962-7418-401C-B79B-123B16A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146-D53F-44FD-AEEE-BEBB4C7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F48-6F51-4590-A3A4-BE3AE5E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0F4-5518-4F5B-B4EB-61FE969C18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A16-96E3-47F3-A98F-F0D5FB36EF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бщественное движение: либералы и консерват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512320" y="6165720"/>
            <a:ext cx="2863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машнее задание: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катков"/>
          <p:cNvPicPr/>
          <p:nvPr/>
        </p:nvPicPr>
        <p:blipFill>
          <a:blip r:embed="rId1"/>
          <a:stretch/>
        </p:blipFill>
        <p:spPr>
          <a:xfrm>
            <a:off x="165240" y="2981160"/>
            <a:ext cx="2163600" cy="219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велин"/>
          <p:cNvPicPr/>
          <p:nvPr/>
        </p:nvPicPr>
        <p:blipFill>
          <a:blip r:embed="rId2"/>
          <a:stretch/>
        </p:blipFill>
        <p:spPr>
          <a:xfrm>
            <a:off x="1889280" y="3486240"/>
            <a:ext cx="2322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серватиз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309480" y="530064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ихаил Никифорович Кат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10" descr="D:\Методика\8 класс История 2016-2017\Урок 45 Общественное движение либералы и консерваторы\Katkov.jpg"/>
          <p:cNvPicPr/>
          <p:nvPr/>
        </p:nvPicPr>
        <p:blipFill>
          <a:blip r:embed="rId1"/>
          <a:stretch/>
        </p:blipFill>
        <p:spPr>
          <a:xfrm>
            <a:off x="4284720" y="981000"/>
            <a:ext cx="4352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пореформенного либерализм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новение первых пр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каз от требования конституционной монарх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имание к проблеме русской самобы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чало размежевания с революционер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Рисунок9"/>
          <p:cNvPicPr/>
          <p:nvPr/>
        </p:nvPicPr>
        <p:blipFill>
          <a:blip r:embed="rId1"/>
          <a:stretch/>
        </p:blipFill>
        <p:spPr>
          <a:xfrm>
            <a:off x="6697800" y="3789360"/>
            <a:ext cx="2162160" cy="28749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133" name="Rectangle 5"/>
          <p:cNvSpPr/>
          <p:nvPr/>
        </p:nvSpPr>
        <p:spPr>
          <a:xfrm>
            <a:off x="4650480" y="6237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.Н.Чичер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Методика\8 класс История 2016-2017\Урок 45 Общественное движение либералы и консерваторы\vladymyr-bortko.jpg"/>
          <p:cNvPicPr/>
          <p:nvPr/>
        </p:nvPicPr>
        <p:blipFill>
          <a:blip r:embed="rId1"/>
          <a:stretch/>
        </p:blipFill>
        <p:spPr>
          <a:xfrm>
            <a:off x="3708360" y="333360"/>
            <a:ext cx="5116680" cy="309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Методика\8 класс История 2016-2017\Урок 45 Общественное движение либералы и консерваторы\i (2).jpg"/>
          <p:cNvPicPr/>
          <p:nvPr/>
        </p:nvPicPr>
        <p:blipFill>
          <a:blip r:embed="rId2"/>
          <a:stretch/>
        </p:blipFill>
        <p:spPr>
          <a:xfrm>
            <a:off x="324000" y="2421000"/>
            <a:ext cx="3240000" cy="41241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6526440" y="357336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ортко В.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3649320" y="60930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стоевский Ф.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Методика\8 класс История 2016-2017\Урок 45 Общественное движение либералы и консерваторы\i (3).jpg"/>
          <p:cNvPicPr/>
          <p:nvPr/>
        </p:nvPicPr>
        <p:blipFill>
          <a:blip r:embed="rId1"/>
          <a:stretch/>
        </p:blipFill>
        <p:spPr>
          <a:xfrm>
            <a:off x="5292720" y="404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Методика\8 класс История 2016-2017\Урок 45 Общественное движение либералы и консерваторы\e4fe2d677f796638d665084013112d97.jpg"/>
          <p:cNvPicPr/>
          <p:nvPr/>
        </p:nvPicPr>
        <p:blipFill>
          <a:blip r:embed="rId2"/>
          <a:stretch/>
        </p:blipFill>
        <p:spPr>
          <a:xfrm>
            <a:off x="971640" y="1125360"/>
            <a:ext cx="3770280" cy="2119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:\Методика\8 класс История 2016-2017\Урок 45 Общественное движение либералы и консерваторы\37987.jpg"/>
          <p:cNvPicPr/>
          <p:nvPr/>
        </p:nvPicPr>
        <p:blipFill>
          <a:blip r:embed="rId3"/>
          <a:stretch/>
        </p:blipFill>
        <p:spPr>
          <a:xfrm>
            <a:off x="971640" y="3429000"/>
            <a:ext cx="46497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25, задание 3 (подготовьте сообщение об одном из общественных деятелей, упомянутых в параграфе): оформить в виде проекта на дис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9880" y="839880"/>
            <a:ext cx="79754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анализируйте предложенный событийный ря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2362320"/>
            <a:ext cx="8208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01 – 1825 гг.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вление Aлександра I, известного своими либеральными взгляд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25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тупление декабристов под либеральными лозунг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-40-е годы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формление либерального движения в России (западники и славянофил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0 – 70-е год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ека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беральные реформы Александр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9880" y="839880"/>
            <a:ext cx="79754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анализируйте предложенный событийный ря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362320"/>
            <a:ext cx="8208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0-90-е год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ека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никновение марксизма в Росс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898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ъезд РСДРП (на базе марксиз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тябрь 1917 года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ход к власти в России большевиков под марксистскими лозунг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D:\Методика\8 класс История 2016-2017\Урок 45 Общественное движение либералы и консерваторы\кавелин.jpg"/>
          <p:cNvPicPr/>
          <p:nvPr/>
        </p:nvPicPr>
        <p:blipFill>
          <a:blip r:embed="rId1"/>
          <a:srcRect l="0" t="0" r="0" b="-2012"/>
          <a:stretch/>
        </p:blipFill>
        <p:spPr>
          <a:xfrm>
            <a:off x="4932360" y="1052640"/>
            <a:ext cx="421164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897000" y="306000"/>
            <a:ext cx="481536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Письмо к издателю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94760" y="46530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Б.Н.Чичер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6" descr="D:\Методика\8 класс История 2016-2017\Урок 45 Общественное движение либералы и консерваторы\gercen.jpg"/>
          <p:cNvPicPr/>
          <p:nvPr/>
        </p:nvPicPr>
        <p:blipFill>
          <a:blip r:embed="rId2"/>
          <a:stretch/>
        </p:blipFill>
        <p:spPr>
          <a:xfrm>
            <a:off x="755640" y="2421000"/>
            <a:ext cx="2894040" cy="3724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1"/>
          <p:cNvSpPr/>
          <p:nvPr/>
        </p:nvSpPr>
        <p:spPr>
          <a:xfrm>
            <a:off x="1119960" y="595008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.И.Герце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D:\Методика\8 класс История 2016-2017\Урок 45 Общественное движение либералы и консерваторы\чичерин.jpg"/>
          <p:cNvPicPr/>
          <p:nvPr/>
        </p:nvPicPr>
        <p:blipFill>
          <a:blip r:embed="rId3"/>
          <a:stretch/>
        </p:blipFill>
        <p:spPr>
          <a:xfrm>
            <a:off x="3276720" y="1052640"/>
            <a:ext cx="263052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4"/>
          <p:cNvSpPr/>
          <p:nvPr/>
        </p:nvSpPr>
        <p:spPr>
          <a:xfrm>
            <a:off x="6458040" y="46530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. Д.Кавел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8800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тков Михаил Никифор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2" descr="D:\Методика\8 класс История 2016-2017\Урок 45 Общественное движение либералы и консерваторы\катков.png"/>
          <p:cNvPicPr/>
          <p:nvPr/>
        </p:nvPicPr>
        <p:blipFill>
          <a:blip r:embed="rId1"/>
          <a:stretch/>
        </p:blipFill>
        <p:spPr>
          <a:xfrm>
            <a:off x="5076720" y="765000"/>
            <a:ext cx="3579840" cy="482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Методика\8 класс История 2016-2017\Урок 45 Общественное движение либералы и консерваторы\i (1).jpg"/>
          <p:cNvPicPr/>
          <p:nvPr/>
        </p:nvPicPr>
        <p:blipFill>
          <a:blip r:embed="rId2"/>
          <a:stretch/>
        </p:blipFill>
        <p:spPr>
          <a:xfrm>
            <a:off x="-920880" y="609480"/>
            <a:ext cx="53596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шелев Александр Иван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D:\Методика\8 класс История 2016-2017\Урок 45 Общественное движение либералы и консерваторы\кошелев.jpg"/>
          <p:cNvPicPr/>
          <p:nvPr/>
        </p:nvPicPr>
        <p:blipFill>
          <a:blip r:embed="rId1"/>
          <a:stretch/>
        </p:blipFill>
        <p:spPr>
          <a:xfrm>
            <a:off x="900000" y="907920"/>
            <a:ext cx="3816360" cy="455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Методика\8 класс История 2016-2017\Урок 45 Общественное движение либералы и консерваторы\rb4.jpg"/>
          <p:cNvPicPr/>
          <p:nvPr/>
        </p:nvPicPr>
        <p:blipFill>
          <a:blip r:embed="rId2"/>
          <a:stretch/>
        </p:blipFill>
        <p:spPr>
          <a:xfrm>
            <a:off x="5010120" y="920880"/>
            <a:ext cx="3713040" cy="96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88000" y="5805000"/>
            <a:ext cx="4356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аевский Андрей Александрови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2" descr="D:\Методика\8 класс История 2016-2017\Урок 45 Общественное движение либералы и консерваторы\0.jpeg"/>
          <p:cNvPicPr/>
          <p:nvPr/>
        </p:nvPicPr>
        <p:blipFill>
          <a:blip r:embed="rId1"/>
          <a:stretch/>
        </p:blipFill>
        <p:spPr>
          <a:xfrm>
            <a:off x="-749160" y="609480"/>
            <a:ext cx="5113080" cy="524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Методика\8 класс История 2016-2017\Урок 45 Общественное движение либералы и консерваторы\краевский.jpeg"/>
          <p:cNvPicPr/>
          <p:nvPr/>
        </p:nvPicPr>
        <p:blipFill>
          <a:blip r:embed="rId2"/>
          <a:stretch/>
        </p:blipFill>
        <p:spPr>
          <a:xfrm>
            <a:off x="4932360" y="981000"/>
            <a:ext cx="3986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465360" y="306000"/>
            <a:ext cx="538200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верской адрес 1862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33640" y="5516640"/>
            <a:ext cx="39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нковск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лексей Михайло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9" descr="D:\Методика\8 класс История 2016-2017\Урок 45 Общественное движение либералы и консерваторы\UNKOVSKII_Aleksei_Mikhailovich12.jpg"/>
          <p:cNvPicPr/>
          <p:nvPr/>
        </p:nvPicPr>
        <p:blipFill>
          <a:blip r:embed="rId1"/>
          <a:stretch/>
        </p:blipFill>
        <p:spPr>
          <a:xfrm>
            <a:off x="3786120" y="1109520"/>
            <a:ext cx="4870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D:\Методика\8 класс История 2016-2017\Урок 45 Общественное движение либералы и консерваторы\сергей андре муромцев.jpg"/>
          <p:cNvPicPr/>
          <p:nvPr/>
        </p:nvPicPr>
        <p:blipFill>
          <a:blip r:embed="rId1"/>
          <a:stretch/>
        </p:blipFill>
        <p:spPr>
          <a:xfrm>
            <a:off x="5292720" y="189000"/>
            <a:ext cx="3594240" cy="526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8000" y="765000"/>
            <a:ext cx="611820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0-е – начало 80-х гг. – период земского конституционал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64880" y="623736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етрункевич Иван Иль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386320" y="5157720"/>
            <a:ext cx="346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уромц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ергей Андрее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1" descr="D:\Методика\8 класс История 2016-2017\Урок 45 Общественное движение либералы и консерваторы\петрункевич.jpeg"/>
          <p:cNvPicPr/>
          <p:nvPr/>
        </p:nvPicPr>
        <p:blipFill>
          <a:blip r:embed="rId2"/>
          <a:stretch/>
        </p:blipFill>
        <p:spPr>
          <a:xfrm>
            <a:off x="971640" y="2421000"/>
            <a:ext cx="2819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2:50:07Z</dcterms:created>
  <dc:creator>The Виктория</dc:creator>
  <dc:description/>
  <dc:language>en-US</dc:language>
  <cp:lastModifiedBy>Admin</cp:lastModifiedBy>
  <dcterms:modified xsi:type="dcterms:W3CDTF">2017-08-26T15:22:30Z</dcterms:modified>
  <cp:revision>15</cp:revision>
  <dc:subject/>
  <dc:title>Общественное движение: либералы и консерваторы</dc:title>
</cp:coreProperties>
</file>