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26B5-49D6-4C4F-993D-E3AFD685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81A6-4532-434C-8E09-4CECD4FA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7DD1-91C1-4B85-A4B0-1C40F9FE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9A56-2AA4-42E4-8812-C717BA73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FB1A-EFEF-4200-89A4-546B210D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FFB4-63B8-4AB1-BE78-66A1B399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60FA-DC2E-4D9E-90F2-31840CA1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8CF5-3B89-46BF-BA36-BF7B5AA7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F9D2-F861-4AEE-B5F6-88FBCDC3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39F7-3FA4-4E23-BCD8-59115709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349A-2587-4F67-A14A-A5689426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546E-A842-4E91-874B-139B969A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B159-7F4E-46C4-B7FC-AFD267F0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9F6D-AAB3-4E75-879A-DC859548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FE52-AE9F-4768-A0A4-31E7523B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85F4-7069-4940-9CC0-DF4E54D8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1367-C44B-4FB5-8956-6C8D3DC4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983-BC47-4242-A731-8EADE9AB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C8AF-069A-478C-99E7-2AADD182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277-0B8D-4A74-BDE3-7DB7C1B7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AA0-8302-4C4F-BB49-9DED437E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721A-1D14-436D-952E-162C9FE1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A7CA-2839-45B2-AD2D-3AAF075C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BE5F-6F72-464F-9841-1AA0FA49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493B-05EF-4757-A849-BAF62574985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7902-01AA-4A30-B65F-5EF92E1640A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Общественное движение: либералы и консерватор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512320" y="6165720"/>
            <a:ext cx="2863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Домашнее задание: 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5" descr="катков"/>
          <p:cNvPicPr/>
          <p:nvPr/>
        </p:nvPicPr>
        <p:blipFill>
          <a:blip r:embed="rId1"/>
          <a:stretch/>
        </p:blipFill>
        <p:spPr>
          <a:xfrm>
            <a:off x="165240" y="2981160"/>
            <a:ext cx="2163600" cy="2194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кавелин"/>
          <p:cNvPicPr/>
          <p:nvPr/>
        </p:nvPicPr>
        <p:blipFill>
          <a:blip r:embed="rId2"/>
          <a:stretch/>
        </p:blipFill>
        <p:spPr>
          <a:xfrm>
            <a:off x="1889280" y="3486240"/>
            <a:ext cx="232236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нсерватизм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309480" y="5300640"/>
            <a:ext cx="54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Михаил Никифорович Катк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10" descr="D:\Методика\8 класс История 2016-2017\Урок 45 Общественное движение либералы и консерваторы\Katkov.jpg"/>
          <p:cNvPicPr/>
          <p:nvPr/>
        </p:nvPicPr>
        <p:blipFill>
          <a:blip r:embed="rId1"/>
          <a:stretch/>
        </p:blipFill>
        <p:spPr>
          <a:xfrm>
            <a:off x="4284720" y="981000"/>
            <a:ext cx="43527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обенности пореформенного либерализм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никновение первых програм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каз от требования конституционной монарх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имание к проблеме русской самобыт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чало размежевания с революционера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4" descr="Рисунок9"/>
          <p:cNvPicPr/>
          <p:nvPr/>
        </p:nvPicPr>
        <p:blipFill>
          <a:blip r:embed="rId1"/>
          <a:stretch/>
        </p:blipFill>
        <p:spPr>
          <a:xfrm>
            <a:off x="6697800" y="3789360"/>
            <a:ext cx="2162160" cy="2874960"/>
          </a:xfrm>
          <a:prstGeom prst="rect">
            <a:avLst/>
          </a:prstGeom>
          <a:ln w="57240">
            <a:solidFill>
              <a:srgbClr val="003366"/>
            </a:solidFill>
            <a:miter/>
          </a:ln>
        </p:spPr>
      </p:pic>
      <p:sp>
        <p:nvSpPr>
          <p:cNvPr id="133" name="Rectangle 5"/>
          <p:cNvSpPr/>
          <p:nvPr/>
        </p:nvSpPr>
        <p:spPr>
          <a:xfrm>
            <a:off x="4650480" y="623736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Б.Н.Чичери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D:\Методика\8 класс История 2016-2017\Урок 45 Общественное движение либералы и консерваторы\vladymyr-bortko.jpg"/>
          <p:cNvPicPr/>
          <p:nvPr/>
        </p:nvPicPr>
        <p:blipFill>
          <a:blip r:embed="rId1"/>
          <a:stretch/>
        </p:blipFill>
        <p:spPr>
          <a:xfrm>
            <a:off x="3708360" y="333360"/>
            <a:ext cx="5116680" cy="3098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D:\Методика\8 класс История 2016-2017\Урок 45 Общественное движение либералы и консерваторы\i (2).jpg"/>
          <p:cNvPicPr/>
          <p:nvPr/>
        </p:nvPicPr>
        <p:blipFill>
          <a:blip r:embed="rId2"/>
          <a:stretch/>
        </p:blipFill>
        <p:spPr>
          <a:xfrm>
            <a:off x="324000" y="2421000"/>
            <a:ext cx="3240000" cy="412416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6"/>
          <p:cNvSpPr/>
          <p:nvPr/>
        </p:nvSpPr>
        <p:spPr>
          <a:xfrm>
            <a:off x="6526440" y="3573360"/>
            <a:ext cx="224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Бортко В.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3649320" y="609300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остоевский Ф.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D:\Методика\8 класс История 2016-2017\Урок 45 Общественное движение либералы и консерваторы\i (3).jpg"/>
          <p:cNvPicPr/>
          <p:nvPr/>
        </p:nvPicPr>
        <p:blipFill>
          <a:blip r:embed="rId1"/>
          <a:stretch/>
        </p:blipFill>
        <p:spPr>
          <a:xfrm>
            <a:off x="5292720" y="404640"/>
            <a:ext cx="3605040" cy="2703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D:\Методика\8 класс История 2016-2017\Урок 45 Общественное движение либералы и консерваторы\e4fe2d677f796638d665084013112d97.jpg"/>
          <p:cNvPicPr/>
          <p:nvPr/>
        </p:nvPicPr>
        <p:blipFill>
          <a:blip r:embed="rId2"/>
          <a:stretch/>
        </p:blipFill>
        <p:spPr>
          <a:xfrm>
            <a:off x="971640" y="1125360"/>
            <a:ext cx="3770280" cy="2119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D:\Методика\8 класс История 2016-2017\Урок 45 Общественное движение либералы и консерваторы\37987.jpg"/>
          <p:cNvPicPr/>
          <p:nvPr/>
        </p:nvPicPr>
        <p:blipFill>
          <a:blip r:embed="rId3"/>
          <a:stretch/>
        </p:blipFill>
        <p:spPr>
          <a:xfrm>
            <a:off x="971640" y="3429000"/>
            <a:ext cx="464976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машнее задание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25, задание 3 (подготовьте сообщение об одном из общественных деятелей, упомянутых в параграфе): оформить в виде проекта на дис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9880" y="839880"/>
            <a:ext cx="797544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анализируйте предложенный событийный ряд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4360" y="2362320"/>
            <a:ext cx="820872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801 – 1825 гг.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авление Aлександра I, известного своими либеральными взгляда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825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ступление декабристов под либеральными лозунга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0-40-е годы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формление либерального движения в России (западники и славянофилы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60 – 70-е год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века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иберальные реформы Александра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9880" y="839880"/>
            <a:ext cx="797544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анализируйте предложенный событийный ряд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4360" y="2362320"/>
            <a:ext cx="820872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80-90-е год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века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никновение марксизма в Россию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898 –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ъезд РСДРП (на базе марксизма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ктябрь 1917 года –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ход к власти в России большевиков под марксистскими лозунга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8" descr="D:\Методика\8 класс История 2016-2017\Урок 45 Общественное движение либералы и консерваторы\кавелин.jpg"/>
          <p:cNvPicPr/>
          <p:nvPr/>
        </p:nvPicPr>
        <p:blipFill>
          <a:blip r:embed="rId1"/>
          <a:srcRect l="0" t="0" r="0" b="-2012"/>
          <a:stretch/>
        </p:blipFill>
        <p:spPr>
          <a:xfrm>
            <a:off x="4932360" y="1052640"/>
            <a:ext cx="4211640" cy="3619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897000" y="306000"/>
            <a:ext cx="481536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Письмо к издателю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794760" y="4653000"/>
            <a:ext cx="24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Б.Н.Чичери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6" descr="D:\Методика\8 класс История 2016-2017\Урок 45 Общественное движение либералы и консерваторы\gercen.jpg"/>
          <p:cNvPicPr/>
          <p:nvPr/>
        </p:nvPicPr>
        <p:blipFill>
          <a:blip r:embed="rId2"/>
          <a:stretch/>
        </p:blipFill>
        <p:spPr>
          <a:xfrm>
            <a:off x="755640" y="2421000"/>
            <a:ext cx="2894040" cy="37242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11"/>
          <p:cNvSpPr/>
          <p:nvPr/>
        </p:nvSpPr>
        <p:spPr>
          <a:xfrm>
            <a:off x="1119960" y="5950080"/>
            <a:ext cx="22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А.И.Герцен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7" descr="D:\Методика\8 класс История 2016-2017\Урок 45 Общественное движение либералы и консерваторы\чичерин.jpg"/>
          <p:cNvPicPr/>
          <p:nvPr/>
        </p:nvPicPr>
        <p:blipFill>
          <a:blip r:embed="rId3"/>
          <a:stretch/>
        </p:blipFill>
        <p:spPr>
          <a:xfrm>
            <a:off x="3276720" y="1052640"/>
            <a:ext cx="2630520" cy="36576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4"/>
          <p:cNvSpPr/>
          <p:nvPr/>
        </p:nvSpPr>
        <p:spPr>
          <a:xfrm>
            <a:off x="6458040" y="465300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. Д.Кавели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788000" y="5805000"/>
            <a:ext cx="4356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атков Михаил Никифорович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2" descr="D:\Методика\8 класс История 2016-2017\Урок 45 Общественное движение либералы и консерваторы\катков.png"/>
          <p:cNvPicPr/>
          <p:nvPr/>
        </p:nvPicPr>
        <p:blipFill>
          <a:blip r:embed="rId1"/>
          <a:stretch/>
        </p:blipFill>
        <p:spPr>
          <a:xfrm>
            <a:off x="5076720" y="765000"/>
            <a:ext cx="3579840" cy="4824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D:\Методика\8 класс История 2016-2017\Урок 45 Общественное движение либералы и консерваторы\i (1).jpg"/>
          <p:cNvPicPr/>
          <p:nvPr/>
        </p:nvPicPr>
        <p:blipFill>
          <a:blip r:embed="rId2"/>
          <a:stretch/>
        </p:blipFill>
        <p:spPr>
          <a:xfrm>
            <a:off x="-920880" y="609480"/>
            <a:ext cx="5359680" cy="58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55640" y="5805000"/>
            <a:ext cx="4356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шелев Александр Иванович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2" descr="D:\Методика\8 класс История 2016-2017\Урок 45 Общественное движение либералы и консерваторы\кошелев.jpg"/>
          <p:cNvPicPr/>
          <p:nvPr/>
        </p:nvPicPr>
        <p:blipFill>
          <a:blip r:embed="rId1"/>
          <a:stretch/>
        </p:blipFill>
        <p:spPr>
          <a:xfrm>
            <a:off x="900000" y="907920"/>
            <a:ext cx="3816360" cy="4557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D:\Методика\8 класс История 2016-2017\Урок 45 Общественное движение либералы и консерваторы\rb4.jpg"/>
          <p:cNvPicPr/>
          <p:nvPr/>
        </p:nvPicPr>
        <p:blipFill>
          <a:blip r:embed="rId2"/>
          <a:stretch/>
        </p:blipFill>
        <p:spPr>
          <a:xfrm>
            <a:off x="5010120" y="920880"/>
            <a:ext cx="3713040" cy="96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788000" y="5805000"/>
            <a:ext cx="4356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раевский Андрей Александрович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2" descr="D:\Методика\8 класс История 2016-2017\Урок 45 Общественное движение либералы и консерваторы\0.jpeg"/>
          <p:cNvPicPr/>
          <p:nvPr/>
        </p:nvPicPr>
        <p:blipFill>
          <a:blip r:embed="rId1"/>
          <a:stretch/>
        </p:blipFill>
        <p:spPr>
          <a:xfrm>
            <a:off x="-749160" y="609480"/>
            <a:ext cx="5113080" cy="5241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D:\Методика\8 класс История 2016-2017\Урок 45 Общественное движение либералы и консерваторы\краевский.jpeg"/>
          <p:cNvPicPr/>
          <p:nvPr/>
        </p:nvPicPr>
        <p:blipFill>
          <a:blip r:embed="rId2"/>
          <a:stretch/>
        </p:blipFill>
        <p:spPr>
          <a:xfrm>
            <a:off x="4932360" y="981000"/>
            <a:ext cx="3986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465360" y="306000"/>
            <a:ext cx="538200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верской адрес 1862г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133640" y="5516640"/>
            <a:ext cx="396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нковски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Алексей Михайлови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9" descr="D:\Методика\8 класс История 2016-2017\Урок 45 Общественное движение либералы и консерваторы\UNKOVSKII_Aleksei_Mikhailovich12.jpg"/>
          <p:cNvPicPr/>
          <p:nvPr/>
        </p:nvPicPr>
        <p:blipFill>
          <a:blip r:embed="rId1"/>
          <a:stretch/>
        </p:blipFill>
        <p:spPr>
          <a:xfrm>
            <a:off x="3786120" y="1109520"/>
            <a:ext cx="48704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2" descr="D:\Методика\8 класс История 2016-2017\Урок 45 Общественное движение либералы и консерваторы\сергей андре муромцев.jpg"/>
          <p:cNvPicPr/>
          <p:nvPr/>
        </p:nvPicPr>
        <p:blipFill>
          <a:blip r:embed="rId1"/>
          <a:stretch/>
        </p:blipFill>
        <p:spPr>
          <a:xfrm>
            <a:off x="5292720" y="189000"/>
            <a:ext cx="3594240" cy="5268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68000" y="765000"/>
            <a:ext cx="6118200" cy="100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70-е – начало 80-х гг. – период земского конституционализм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064880" y="6237360"/>
            <a:ext cx="46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етрункевич Иван Ильи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5386320" y="5157720"/>
            <a:ext cx="346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Муромце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ергей Андрееви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11" descr="D:\Методика\8 класс История 2016-2017\Урок 45 Общественное движение либералы и консерваторы\петрункевич.jpeg"/>
          <p:cNvPicPr/>
          <p:nvPr/>
        </p:nvPicPr>
        <p:blipFill>
          <a:blip r:embed="rId2"/>
          <a:stretch/>
        </p:blipFill>
        <p:spPr>
          <a:xfrm>
            <a:off x="971640" y="2421000"/>
            <a:ext cx="28191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2:50:07Z</dcterms:created>
  <dc:creator>The Виктория</dc:creator>
  <dc:description/>
  <dc:language>en-US</dc:language>
  <cp:lastModifiedBy>Admin</cp:lastModifiedBy>
  <dcterms:modified xsi:type="dcterms:W3CDTF">2017-08-26T15:22:30Z</dcterms:modified>
  <cp:revision>15</cp:revision>
  <dc:subject/>
  <dc:title>Общественное движение: либералы и консерваторы</dc:title>
</cp:coreProperties>
</file>