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83A-C357-4306-A7E5-257503E3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351-284A-4B2F-8617-D9590EBF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585-B5D3-406C-8640-A73A55CE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E04-2A1B-4EB6-89EC-F6352E3D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9B71-294E-45D2-88FD-44D521A7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8F3A-97A8-406D-BECA-7CCEBD6A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0198-33FB-4EB0-A5C1-8E2D974C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F29A-C87D-4FC6-A664-19530A94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C53-A0A4-44DC-805F-FD4D1D76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F160-07AF-4857-94E8-8196D89A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AC3C-C26E-47B5-853E-85982A9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AE8-A779-4C5C-A56C-ED60BB0A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2965-D33D-4EFF-BE2C-978CCBB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72C0-6F50-4C60-9D8D-2C466352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ED2F-56A8-4862-9424-411735A9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DB72-2427-4B11-88DC-B85E9FE8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1778-67AB-4C12-BE99-D48E79F6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3B22-A416-4886-81D0-4855CCAC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7A43-A92D-4B02-BB66-67411FB7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89FE-3B6E-401D-989E-2137B4CE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C1CB-B9AF-4C7D-A760-EC6C2115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3991-34E8-41F9-A937-DB650D0D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1F3-3D8B-4580-A87C-236CBEEC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22A3-6C41-4650-886A-BF668EBB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B3D3-9394-4B0C-ACDE-6E28CB86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8356-BCD4-4F6F-BF1E-F7682912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4FE8B-FA28-4353-A75A-DD43273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AB8F-DE5A-4A28-891C-A7AB72AF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6757-6B34-40F9-BE98-28ECFD71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30B6-0483-4810-B59C-EA612231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E97B-1A89-4532-B722-990A6B9D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E1027-14A9-4413-ADA0-474BC54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79FB6-8C83-4FFA-8C9E-61A9209D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182-01AA-483D-82B3-8A1B20A1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C48A-6AC7-4D4D-822B-BCF03500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422B-2361-4B65-90C7-837F4391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9E57A-ECEA-444E-8987-96ACA4C2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2EFB4-9E35-453F-B046-AD5350A8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CA1C-747C-4B7A-8E75-FBF0866D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FA05-0FC6-4928-8509-869FB122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974D5-6305-47BA-8B25-F2108AFD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5C6B8-3A98-45C8-8F6C-FC57C804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2C78F-3E9B-4AB9-9E42-EF1D9D36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C530-244D-4D62-9985-175097C6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04B-342E-443E-B4C5-F7605699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0324F-F140-4EF7-A9C9-2D23A279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2208D-17E2-46C9-8A0F-F99EA6EB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1627-0F83-4C4D-8342-7C958C8C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72DB5-3FF7-41C0-97AF-EBECE460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76710-5A0F-44F4-A80F-64C6600E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93FDA-2457-4917-9C75-CF433CB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9296-E43D-4B13-BEC1-A3C714D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B364-0AD8-43D2-96F7-6A7B54C7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573F2-3B71-406C-AEC7-8433B4AD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2EF8-610B-44F3-A02E-D0D1CF65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2DB-7398-494E-9BB0-A9F7BBC4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59630-6D43-4764-A404-7C754FE6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EF3C0-8884-4CA1-94CC-DE84B34D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01E75-0CDB-4392-B8DC-CBCA30FF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6D84-44C4-4F79-946E-4EA0B27F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B73B9-AC8E-40BA-B525-8C41CA45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00560-8C99-4013-A408-CDA0A387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0507D-253B-4960-90E1-B20D9641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FB050-DF27-44CB-8C74-58143C52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84F33-D927-48EA-AA48-51009A9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C0FB7-73C0-48D7-967D-7A73F123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AF1-99A7-4A04-93F5-64FDEAB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A0F58-C0FF-45E3-A7B8-1F958CFF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70079-36B5-4E51-B95F-E3603450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9FA5A-A91F-4E36-9AC4-2F1E9220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CC14-5375-425D-A2C6-E6F0BB1D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57616-0FF8-4ECA-AE31-41901366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61C1F-683B-46CF-9E25-239D0005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6F279-9AB8-4A4E-94C9-AD909E0E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2C48E-9F3C-4D3A-B174-260D0E21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A86B-105B-4C86-B994-0C17919A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5B1F4-57B9-4100-AF01-42901D31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040-A347-4EDD-9CD1-F97DECDF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68FFA-6436-48E5-BDF8-9B33BF9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FE6B-A096-4D76-A167-3AFA333B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BB737-438A-4FA7-B93F-B2A73EC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B7144-F689-4EDE-9FB8-A12BF206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1764A-A1C9-4EA7-A665-714C462A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595-AACD-4950-9D65-98F5D12D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9F7F-3217-4DBC-BDBA-C63611EFF1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039-269B-43FA-BA18-5F84659341B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A9F5-EBD7-473E-A8D2-D596CA5570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746A-F6ED-4A30-950E-5A0D7427C6A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DCCC-2BE6-4ADB-B2F4-DFEFC1CFEF2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8618-1154-474E-BAB0-2436A2E56F6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FACA-CCAD-4DCE-B7D8-C9E162585B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&#1060;&#1072;&#1081;&#1083;:Temple_de_Diane_(Barclay)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Zeus_d&apos;Olympie_(Barclay)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mbeau_de_Mausole_(Barclay)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СОКРОВИЩА ЗЕМЛИ ПОД ОХРАНОЙ ЧЕЛОВЕЧЕСТВА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cadc6"/>
                </a:solidFill>
                <a:latin typeface="Corbel"/>
              </a:rPr>
              <a:t>Объекты культурного наслед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атуя свободы в Нью-Йорк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бу-симб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емфис-древняя столица Егип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финский акропол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енец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овский кремл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иж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торический центр Санкт-Петербург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еликая китайская сте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9" descr="C:\Users\Михаил\Desktop\Новая папка\35713643_1227468349_kitay[1].jpg"/>
          <p:cNvPicPr/>
          <p:nvPr/>
        </p:nvPicPr>
        <p:blipFill>
          <a:blip r:embed="rId1"/>
          <a:stretch/>
        </p:blipFill>
        <p:spPr>
          <a:xfrm>
            <a:off x="857160" y="4786200"/>
            <a:ext cx="4038840" cy="785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Users\Михаил\Desktop\Новая папка\statueoflibertyts6[1].jpg"/>
          <p:cNvPicPr/>
          <p:nvPr/>
        </p:nvPicPr>
        <p:blipFill>
          <a:blip r:embed="rId2"/>
          <a:stretch/>
        </p:blipFill>
        <p:spPr>
          <a:xfrm>
            <a:off x="4143240" y="142920"/>
            <a:ext cx="939960" cy="1357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C:\Users\Михаил\Desktop\Новая папка\iCAD2N847.jpg"/>
          <p:cNvPicPr/>
          <p:nvPr/>
        </p:nvPicPr>
        <p:blipFill>
          <a:blip r:embed="rId3"/>
          <a:stretch/>
        </p:blipFill>
        <p:spPr>
          <a:xfrm>
            <a:off x="7286760" y="142920"/>
            <a:ext cx="1257120" cy="1285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C:\Users\Михаил\Desktop\Новая папка\iCAUE7J1U.jpg"/>
          <p:cNvPicPr/>
          <p:nvPr/>
        </p:nvPicPr>
        <p:blipFill>
          <a:blip r:embed="rId4"/>
          <a:stretch/>
        </p:blipFill>
        <p:spPr>
          <a:xfrm>
            <a:off x="5572080" y="71424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C:\Users\Михаил\Desktop\Новая папка\imgB[1].jpg"/>
          <p:cNvPicPr/>
          <p:nvPr/>
        </p:nvPicPr>
        <p:blipFill>
          <a:blip r:embed="rId5"/>
          <a:stretch/>
        </p:blipFill>
        <p:spPr>
          <a:xfrm>
            <a:off x="7143840" y="1571760"/>
            <a:ext cx="2000160" cy="1714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C:\Users\Михаил\Desktop\Новая папка\iCAYBBV6O.jpg"/>
          <p:cNvPicPr/>
          <p:nvPr/>
        </p:nvPicPr>
        <p:blipFill>
          <a:blip r:embed="rId6"/>
          <a:stretch/>
        </p:blipFill>
        <p:spPr>
          <a:xfrm>
            <a:off x="4000680" y="1857240"/>
            <a:ext cx="1409400" cy="1057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C:\Users\Михаил\Desktop\Новая папка\moscow_320x240_1235[1].jpg"/>
          <p:cNvPicPr/>
          <p:nvPr/>
        </p:nvPicPr>
        <p:blipFill>
          <a:blip r:embed="rId7"/>
          <a:stretch/>
        </p:blipFill>
        <p:spPr>
          <a:xfrm>
            <a:off x="7429680" y="3571920"/>
            <a:ext cx="1174680" cy="1928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C:\Users\Михаил\Desktop\Новая папка\35264309_1226698902_image010[1].jpg"/>
          <p:cNvPicPr/>
          <p:nvPr/>
        </p:nvPicPr>
        <p:blipFill>
          <a:blip r:embed="rId8"/>
          <a:stretch/>
        </p:blipFill>
        <p:spPr>
          <a:xfrm>
            <a:off x="5357880" y="421488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C:\Users\Михаил\Desktop\Новая папка\iCAEOOHJ8.jpg"/>
          <p:cNvPicPr/>
          <p:nvPr/>
        </p:nvPicPr>
        <p:blipFill>
          <a:blip r:embed="rId9"/>
          <a:stretch/>
        </p:blipFill>
        <p:spPr>
          <a:xfrm>
            <a:off x="5500800" y="2643120"/>
            <a:ext cx="164304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adc6"/>
                </a:solidFill>
                <a:latin typeface="Corbel"/>
              </a:rPr>
              <a:t>К бесценным сокровищам Земли относятся редкие и исчезающие виды растений и животных. Идея создания красной книги возникла в конце 50-х годов ХХ века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C:\Users\Михаил\Desktop\Новая папка\112740042185[1].jpg"/>
          <p:cNvPicPr/>
          <p:nvPr/>
        </p:nvPicPr>
        <p:blipFill>
          <a:blip r:embed="rId1"/>
          <a:stretch/>
        </p:blipFill>
        <p:spPr>
          <a:xfrm>
            <a:off x="2808360" y="1819440"/>
            <a:ext cx="47530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adc6"/>
                </a:solidFill>
                <a:latin typeface="Corbel"/>
              </a:rPr>
              <a:t>Учёные посчитали крайне важным привлечь внимание международного сообщества и руководителей отдельных государств к бедственному состоянию природы. Впервые Красная книга была издана в 1966 году, она включала в себя описание 200 видов птиц, 100 видов млекопитающих и</a:t>
            </a:r>
            <a:br>
              <a:rPr sz="2000"/>
            </a:br>
            <a:r>
              <a:rPr b="0" lang="ru-RU" sz="2000" spc="-1" strike="noStrike">
                <a:solidFill>
                  <a:srgbClr val="5cadc6"/>
                </a:solidFill>
                <a:latin typeface="Corbel"/>
              </a:rPr>
              <a:t> 25 тыс. видов растений. Основная цель книги - выявление, учёт тех видов организмов, которые могут исчезнуть, для сохранения которых нужны специальные меры защиты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3" descr="C:\Users\Михаил\Desktop\Новая папка\0_1bac0_540001e8_XL[1].jpg"/>
          <p:cNvPicPr/>
          <p:nvPr/>
        </p:nvPicPr>
        <p:blipFill>
          <a:blip r:embed="rId1"/>
          <a:stretch/>
        </p:blipFill>
        <p:spPr>
          <a:xfrm>
            <a:off x="3754440" y="2954160"/>
            <a:ext cx="2860560" cy="1787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Users\Михаил\Desktop\Новая папка\19535e91f7d5b4abfa75044f0f7a978e_full[1].jpg"/>
          <p:cNvPicPr/>
          <p:nvPr/>
        </p:nvPicPr>
        <p:blipFill>
          <a:blip r:embed="rId2"/>
          <a:stretch/>
        </p:blipFill>
        <p:spPr>
          <a:xfrm>
            <a:off x="785880" y="3857760"/>
            <a:ext cx="2357280" cy="2500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C:\Users\Михаил\Desktop\Новая папка\1280859261_panda1[1].jpg"/>
          <p:cNvPicPr/>
          <p:nvPr/>
        </p:nvPicPr>
        <p:blipFill>
          <a:blip r:embed="rId3"/>
          <a:stretch/>
        </p:blipFill>
        <p:spPr>
          <a:xfrm>
            <a:off x="6929280" y="3571920"/>
            <a:ext cx="207180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adc6"/>
                </a:solidFill>
                <a:latin typeface="Corbel"/>
              </a:rPr>
              <a:t>Мы ещё можем сохранить редкие виды растений и животных. Если каждый из нас поймёт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57160" y="2071440"/>
            <a:ext cx="75009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 Что небо без птиц – не небо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 море без рыб – не мор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земля без зверей – не земля!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cadc6"/>
                </a:solidFill>
                <a:latin typeface="Corbel"/>
              </a:rPr>
              <a:t>В древности необычные творения рук человека, поражавшие современников своей красотой, размерами, техникой исполнения, называли «Семь чудес света». К большому сожалению, мы не сможем их увидеть во всём их великолепии, они были разрушен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adc6"/>
                </a:solidFill>
                <a:latin typeface="Corbel"/>
              </a:rPr>
              <a:t>И только одно чудо – египетские пирамиды – сохранились до нашего времен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Picture 2" descr="C:\Users\Михаил\Desktop\Новая папка\World_Egypt_Egyptian_pyramids_015492_[1]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adc6"/>
                </a:solidFill>
                <a:latin typeface="Corbel"/>
              </a:rPr>
              <a:t>«Висячие сады» Семирамиды, храм Артемиды Эфесско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5" descr="http://upload.wikimedia.org/wikipedia/commons/a/ae/Hanging_Gardens_of_Babylon.jpg"/>
          <p:cNvPicPr/>
          <p:nvPr/>
        </p:nvPicPr>
        <p:blipFill>
          <a:blip r:embed="rId1"/>
          <a:stretch/>
        </p:blipFill>
        <p:spPr>
          <a:xfrm>
            <a:off x="1434960" y="264636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325" name="Содержимое 7" descr="http://upload.wikimedia.org/wikipedia/commons/thumb/3/3b/Temple_de_Diane_%28Barclay%29.jpg/120px-Temple_de_Diane_%28Barclay%2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85724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adc6"/>
                </a:solidFill>
                <a:latin typeface="Corbel"/>
              </a:rPr>
              <a:t>Зевс Олимпийский, Колосс Родосски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4" descr="http://upload.wikimedia.org/wikipedia/commons/thumb/d/d6/Zeus_d%27Olympie_%28Barclay%29.jpg/80px-Zeus_d%27Olympie_%28Barclay%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857160"/>
            <a:ext cx="4214880" cy="4500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Users\Михаил\Desktop\Новая папка\colstat[1].jpg"/>
          <p:cNvPicPr/>
          <p:nvPr/>
        </p:nvPicPr>
        <p:blipFill>
          <a:blip r:embed="rId3"/>
          <a:stretch/>
        </p:blipFill>
        <p:spPr>
          <a:xfrm>
            <a:off x="5391000" y="21416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adc6"/>
                </a:solidFill>
                <a:latin typeface="Corbel"/>
              </a:rPr>
              <a:t>Мавзолей в Галикарнасе, Фаросский маяк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Содержимое 5" descr="http://upload.wikimedia.org/wikipedia/commons/thumb/6/61/Tombeau_de_Mausole_%28Barclay%29.jpg/80px-Tombeau_de_Mausole_%28Barclay%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07172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C:\Users\Михаил\Desktop\Новая папка\2a783959ba22[1].jpg"/>
          <p:cNvPicPr/>
          <p:nvPr/>
        </p:nvPicPr>
        <p:blipFill>
          <a:blip r:embed="rId3"/>
          <a:stretch/>
        </p:blipFill>
        <p:spPr>
          <a:xfrm>
            <a:off x="5619600" y="1855800"/>
            <a:ext cx="297180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adc6"/>
                </a:solidFill>
                <a:latin typeface="Corbel"/>
              </a:rPr>
              <a:t>Чтобы мир не лишался в дальнейшем бесценных сокровищ, возникла идея объявить выдающиеся достопримечательности природы и культуры Всемирным наследием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2" descr="C:\Users\Михаил\Desktop\Новая папка\page_114[1].jpg"/>
          <p:cNvPicPr/>
          <p:nvPr/>
        </p:nvPicPr>
        <p:blipFill>
          <a:blip r:embed="rId1"/>
          <a:stretch/>
        </p:blipFill>
        <p:spPr>
          <a:xfrm>
            <a:off x="2644920" y="194328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adc6"/>
                </a:solidFill>
                <a:latin typeface="Corbel"/>
              </a:rPr>
              <a:t>Всемирное наследие включает в себя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14200" y="1642680"/>
            <a:ext cx="42148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Всемир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родное наследие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екты приро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142880" y="1571400"/>
            <a:ext cx="45435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Всемирное  культурное наследие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екты творения человеческих ру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5cadc6"/>
                </a:solidFill>
                <a:latin typeface="Corbel"/>
              </a:rPr>
              <a:t>Объекты природного наследия</a:t>
            </a:r>
            <a:endParaRPr b="0" lang="en-US" sz="4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5400" rIns="95400" tIns="52200" bIns="522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5400" rIns="95400" tIns="52200" bIns="522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2" descr="C:\Users\Михаил\Desktop\Новая папка\large_35282[1].jpg"/>
          <p:cNvPicPr/>
          <p:nvPr/>
        </p:nvPicPr>
        <p:blipFill>
          <a:blip r:embed="rId1"/>
          <a:stretch/>
        </p:blipFill>
        <p:spPr>
          <a:xfrm>
            <a:off x="1214280" y="3571920"/>
            <a:ext cx="2324160" cy="114300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  <p:sp>
        <p:nvSpPr>
          <p:cNvPr id="341" name=""/>
          <p:cNvSpPr txBox="1"/>
          <p:nvPr/>
        </p:nvSpPr>
        <p:spPr>
          <a:xfrm>
            <a:off x="4644720" y="1285920"/>
            <a:ext cx="4041720" cy="55720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ольшой каньон в Северной Америк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допад Игуасу в южной Америк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ольшой Барьерный риф у берегов Австрал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улканы Камчат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зеро Байка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лтай – Золотые горы в Евраз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допад Виктория в Африк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4" descr="C:\Users\Михаил\Desktop\Новая папка\i[1].jpg"/>
          <p:cNvPicPr/>
          <p:nvPr/>
        </p:nvPicPr>
        <p:blipFill>
          <a:blip r:embed="rId2"/>
          <a:stretch/>
        </p:blipFill>
        <p:spPr>
          <a:xfrm>
            <a:off x="2000160" y="1214280"/>
            <a:ext cx="2571840" cy="924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C:\Users\Михаил\Desktop\Новая папка\iCAIYGR3X.jpg"/>
          <p:cNvPicPr/>
          <p:nvPr/>
        </p:nvPicPr>
        <p:blipFill>
          <a:blip r:embed="rId3"/>
          <a:stretch/>
        </p:blipFill>
        <p:spPr>
          <a:xfrm>
            <a:off x="1143000" y="4786200"/>
            <a:ext cx="2571840" cy="857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C:\Users\Михаил\Desktop\Новая папка\x_29b062f9[1].jpg"/>
          <p:cNvPicPr/>
          <p:nvPr/>
        </p:nvPicPr>
        <p:blipFill>
          <a:blip r:embed="rId4"/>
          <a:stretch/>
        </p:blipFill>
        <p:spPr>
          <a:xfrm>
            <a:off x="3000240" y="3000240"/>
            <a:ext cx="1643040" cy="857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Users\Михаил\Desktop\Новая папка\iCAKQM4BS.jpg"/>
          <p:cNvPicPr/>
          <p:nvPr/>
        </p:nvPicPr>
        <p:blipFill>
          <a:blip r:embed="rId5"/>
          <a:stretch/>
        </p:blipFill>
        <p:spPr>
          <a:xfrm>
            <a:off x="7858080" y="3071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Users\Михаил\Desktop\Новая папка\i0241[1].jpg"/>
          <p:cNvPicPr/>
          <p:nvPr/>
        </p:nvPicPr>
        <p:blipFill>
          <a:blip r:embed="rId6"/>
          <a:stretch/>
        </p:blipFill>
        <p:spPr>
          <a:xfrm>
            <a:off x="1428840" y="2214720"/>
            <a:ext cx="3143160" cy="714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C:\Users\Михаил\Desktop\Новая папка\altai[1].jpg"/>
          <p:cNvPicPr/>
          <p:nvPr/>
        </p:nvPicPr>
        <p:blipFill>
          <a:blip r:embed="rId7"/>
          <a:stretch/>
        </p:blipFill>
        <p:spPr>
          <a:xfrm>
            <a:off x="6715080" y="4357800"/>
            <a:ext cx="1857600" cy="642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3:08:29Z</dcterms:created>
  <dc:creator>Михаил</dc:creator>
  <dc:description/>
  <dc:language>en-US</dc:language>
  <cp:lastModifiedBy>зал</cp:lastModifiedBy>
  <dcterms:modified xsi:type="dcterms:W3CDTF">2017-08-26T05:19:05Z</dcterms:modified>
  <cp:revision>55</cp:revision>
  <dc:subject/>
  <dc:title>«СОКРОВИЩА ЗЕМЛИ ПОД ОХРАНОЙ ЧЕЛОВЕЧЕСТВА»</dc:title>
</cp:coreProperties>
</file>